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25C5-B2D7-46E8-BB3D-6EC57FB73980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eb 2.0 Schlagwort für interaktives und kollaboratives Arbeiten im Inter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Twitter – kurze Echtzeitinformati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07CE-3E8A-4498-AD3F-58DF59808B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61F-D5AF-40AA-B0B6-19B768DD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01E-5072-4EFC-B535-2E13FC35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A945ED-A3DA-49B4-9495-49150A16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96907D-CC00-48ED-AAB7-47B31DB0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686D39-5F3D-4FDD-B814-D3325E8C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C17B6E-81EC-4CA8-8E5D-BD867E9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59FA7E-AAED-4AB3-AABD-7F61ECFE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E4298F-F37E-4FC1-ADEB-25569E2E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6CD319-07B9-4F93-842D-3FFEB99D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674F36-0E40-4B8F-8921-84B02512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B12FE4-60A8-4A5D-BE28-10325DCD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84653-6155-4799-9A53-7F6A58DF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E5A-CB49-4797-ACD7-9D2A6B65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819B3-E31E-46F0-B932-0D7D7E3C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164CC-49D8-4411-8046-622C19F0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B0B75-578A-40AD-A523-A64C3BEF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99A07-E9E9-4B43-BD33-97A5BC31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94621-5ABF-4AA9-92CB-D6CEF39B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CB52C-6FC1-4DBA-84F8-08EB2B83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55801-0DDA-4EB5-B2BC-B148C57C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28664-5B18-4600-8A9A-748C73AF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994D3-8D71-4CF7-AEE3-BCD31340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F3F0C-1B22-42EE-8014-3A6E92C2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B43-043F-49CA-9304-2A98BB0A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DD743-B6A5-4B4E-AFFB-AD40662F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022374-19F2-46B7-9E9E-6625AAA8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E299B4-7F0B-4A21-A997-EC2AC442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827DD5-A85B-44B4-ADEA-4D41E130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AA00D4-94F3-43F7-ABA5-A11EB804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746B34-B2A5-4078-8B24-2CFBFFE5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AEC9A6-3C51-47A4-8CE8-BCCE713B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AF9E17-3E70-4381-9D79-B729789D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A44B6B-81A0-43C9-8935-82272BE8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A41B5C-B844-4FC2-B097-7659CBAB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938F-232D-49B5-B1FE-3F5F4C8B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D37339-8BA5-41D8-AD50-4999F676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FC59BB-9DB4-4C4E-AF41-E85D5730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1B09E2-888B-465E-B5D6-245964F7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181F3-8217-4D5D-8AD1-C4405DCA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24579-7605-4144-89A2-145B83CA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0F340-7A45-449F-B79F-DDE25BDE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122CF-DD16-4CC8-802D-A7202844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9BB3E-E1CF-4F63-9EC4-F1497134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453A0-8F5A-4AC2-9CA1-45B9FB4A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734F6-0E69-4F82-98E9-BEF45792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4DBA-8C8D-4956-8809-18CA0981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39188-CE36-4F7B-A956-0E4F21E8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B5F3B-03C6-4AD4-9C4A-EA2EE467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19363-1B18-416A-9314-8036BF94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990B3-1E9B-4242-85BE-A0C0CD05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823C1-5BB3-4302-9829-753C7FB4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CBD9EE-9F57-4181-923A-9FBB9DD8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523D04-AD40-4845-97BA-21013CF8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BC6C6A-286D-4BCD-82D6-02FBFCDE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B64183-D230-4FA2-9C76-2A13322B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8D3465-49FA-49EC-8D6C-639B9A8F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F784-A484-4E47-9BB2-A3E3F3E3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2DE817-A320-4FCA-B6DD-855DD1FB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561ED6-D005-44E7-9AA3-D49214D6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735FF1-0B1C-465A-A84E-435FE6E4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4EE456-4767-40FF-9B39-82759599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179556-6E2C-4241-A32D-8801D12B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3B9890-FAEB-4E90-8E62-3510227D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8508DA-8038-4434-B306-6B0C8EF1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0D09A6-190B-4A25-BD7F-F86F55A7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55A71F-E30C-4159-8FDB-3BF397DF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2F9B51-D010-4853-8B50-10391013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965D-0917-486F-A094-9E29A852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29D345-C002-44C7-B846-34C3831E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EB6829-A581-4514-9E6E-392AEC18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0B72D6-D231-4956-BB17-7099BCD2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858754-C36B-4719-A6E6-9E19EF34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488CCD-A4EC-49E9-896A-B8DF0700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AED078-126A-431F-B1B5-0E3C8D4A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9727C4-9BCB-4C0D-B5A2-679C38AA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431372-89B1-478E-B598-17BD8A89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D85659-6F3C-428A-B9E2-D21B0FA6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358B10-A3B0-4C44-A63C-95DE0279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D579-9BE8-4E33-8F08-43E15BBA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B89BC7-2B52-4151-A15C-31F03256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9AEFFE-EC60-4499-BD65-AA9F8422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A67A29-122F-4883-AE4C-99599929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775122-AA3B-4ACA-B22C-751F8EF1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B38FE1-6E81-4EF0-A5B7-8ABC8B69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E0494C-66AC-4B01-945A-1A6DFA9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7E74C2-4B2A-4A66-A078-FFFAFAA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704BA2-64D6-4D85-911F-44D46E27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6568ED-70B4-4566-9F8A-2D1D67AB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A677CA-2056-4747-B7A4-6C82871E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3D65-1D98-4302-BCA9-9ED40E3D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38F55F-D4A2-4184-B4C9-0FB0D4F8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CF35C-4FA4-40A2-AFF4-2D2C5334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703F81-56C3-4AC0-A022-EE7CC410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7250A-0E88-47DB-9011-55FAD629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0E8DB5-903B-433A-A9F3-62452D19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3C159-AAEC-4B4D-8FF8-1F194B24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73CEF-F222-4337-8801-9BB6122A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17990-8CDD-4527-9412-18C915C1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E3EEED-6912-4719-9244-E136734B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15E80B-2A5B-41C3-859F-38531F60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21F3-2DC0-4BA6-90B8-BD1D5344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096FA-FAB4-4489-A0D2-D7F4F60D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F14B8-AE4B-4EC8-AAE9-F36B1C3F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4E6543-F496-4FAF-8EDC-78E72D7E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057B97-1EC4-499F-921C-7684F59D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114008-A4D7-4787-B1C8-32E71714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02E590-4C5A-40DD-8C99-DD331730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ABF3AE-AE9A-4E1F-8C3A-E92E59AA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72644E-5190-4E21-B849-6C86CD1F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AD8789-3FFA-466C-8999-146C1519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8DE5D4-FD53-4F8E-AEA4-5F02BD26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E96-A5E6-4332-ACE6-ABC00754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BCE0-4033-40E0-BE77-1AF79743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E8C060-2610-4837-8291-22863068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EEC3FC-2429-483D-BAFC-C2E4E4E6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9D7CA5-AE8C-4214-B4F2-7D98A329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6631B4-F26D-40EC-93FA-8E743FAB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FA7FFE-0A71-45A7-B1DA-35316484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674B8-CEC8-4C8F-8815-1F92D9A9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C8265-690B-46C0-A4F2-07CCB917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70657-609A-4C16-8615-61394F95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9E1EB9-CAB4-4AB2-8F55-C4C6C6C4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BEC1E-6B6A-45AC-9530-08063144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5CEE-0F38-4C64-A7C2-3BF1FDB0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E33360-0891-4C2D-9F7D-F2D82F3A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1973B8-B701-43F8-ACA4-896BA559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4F9258-C4E7-4814-B6B3-5868E64D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A9C0C1-434C-4F8F-9297-CF83DE6E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854EA4-6070-4CD1-9333-0DDBF2DB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E368C-ADBF-4D4F-B60B-D8C6405F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0BA971-6172-4091-A065-33A8830D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656347-7CB3-44E5-96A5-B0DB3ECA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688356D-7515-43EE-BFD2-0A674354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4D8522-91BB-490C-90D0-7B4618C9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7997-C6DC-4B4B-877C-2EA34175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35D2FB-E744-4BD8-9844-1A7F9148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0F4410B-6910-40D5-9CCE-54BD28DA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F13D53-53E7-4245-A6B5-F31DC4A0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16574BA-B723-4781-8972-215C4847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FB08D2-2C8D-431C-A3D2-94B4CA6B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BC2B825-14AD-4D6F-995C-E386EA70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FF3AA4-73D3-4D9E-9EE7-4CB35B63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1DF112-F794-44EA-9149-9940DDC2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571FA1-12E3-4EA9-BDFF-B92255DF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DAA086E-F4AB-4649-ABA8-E9AB327D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D4DB-E01B-402B-B860-19634452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42D5D91-95A9-49F3-A9E2-CE0DDCBA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C3C21B5-B686-4403-94BD-4BC47D43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928988E-528B-4FCB-B10E-70F61CD8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AACBF2E-706D-4059-8A7B-47045945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3995B93-0909-4811-986E-EDFC7F5D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E4AE023-EB89-477D-A672-4E86D26B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43C76A-B6D4-4C32-B7FE-545CB409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50F52C-541F-4244-BC23-AB7F888B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41B720A-DD3D-45A5-8E56-2F7D3D2A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B91852B-8877-421A-8D6E-39471315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FA9B-0A83-4817-9FF1-C7549816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88228D1-CA30-4672-9933-344A7BE7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82456F3-8F3C-4EF8-96E7-27A3CDA2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DCC267F-5D29-49C4-B4C3-DD3D4A20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7B92320-2E4E-489A-884D-F03309D9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C5BB01-3108-4A42-A33F-55B1E825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154F39-569B-4566-A6A5-F4639E54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2F1DA0-AFFD-4053-ACA5-9EAE1338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DBE79F0-3458-44DB-85E4-58C7536F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176F469-D140-40B1-8FC8-E60D3C2E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9198ECB-846F-4A9A-8318-2C661B25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7D210-A841-4F3A-A507-C213CA05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5D5176F-9618-44B1-A184-1D93650B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29293B6-164B-4962-9B45-2E6850D0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3443FDC-8A3C-4110-AE7B-99472E34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70C7-D4A1-4055-A11D-11FFB494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54D0D-7C2B-4817-8770-0BAF80B9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C494-668B-460E-8FA6-988FB003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35765-7BF9-49B4-989E-E2FD1BC4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7C5-7878-4B79-B4C5-6EC49348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3DBF-6257-4E38-AC1F-C35582B3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3F571-4F21-463D-A975-C0D2699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B24A-EACE-4143-8515-CEA16718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1919-1E5B-40F9-8DE5-1056B2E6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FD37-3135-4CD5-8160-43C76992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7FEE-DDA2-4C44-9E8B-B369D1B7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077CC-F936-4923-A178-48C73F8B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93A2-3627-4C14-B438-4DC56DAF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71AD5-145B-401E-8765-99DBE39C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C376E-7B02-4025-AF9F-4E59172E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CD4-FB89-42FB-8BA2-2AC4D730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6CC0A-C870-41EE-98CD-30F9F486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E7A20-7DB2-48B8-B1ED-4DDFB673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F08AA-579E-4AFB-B465-A709690A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5FBC-F5BE-4B01-BBDE-8D0B51D8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B70C-6DF9-4B32-B269-D1B5EC00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A229C-2BDC-48C6-B628-BCA01B4D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A36EF-3587-484D-919F-E1209FB9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B397E-504F-4C68-8C3A-0D780075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18171-F243-4447-8881-C3BF5335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914EA-D5F9-43EB-A48E-CD47FA25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AC9-55A3-46E3-B03A-D62EE381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70CB3-8367-42AC-82A6-857128B3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C8175-F9F8-40B5-8A7F-ED0D045D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99EB2-5EFD-47B0-80F9-E4E62626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2B36C-CFE1-41C6-8BBC-1EC975B4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6E088-039F-4BAF-9E83-C43AF82C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C26BD-14FA-4EF1-98BC-225CA557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5E466-6B26-4E3E-99D5-56893C14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5920B-B408-41F8-AD97-51B41BAD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D618D-5467-439A-A16A-834B23A4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7C853-05F8-4BCE-8EFF-2CC973BF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683-02C9-47BE-9B67-01E02F3D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A250B-9F3F-4682-9DEF-C9201F1C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0D0B8-34BC-498B-9086-B7CBBA1D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21FDD-AFD1-4C9B-9C0D-8F14A840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2D924-6629-4A3A-8C69-A3C2247F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EC10A-2364-49E2-90EF-B828B5E0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9998C-95C5-407D-873F-C6C325FF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CC6C7-0356-44B4-8929-0F225BF9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451EB-21A0-4715-A806-B98F7389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B6E2E-02B8-4959-BDE1-9F887A91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A8569-6D3E-4849-ADC1-4A722D1E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B1D-3B64-4FBC-8D0C-66D75E23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79D45-C06F-4F23-AD73-D75BF702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4B406-F2A2-4A34-8C12-67FF230D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20BF6-74F2-4FF9-9019-0C902393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8BA92B-3F06-4726-970B-9853FE62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670559-27C8-47C0-A69B-28F74341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223FB-E11C-459E-8437-D8AC1C8F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727EB-041B-48F3-A282-9B1C5496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22848-1D9D-446C-AB30-A76FD66C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32011-D74A-47B4-892A-56BBEC58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1EBB4-6308-4109-8250-DDADCAFF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EB8-078A-45DF-9304-D5F26D97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8E6917-5063-4E2B-A1B8-89BE1932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322587-92DB-4E8E-8725-87547AB2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6EAFFC-4BAF-45E0-A73A-F5804F5A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889B5-ED34-4DA9-8025-A4BF0388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D34D2-7962-4065-8518-B76949C5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498B99-1BF7-486A-BCA3-C8739E7F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3B2FA5-54E6-4915-8B83-83723BDB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33D6CE-BEE3-4907-9BE7-A48B6FC6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1D846C-734F-4AD6-82BC-060BD25B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E162C7-2591-434A-A3ED-1279DBA2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66C-28F5-4D5D-87D6-86E8319B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B366D8-FC78-44D7-8364-8999874B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D131E8-1995-419B-832C-178FD4FC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48B671-DCFD-4188-8E64-104CC0EC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7C0D2A-F1A7-49AA-93C1-98EC98BC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C1D115-ED5E-4CDA-B6D3-1C966986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7252F7-3AD6-4D3F-96CA-893379E4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B20FF9-719A-4BB3-A7E6-E397EADF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FF13A-9E02-4E5E-A73E-26995B06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17CBFA-43B8-4A4F-8040-4B3F646E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74F261-CD0B-4420-9E36-6E657026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CA77-B87E-4DA0-BF6D-C8A7DEB1A363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htec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9adc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htec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0cd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htec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0cd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htec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8e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Gerade Verbindung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9adc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Gerade Verbindung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8e8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Gerade Verbindung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Gerade Verbindung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9adc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Gerade Verbindung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Gerade Verbindung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ec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9adc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FE95-26DE-4375-9694-B1B7B892E23A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5B05-65F6-40F2-873B-53600EEE67C3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htec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9adc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htec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0cd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htec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0cd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htec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8e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Gerade Verbindung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9adc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Gerade Verbindung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8e8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Gerade Verbindung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Gerade Verbindung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9adc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Gerade Verbindung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ec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9adc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Gerade Verbindung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DCD7-02F3-4A9E-B57F-537804C08D4A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58AA-146F-43DF-B89F-98368F86323F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Gerade Verbindung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Gerade Verbindung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Gerade Verbindung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Gerade Verbindung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htec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Gerade Verbindung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795C-D447-48C3-A229-322097AFAA30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Gerade Verbindung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Gerade Verbindung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htec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Gerade Verbindung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Gerade Verbindung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Gerade Verbindung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4D0D-B003-4E78-A7C2-CF5088BD7609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htec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9adc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htec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0cd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htec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0cd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htec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8e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Gerade Verbindung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9adc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Gerade Verbindung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8e8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Gerade Verbindung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Gerade Verbindung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9adc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Gerade Verbindung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Gerade Verbindung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htec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9adc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46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48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BA6C-7111-4D2D-8138-7E8435B124E1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1661-64A8-41AA-81C1-DA4F21C7C4C7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htec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9adc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htec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0cd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htec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0cd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htec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8e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Gerade Verbindung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9adc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Gerade Verbindung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8e8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Gerade Verbindung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Gerade Verbindung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9adc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Gerade Verbindung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htec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9adc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Gerade Verbindung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2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3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4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C9D8-AD0D-4B60-93F8-177111A2AA8F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ADC7-FFF1-43DF-BAE2-4F4112ED2E1D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B32C-08F7-4042-8999-6BC1ADE2761F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Gerade Verbindung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Gerade Verbindung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Gerade Verbindung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Gerade Verbindung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htec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Gerade Verbindung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5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sldNum" idx="5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7CE0-DB7C-4812-8D72-EE6EEB1FD4CE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ftr" idx="6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Gerade Verbindung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Gerade Verbindung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htec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Gerade Verbindung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Gerade Verbindung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Gerade Verbindung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6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sldNum" idx="6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B669-F350-417C-83F1-4A810299EB9D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ftr" idx="6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015D-812A-4B57-9DDA-BC8519A6E8CB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htec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9adc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htec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0cd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htec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0cd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ec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8e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Gerade Verbindung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9adc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Gerade Verbindung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8e8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Gerade Verbindung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Gerade Verbindung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9adc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Gerade Verbindung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Gerade Verbindung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ec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9adc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2C52-2DE0-4027-B9DA-77EF288E9F83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6AB2-F537-469E-88C9-19749D21528A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htec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9adc8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htec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0cd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htec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0cd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c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8e8e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9adc8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erade Verbindung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8e8ef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Gerade Verbindung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Gerade Verbindung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9adc8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9adc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Gerade Verbindung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4D8F-7D49-47AA-A7FC-E784ABDA8372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F14D-9F9C-429F-B534-3561DF52EB4E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Gerade Verbindung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Gerade Verbindung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Gerade Verbindung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Gerade Verbindung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htec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Gerade Verbindung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594F-5D3A-4A3C-B71C-67C14E1F1D75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Gerade Verbindung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83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Gerade Verbindung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htec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9ad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Gerade Verbindung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Gerade Verbindung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9a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Gerade Verbindung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830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e298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9adc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ab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5ABC-6CFC-44AF-9FFA-09DFD9A44909}" type="slidenum">
              <a:rPr b="1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portal.tirol.gv.at/moodle/course/view.php?id=2158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s://portal.tirol.gv.at/moodle/course/view.php?id=1014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s://portal.tirol.gv.at/moodle/course/view.php?id=1157" TargetMode="External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portal.tirol.gv.at/moodle/course/view.php?id=2207&amp;edit=0&amp;sesskey=7XRKas7KB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2285640" y="4653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666666"/>
                </a:solidFill>
                <a:latin typeface="Calibri"/>
              </a:rPr>
              <a:t>Lernplattform Moodle für SchulleiterInn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1" name="Textfeld 3"/>
          <p:cNvSpPr/>
          <p:nvPr/>
        </p:nvSpPr>
        <p:spPr>
          <a:xfrm>
            <a:off x="4987800" y="537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alibri"/>
              </a:rPr>
              <a:t>Mag. Dietmar Auckenthaler</a:t>
            </a:r>
            <a:br>
              <a:rPr sz="1800"/>
            </a:br>
            <a:r>
              <a:rPr b="0" lang="de-AT" sz="1800" spc="-1" strike="noStrike">
                <a:solidFill>
                  <a:srgbClr val="7f7f7f"/>
                </a:solidFill>
                <a:latin typeface="Calibri"/>
              </a:rPr>
              <a:t>Andrea Prock, 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Grafik 4" descr="logo_tirol.gif"/>
          <p:cNvPicPr/>
          <p:nvPr/>
        </p:nvPicPr>
        <p:blipFill>
          <a:blip r:embed="rId1"/>
          <a:stretch/>
        </p:blipFill>
        <p:spPr>
          <a:xfrm>
            <a:off x="5786280" y="571680"/>
            <a:ext cx="2703600" cy="1844640"/>
          </a:xfrm>
          <a:prstGeom prst="rect">
            <a:avLst/>
          </a:prstGeom>
          <a:ln w="0">
            <a:noFill/>
          </a:ln>
        </p:spPr>
      </p:pic>
      <p:pic>
        <p:nvPicPr>
          <p:cNvPr id="1063" name="Bild 6" descr=""/>
          <p:cNvPicPr/>
          <p:nvPr/>
        </p:nvPicPr>
        <p:blipFill>
          <a:blip r:embed="rId2"/>
          <a:stretch/>
        </p:blipFill>
        <p:spPr>
          <a:xfrm>
            <a:off x="2340000" y="2492280"/>
            <a:ext cx="6345360" cy="2016360"/>
          </a:xfrm>
          <a:prstGeom prst="rect">
            <a:avLst/>
          </a:prstGeom>
          <a:ln w="0">
            <a:noFill/>
          </a:ln>
        </p:spPr>
      </p:pic>
      <p:sp>
        <p:nvSpPr>
          <p:cNvPr id="1064" name="Textfeld 1"/>
          <p:cNvSpPr/>
          <p:nvPr/>
        </p:nvSpPr>
        <p:spPr>
          <a:xfrm>
            <a:off x="7308720" y="63500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alibri"/>
              </a:rPr>
              <a:t>März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666666"/>
                </a:solidFill>
                <a:latin typeface="Cambria"/>
              </a:rPr>
              <a:t>VIRTUELLES KONFERENZZIMMER(LINK)</a:t>
            </a:r>
            <a:endParaRPr b="0" lang="en-US" sz="36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104" name="Grafik 5" descr=""/>
          <p:cNvPicPr/>
          <p:nvPr/>
        </p:nvPicPr>
        <p:blipFill>
          <a:blip r:embed="rId1"/>
          <a:stretch/>
        </p:blipFill>
        <p:spPr>
          <a:xfrm>
            <a:off x="1522440" y="1450800"/>
            <a:ext cx="5786280" cy="5013360"/>
          </a:xfrm>
          <a:prstGeom prst="rect">
            <a:avLst/>
          </a:prstGeom>
          <a:ln w="0">
            <a:noFill/>
          </a:ln>
        </p:spPr>
      </p:pic>
      <p:cxnSp>
        <p:nvCxnSpPr>
          <p:cNvPr id="1105" name="Gerade Verbindung mit Pfeil 9"/>
          <p:cNvCxnSpPr/>
          <p:nvPr/>
        </p:nvCxnSpPr>
        <p:spPr>
          <a:xfrm flipH="1">
            <a:off x="6516000" y="1988640"/>
            <a:ext cx="964440" cy="36108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sp>
        <p:nvSpPr>
          <p:cNvPr id="1106" name="Textfeld 10"/>
          <p:cNvSpPr/>
          <p:nvPr/>
        </p:nvSpPr>
        <p:spPr>
          <a:xfrm>
            <a:off x="7451640" y="1727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595959"/>
                </a:solidFill>
                <a:latin typeface="Arial"/>
              </a:rPr>
              <a:t>Kal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feld 14"/>
          <p:cNvSpPr/>
          <p:nvPr/>
        </p:nvSpPr>
        <p:spPr>
          <a:xfrm>
            <a:off x="7596360" y="34560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595959"/>
                </a:solidFill>
                <a:latin typeface="Arial"/>
              </a:rPr>
              <a:t>Bald aktu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8" name="Gerade Verbindung mit Pfeil 16"/>
          <p:cNvCxnSpPr/>
          <p:nvPr/>
        </p:nvCxnSpPr>
        <p:spPr>
          <a:xfrm flipH="1">
            <a:off x="6638040" y="3777840"/>
            <a:ext cx="964440" cy="36108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cxnSp>
        <p:nvCxnSpPr>
          <p:cNvPr id="1109" name="Gerade Verbindung mit Pfeil 17"/>
          <p:cNvCxnSpPr/>
          <p:nvPr/>
        </p:nvCxnSpPr>
        <p:spPr>
          <a:xfrm>
            <a:off x="1331640" y="4508640"/>
            <a:ext cx="1369080" cy="50544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sp>
        <p:nvSpPr>
          <p:cNvPr id="1110" name="Textfeld 21"/>
          <p:cNvSpPr/>
          <p:nvPr/>
        </p:nvSpPr>
        <p:spPr>
          <a:xfrm>
            <a:off x="82440" y="396540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595959"/>
                </a:solidFill>
                <a:latin typeface="Arial"/>
              </a:rPr>
              <a:t>Nachri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1" name="Gerade Verbindung mit Pfeil 22"/>
          <p:cNvCxnSpPr/>
          <p:nvPr/>
        </p:nvCxnSpPr>
        <p:spPr>
          <a:xfrm>
            <a:off x="1331640" y="5373720"/>
            <a:ext cx="1369080" cy="50400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sp>
        <p:nvSpPr>
          <p:cNvPr id="1112" name="Textfeld 23"/>
          <p:cNvSpPr/>
          <p:nvPr/>
        </p:nvSpPr>
        <p:spPr>
          <a:xfrm>
            <a:off x="179280" y="5033880"/>
            <a:ext cx="1320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595959"/>
                </a:solidFill>
                <a:latin typeface="Arial"/>
              </a:rPr>
              <a:t>Dokumente</a:t>
            </a:r>
            <a:br>
              <a:rPr sz="1600"/>
            </a:br>
            <a:r>
              <a:rPr b="0" lang="de-AT" sz="1600" spc="-1" strike="noStrike">
                <a:solidFill>
                  <a:srgbClr val="595959"/>
                </a:solidFill>
                <a:latin typeface="Arial"/>
              </a:rPr>
              <a:t>Formulare</a:t>
            </a:r>
            <a:br>
              <a:rPr sz="1600"/>
            </a:br>
            <a:r>
              <a:rPr b="0" lang="de-AT" sz="1600" spc="-1" strike="noStrike">
                <a:solidFill>
                  <a:srgbClr val="595959"/>
                </a:solidFill>
                <a:latin typeface="Arial"/>
              </a:rPr>
              <a:t>Planungen</a:t>
            </a:r>
            <a:br>
              <a:rPr sz="1600"/>
            </a:br>
            <a:r>
              <a:rPr b="0" lang="de-AT" sz="1600" spc="-1" strike="noStrike">
                <a:solidFill>
                  <a:srgbClr val="595959"/>
                </a:solidFill>
                <a:latin typeface="Arial"/>
              </a:rPr>
              <a:t>Protoko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595959"/>
                </a:solidFill>
                <a:latin typeface="Arial"/>
              </a:rPr>
              <a:t>Bilder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6666"/>
                </a:solidFill>
                <a:latin typeface="Cambria"/>
                <a:ea typeface="Calibri"/>
              </a:rPr>
              <a:t>PAUSE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114" name="Picture 2" descr="C:\Users\Andrea\AppData\Local\Microsoft\Windows\Temporary Internet Files\Content.IE5\2OHY87FG\MP900422391[1].jpg"/>
          <p:cNvPicPr/>
          <p:nvPr/>
        </p:nvPicPr>
        <p:blipFill>
          <a:blip r:embed="rId1"/>
          <a:stretch/>
        </p:blipFill>
        <p:spPr>
          <a:xfrm>
            <a:off x="2565360" y="1600200"/>
            <a:ext cx="3251160" cy="4873680"/>
          </a:xfrm>
          <a:prstGeom prst="rect">
            <a:avLst/>
          </a:prstGeom>
          <a:ln w="0">
            <a:noFill/>
          </a:ln>
        </p:spPr>
      </p:pic>
      <p:sp>
        <p:nvSpPr>
          <p:cNvPr id="1115" name="Textfeld 3"/>
          <p:cNvSpPr/>
          <p:nvPr/>
        </p:nvSpPr>
        <p:spPr>
          <a:xfrm>
            <a:off x="6012000" y="573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15 Minu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tibs.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  <a:ea typeface="Calibri"/>
              </a:rPr>
              <a:t>QuickLink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  <a:ea typeface="Calibri"/>
              </a:rPr>
              <a:t>ePortal Tiro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  <a:ea typeface="Calibri"/>
              </a:rPr>
              <a:t>Anwendungen: TSNmood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  <a:ea typeface="Calibri"/>
              </a:rPr>
              <a:t>Meine Kur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  <a:ea typeface="Calibri"/>
              </a:rPr>
              <a:t>Kurs „Virtuelles Konferenzzimmer“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7" name="Titel 1"/>
          <p:cNvSpPr/>
          <p:nvPr/>
        </p:nvSpPr>
        <p:spPr>
          <a:xfrm>
            <a:off x="609480" y="42696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6666"/>
                </a:solidFill>
                <a:latin typeface="Cambria"/>
                <a:ea typeface="Calibri"/>
              </a:rPr>
              <a:t>EINSTIEG INS TSNMOOD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6666"/>
                </a:solidFill>
                <a:latin typeface="Cambria"/>
              </a:rPr>
              <a:t>MOODLE-SELBSTLERNKURS (LINK)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119" name="Inhaltsplatzhalter 3" descr=""/>
          <p:cNvPicPr/>
          <p:nvPr/>
        </p:nvPicPr>
        <p:blipFill>
          <a:blip r:embed="rId1"/>
          <a:stretch/>
        </p:blipFill>
        <p:spPr>
          <a:xfrm>
            <a:off x="681120" y="1600200"/>
            <a:ext cx="70200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666666"/>
                </a:solidFill>
                <a:latin typeface="Cambria"/>
              </a:rPr>
              <a:t>TSNMOODLE – NMS TIROL (LINK)</a:t>
            </a:r>
            <a:endParaRPr b="0" lang="en-US" sz="32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121" name="Inhaltsplatzhalter 4" descr=""/>
          <p:cNvPicPr/>
          <p:nvPr/>
        </p:nvPicPr>
        <p:blipFill>
          <a:blip r:embed="rId1"/>
          <a:stretch/>
        </p:blipFill>
        <p:spPr>
          <a:xfrm>
            <a:off x="949320" y="1600200"/>
            <a:ext cx="6483240" cy="4873680"/>
          </a:xfrm>
          <a:prstGeom prst="rect">
            <a:avLst/>
          </a:prstGeom>
          <a:ln w="0">
            <a:noFill/>
          </a:ln>
        </p:spPr>
      </p:pic>
      <p:pic>
        <p:nvPicPr>
          <p:cNvPr id="1122" name="Grafik 6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6696000" cy="43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666666"/>
                </a:solidFill>
                <a:latin typeface="Cambria"/>
              </a:rPr>
              <a:t>ZUGANGSSCHLÜSSEL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56840" y="1627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Zugangsschlüssel zu den einzelnen Kursen der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TSNmoodle-Plattfor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Deutsch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goeth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Englisch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que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Mathematik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sokr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Lernfeld GEB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hippokr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Lernfeld Naturwissenschaften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einste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Lernfeld Kunst und Kreativität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picas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Lernfeld Gesellschaft und Welt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kolumb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Lerndesign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comeni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E-Learning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: compu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25" name="Picture 2" descr=""/>
          <p:cNvPicPr/>
          <p:nvPr/>
        </p:nvPicPr>
        <p:blipFill>
          <a:blip r:embed="rId1"/>
          <a:stretch/>
        </p:blipFill>
        <p:spPr>
          <a:xfrm>
            <a:off x="5572080" y="428760"/>
            <a:ext cx="249408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6666"/>
                </a:solidFill>
                <a:latin typeface="Cambria"/>
                <a:ea typeface="Calibri"/>
              </a:rPr>
              <a:t>DANKE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127" name="Inhaltsplatzhalter 4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98456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666666"/>
                </a:solidFill>
                <a:latin typeface="Cambria"/>
              </a:rPr>
              <a:t>E-LEARNING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066" name="Grafik 3" descr="e-learning-klasse.jpg"/>
          <p:cNvPicPr/>
          <p:nvPr/>
        </p:nvPicPr>
        <p:blipFill>
          <a:blip r:embed="rId1"/>
          <a:stretch/>
        </p:blipFill>
        <p:spPr>
          <a:xfrm>
            <a:off x="714240" y="1571760"/>
            <a:ext cx="69706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595959"/>
                </a:solidFill>
                <a:latin typeface="Cambria"/>
              </a:rPr>
              <a:t>AGENDA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600200"/>
            <a:ext cx="7758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Lernplattform Moodl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Beispiel: Virtuelles Konferenzzimmer der NMS 2 Jenbac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Diskussi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</a:rPr>
              <a:t>Paus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Moodlen“ im virtuellen Konferenzzimm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</a:rPr>
              <a:t>Kalender – Termine eingeb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</a:rPr>
              <a:t>Nachrichtenforum – Beitrag schreib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</a:rPr>
              <a:t>Dokumente hochladen und verwalt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</a:rPr>
              <a:t>Auf Webseiten verlink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Kurse für Lehrpersonen auf TSNmood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69" name="Grafik 4" descr="pc01.jpg"/>
          <p:cNvPicPr/>
          <p:nvPr/>
        </p:nvPicPr>
        <p:blipFill>
          <a:blip r:embed="rId1"/>
          <a:stretch/>
        </p:blipFill>
        <p:spPr>
          <a:xfrm>
            <a:off x="7000920" y="214200"/>
            <a:ext cx="1436760" cy="1447920"/>
          </a:xfrm>
          <a:prstGeom prst="rect">
            <a:avLst/>
          </a:prstGeom>
          <a:ln w="0">
            <a:noFill/>
          </a:ln>
        </p:spPr>
      </p:pic>
      <p:pic>
        <p:nvPicPr>
          <p:cNvPr id="1070" name="Grafik 3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15033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666666"/>
                </a:solidFill>
                <a:latin typeface="Cambria"/>
              </a:rPr>
              <a:t>WEB 2.0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2362320"/>
            <a:ext cx="4906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Lernplattfor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ocial Softwa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Wik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-Portfoli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Podca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reenca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YouTub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Twit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488880" y="1602000"/>
            <a:ext cx="7765560" cy="594720"/>
          </a:xfrm>
          <a:prstGeom prst="rect">
            <a:avLst/>
          </a:prstGeom>
          <a:solidFill>
            <a:srgbClr val="d83094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Cambria"/>
              </a:rPr>
              <a:t>Web zum Mitmachen - Interaktivitä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74" name="Bild 4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404820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6666"/>
                </a:solidFill>
                <a:latin typeface="Cambria"/>
              </a:rPr>
              <a:t>LERNPLATTFORM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076" name="Bild 2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463920" cy="1663560"/>
          </a:xfrm>
          <a:prstGeom prst="rect">
            <a:avLst/>
          </a:prstGeom>
          <a:ln w="0">
            <a:noFill/>
          </a:ln>
        </p:spPr>
      </p:pic>
      <p:pic>
        <p:nvPicPr>
          <p:cNvPr id="1077" name="Inhaltsplatzhalter 3" descr=""/>
          <p:cNvPicPr/>
          <p:nvPr/>
        </p:nvPicPr>
        <p:blipFill>
          <a:blip r:embed="rId2"/>
          <a:stretch/>
        </p:blipFill>
        <p:spPr>
          <a:xfrm>
            <a:off x="615960" y="154764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78" name="Grafik 5" descr=""/>
          <p:cNvPicPr/>
          <p:nvPr/>
        </p:nvPicPr>
        <p:blipFill>
          <a:blip r:embed="rId3"/>
          <a:stretch/>
        </p:blipFill>
        <p:spPr>
          <a:xfrm>
            <a:off x="611280" y="4173480"/>
            <a:ext cx="3265560" cy="2448000"/>
          </a:xfrm>
          <a:prstGeom prst="rect">
            <a:avLst/>
          </a:prstGeom>
          <a:ln w="0">
            <a:noFill/>
          </a:ln>
        </p:spPr>
      </p:pic>
      <p:pic>
        <p:nvPicPr>
          <p:cNvPr id="1079" name="Grafik 7" descr=""/>
          <p:cNvPicPr/>
          <p:nvPr/>
        </p:nvPicPr>
        <p:blipFill>
          <a:blip r:embed="rId4"/>
          <a:stretch/>
        </p:blipFill>
        <p:spPr>
          <a:xfrm>
            <a:off x="4205160" y="155736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1080" name="Grafik 8" descr=""/>
          <p:cNvPicPr/>
          <p:nvPr/>
        </p:nvPicPr>
        <p:blipFill>
          <a:blip r:embed="rId5"/>
          <a:stretch/>
        </p:blipFill>
        <p:spPr>
          <a:xfrm>
            <a:off x="4211640" y="4149720"/>
            <a:ext cx="3263760" cy="2448000"/>
          </a:xfrm>
          <a:prstGeom prst="rect">
            <a:avLst/>
          </a:prstGeom>
          <a:ln w="0">
            <a:noFill/>
          </a:ln>
        </p:spPr>
      </p:pic>
      <p:cxnSp>
        <p:nvCxnSpPr>
          <p:cNvPr id="1081" name="Gerade Verbindung mit Pfeil 10"/>
          <p:cNvCxnSpPr>
            <a:stCxn id="1077" idx="3"/>
            <a:endCxn id="1079" idx="1"/>
          </p:cNvCxnSpPr>
          <p:nvPr/>
        </p:nvCxnSpPr>
        <p:spPr>
          <a:xfrm>
            <a:off x="3879720" y="2771280"/>
            <a:ext cx="326160" cy="10440"/>
          </a:xfrm>
          <a:prstGeom prst="straightConnector1">
            <a:avLst/>
          </a:prstGeom>
          <a:ln w="28440">
            <a:solidFill>
              <a:srgbClr val="dc0385"/>
            </a:solidFill>
            <a:miter/>
            <a:tailEnd len="med" type="arrow" w="med"/>
          </a:ln>
        </p:spPr>
      </p:cxnSp>
      <p:cxnSp>
        <p:nvCxnSpPr>
          <p:cNvPr id="1082" name="Gerade Verbindung mit Pfeil 13"/>
          <p:cNvCxnSpPr/>
          <p:nvPr/>
        </p:nvCxnSpPr>
        <p:spPr>
          <a:xfrm flipH="1">
            <a:off x="3879360" y="4005000"/>
            <a:ext cx="332640" cy="168840"/>
          </a:xfrm>
          <a:prstGeom prst="straightConnector1">
            <a:avLst/>
          </a:prstGeom>
          <a:ln w="28440">
            <a:solidFill>
              <a:srgbClr val="dc0385"/>
            </a:solidFill>
            <a:miter/>
            <a:tailEnd len="med" type="arrow" w="med"/>
          </a:ln>
        </p:spPr>
      </p:cxnSp>
      <p:cxnSp>
        <p:nvCxnSpPr>
          <p:cNvPr id="1083" name="Gerade Verbindung mit Pfeil 17"/>
          <p:cNvCxnSpPr/>
          <p:nvPr/>
        </p:nvCxnSpPr>
        <p:spPr>
          <a:xfrm>
            <a:off x="3886200" y="5516640"/>
            <a:ext cx="326160" cy="10080"/>
          </a:xfrm>
          <a:prstGeom prst="straightConnector1">
            <a:avLst/>
          </a:prstGeom>
          <a:ln w="28440">
            <a:solidFill>
              <a:srgbClr val="dc0385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6666"/>
                </a:solidFill>
                <a:latin typeface="Cambria"/>
              </a:rPr>
              <a:t>LERNPLATTFORM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57200" y="160020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  <a:ea typeface="Calibri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  <a:ea typeface="Calibri"/>
              </a:rPr>
              <a:t>Arbeitsunterlagen, Dateien, Wörterbuch, Lektion, Wik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  <a:ea typeface="Calibri"/>
              </a:rPr>
              <a:t>Kommunik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  <a:ea typeface="Calibri"/>
              </a:rPr>
              <a:t>Foren, Chat, Messenger, Abstimmu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  <a:ea typeface="Calibri"/>
              </a:rPr>
              <a:t>Koope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  <a:ea typeface="Calibri"/>
              </a:rPr>
              <a:t>Wiki, Wörterbuc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  <a:ea typeface="Calibri"/>
              </a:rPr>
              <a:t>Wiederholungen, Prüfun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  <a:ea typeface="Calibri"/>
              </a:rPr>
              <a:t>Lektion, Wiki, Workshop, Test, Aufgab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8309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d8309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Calibri"/>
                <a:ea typeface="Calibri"/>
              </a:rPr>
              <a:t>Umfrage, Test, Aufgabe, Abstimmu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86" name="Bild 2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46392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Grafik 1" descr="kurs_arbeitsauftra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214280"/>
            <a:ext cx="8383320" cy="4400640"/>
          </a:xfrm>
          <a:prstGeom prst="rect">
            <a:avLst/>
          </a:prstGeom>
          <a:ln w="0">
            <a:noFill/>
          </a:ln>
        </p:spPr>
      </p:pic>
      <p:sp>
        <p:nvSpPr>
          <p:cNvPr id="1088" name="Rechteck 4"/>
          <p:cNvSpPr/>
          <p:nvPr/>
        </p:nvSpPr>
        <p:spPr>
          <a:xfrm>
            <a:off x="380880" y="4460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696969"/>
                </a:solidFill>
                <a:latin typeface="Cambria"/>
              </a:rPr>
              <a:t>S</a:t>
            </a:r>
            <a:r>
              <a:rPr b="1" lang="de-AT" sz="2800" spc="-1" strike="noStrike">
                <a:solidFill>
                  <a:srgbClr val="696969"/>
                </a:solidFill>
                <a:latin typeface="Cambria"/>
              </a:rPr>
              <a:t>chülerkurs „Die Fabel“ (</a:t>
            </a:r>
            <a:r>
              <a:rPr b="0" lang="de-AT" sz="2800" spc="-1" strike="noStrike" u="sng">
                <a:solidFill>
                  <a:srgbClr val="17bbfd"/>
                </a:solidFill>
                <a:uFillTx/>
                <a:latin typeface="Cambria"/>
                <a:hlinkClick r:id="rId3"/>
              </a:rPr>
              <a:t>Link</a:t>
            </a:r>
            <a:r>
              <a:rPr b="1" lang="de-AT" sz="2800" spc="-1" strike="noStrike">
                <a:solidFill>
                  <a:srgbClr val="696969"/>
                </a:solidFill>
                <a:latin typeface="Cambr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Grafik 2" descr=""/>
          <p:cNvPicPr/>
          <p:nvPr/>
        </p:nvPicPr>
        <p:blipFill>
          <a:blip r:embed="rId1"/>
          <a:stretch/>
        </p:blipFill>
        <p:spPr>
          <a:xfrm>
            <a:off x="1054080" y="1433520"/>
            <a:ext cx="6191280" cy="5143320"/>
          </a:xfrm>
          <a:prstGeom prst="rect">
            <a:avLst/>
          </a:prstGeom>
          <a:ln w="0">
            <a:noFill/>
          </a:ln>
        </p:spPr>
      </p:pic>
      <p:cxnSp>
        <p:nvCxnSpPr>
          <p:cNvPr id="1090" name="Gerade Verbindung mit Pfeil 10"/>
          <p:cNvCxnSpPr/>
          <p:nvPr/>
        </p:nvCxnSpPr>
        <p:spPr>
          <a:xfrm flipH="1">
            <a:off x="4284000" y="1989000"/>
            <a:ext cx="3312360" cy="72000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cxnSp>
        <p:nvCxnSpPr>
          <p:cNvPr id="1091" name="Gerade Verbindung mit Pfeil 13"/>
          <p:cNvCxnSpPr/>
          <p:nvPr/>
        </p:nvCxnSpPr>
        <p:spPr>
          <a:xfrm flipH="1">
            <a:off x="4066560" y="4005360"/>
            <a:ext cx="3529800" cy="79272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cxnSp>
        <p:nvCxnSpPr>
          <p:cNvPr id="1092" name="Gerade Verbindung mit Pfeil 15"/>
          <p:cNvCxnSpPr/>
          <p:nvPr/>
        </p:nvCxnSpPr>
        <p:spPr>
          <a:xfrm flipH="1">
            <a:off x="4222080" y="5300280"/>
            <a:ext cx="3445560" cy="79308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sp>
        <p:nvSpPr>
          <p:cNvPr id="1093" name="Textfeld 18"/>
          <p:cNvSpPr/>
          <p:nvPr/>
        </p:nvSpPr>
        <p:spPr>
          <a:xfrm>
            <a:off x="7524720" y="17002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ilder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ia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feld 19"/>
          <p:cNvSpPr/>
          <p:nvPr/>
        </p:nvSpPr>
        <p:spPr>
          <a:xfrm>
            <a:off x="7524720" y="37544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rbeits-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lä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feld 20"/>
          <p:cNvSpPr/>
          <p:nvPr/>
        </p:nvSpPr>
        <p:spPr>
          <a:xfrm>
            <a:off x="7524720" y="50306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Quiz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ufträ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6" name="Gerade Verbindung mit Pfeil 22"/>
          <p:cNvCxnSpPr/>
          <p:nvPr/>
        </p:nvCxnSpPr>
        <p:spPr>
          <a:xfrm>
            <a:off x="899640" y="3141720"/>
            <a:ext cx="1893240" cy="130248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sp>
        <p:nvSpPr>
          <p:cNvPr id="1097" name="Textfeld 23"/>
          <p:cNvSpPr/>
          <p:nvPr/>
        </p:nvSpPr>
        <p:spPr>
          <a:xfrm>
            <a:off x="179280" y="2754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Forum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8" name="Gerade Verbindung mit Pfeil 24"/>
          <p:cNvCxnSpPr/>
          <p:nvPr/>
        </p:nvCxnSpPr>
        <p:spPr>
          <a:xfrm flipV="1">
            <a:off x="539280" y="4581360"/>
            <a:ext cx="670680" cy="648360"/>
          </a:xfrm>
          <a:prstGeom prst="straightConnector1">
            <a:avLst/>
          </a:prstGeom>
          <a:ln w="38160">
            <a:solidFill>
              <a:srgbClr val="dc0385"/>
            </a:solidFill>
            <a:miter/>
            <a:tailEnd len="med" type="triangle" w="med"/>
          </a:ln>
        </p:spPr>
      </p:cxnSp>
      <p:sp>
        <p:nvSpPr>
          <p:cNvPr id="1099" name="Textfeld 28"/>
          <p:cNvSpPr/>
          <p:nvPr/>
        </p:nvSpPr>
        <p:spPr>
          <a:xfrm>
            <a:off x="179280" y="5159520"/>
            <a:ext cx="10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ewer-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hteck 4"/>
          <p:cNvSpPr/>
          <p:nvPr/>
        </p:nvSpPr>
        <p:spPr>
          <a:xfrm>
            <a:off x="380880" y="44604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96969"/>
                </a:solidFill>
                <a:latin typeface="Cambria"/>
              </a:rPr>
              <a:t>S</a:t>
            </a:r>
            <a:r>
              <a:rPr b="1" lang="de-AT" sz="2800" spc="-1" strike="noStrike">
                <a:solidFill>
                  <a:srgbClr val="696969"/>
                </a:solidFill>
                <a:latin typeface="Cambria"/>
              </a:rPr>
              <a:t>CHÜLERKURS „Regenwald“ (</a:t>
            </a:r>
            <a:r>
              <a:rPr b="0" lang="de-AT" sz="2800" spc="-1" strike="noStrike" u="sng">
                <a:solidFill>
                  <a:srgbClr val="17bbfd"/>
                </a:solidFill>
                <a:uFillTx/>
                <a:latin typeface="Cambria"/>
                <a:hlinkClick r:id="rId2"/>
              </a:rPr>
              <a:t>Link</a:t>
            </a:r>
            <a:r>
              <a:rPr b="1" lang="de-AT" sz="2800" spc="-1" strike="noStrike">
                <a:solidFill>
                  <a:srgbClr val="696969"/>
                </a:solidFill>
                <a:latin typeface="Cambr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666666"/>
                </a:solidFill>
                <a:latin typeface="Cambria"/>
              </a:rPr>
              <a:t>VIRTUELLES KLASSENZIMMER (</a:t>
            </a:r>
            <a:r>
              <a:rPr b="0" lang="de-AT" sz="3600" spc="-1" strike="noStrike" u="sng">
                <a:solidFill>
                  <a:srgbClr val="17bbfd"/>
                </a:solidFill>
                <a:uFillTx/>
                <a:latin typeface="Cambria"/>
                <a:hlinkClick r:id="rId1"/>
              </a:rPr>
              <a:t>LINK</a:t>
            </a:r>
            <a:r>
              <a:rPr b="1" lang="de-AT" sz="3600" spc="-1" strike="noStrike">
                <a:solidFill>
                  <a:srgbClr val="666666"/>
                </a:solidFill>
                <a:latin typeface="Cambria"/>
              </a:rPr>
              <a:t>)</a:t>
            </a:r>
            <a:endParaRPr b="0" lang="en-US" sz="36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1102" name="Inhaltsplatzhalter 3" descr=""/>
          <p:cNvPicPr/>
          <p:nvPr/>
        </p:nvPicPr>
        <p:blipFill>
          <a:blip r:embed="rId2"/>
          <a:stretch/>
        </p:blipFill>
        <p:spPr>
          <a:xfrm>
            <a:off x="457200" y="1844640"/>
            <a:ext cx="74674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22:41Z</dcterms:created>
  <dc:creator>Windows-Benutzer</dc:creator>
  <dc:description/>
  <dc:language>en-US</dc:language>
  <cp:lastModifiedBy>Andrea</cp:lastModifiedBy>
  <dcterms:modified xsi:type="dcterms:W3CDTF">2012-03-06T16:43:30Z</dcterms:modified>
  <cp:revision>605</cp:revision>
  <dc:subject/>
  <dc:title>E-Learning</dc:title>
</cp:coreProperties>
</file>