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png" ContentType="image/png"/>
  <Override PartName="/ppt/media/image12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notesMasterIdLst>
    <p:notesMasterId r:id="rId23"/>
  </p:notes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  <p:sldId id="264" r:id="rId32"/>
    <p:sldId id="265" r:id="rId33"/>
    <p:sldId id="266" r:id="rId34"/>
    <p:sldId id="267" r:id="rId35"/>
    <p:sldId id="268" r:id="rId36"/>
    <p:sldId id="269" r:id="rId37"/>
    <p:sldId id="270" r:id="rId38"/>
    <p:sldId id="27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notesMaster" Target="notesMasters/notesMaster1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slide" Target="slides/slide9.xml"/><Relationship Id="rId33" Type="http://schemas.openxmlformats.org/officeDocument/2006/relationships/slide" Target="slides/slide10.xml"/><Relationship Id="rId34" Type="http://schemas.openxmlformats.org/officeDocument/2006/relationships/slide" Target="slides/slide11.xml"/><Relationship Id="rId35" Type="http://schemas.openxmlformats.org/officeDocument/2006/relationships/slide" Target="slides/slide12.xml"/><Relationship Id="rId36" Type="http://schemas.openxmlformats.org/officeDocument/2006/relationships/slide" Target="slides/slide13.xml"/><Relationship Id="rId37" Type="http://schemas.openxmlformats.org/officeDocument/2006/relationships/slide" Target="slides/slide14.xml"/><Relationship Id="rId38" Type="http://schemas.openxmlformats.org/officeDocument/2006/relationships/slide" Target="slides/slide15.xml"/><Relationship Id="rId39" Type="http://schemas.openxmlformats.org/officeDocument/2006/relationships/slide" Target="slides/slide1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dt" idx="6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 type="ftr" idx="6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6"/>
          <p:cNvSpPr>
            <a:spLocks noGrp="1"/>
          </p:cNvSpPr>
          <p:nvPr>
            <p:ph type="sldNum" idx="6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899B3-E88F-4B28-B26B-1DEB40C56EF2}" type="slidenum"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Web 2.0 Schlagwort für interaktives und kollaboratives Arbeiten im Inter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Twitter – kurze Echtzeitinformation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2EE11-45FD-4367-AFD9-EA3A9346A1A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CD31-99E7-41BE-AD76-EB24BA0C4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53A3-6450-4167-BD68-170DE097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07B2336-BE22-4343-A6F0-2FF1C6041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03A6F36-4A8E-473C-9C4E-3E85834BA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7260B4-B5F3-4BF2-9963-72D9BA83F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BE5B352-304B-43C4-898D-81A9198B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032A83-73D3-4D56-9990-A6E9C9CE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BBE900-EB05-4F9E-BA71-A076DE4B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02F59A-2B3F-49A2-AD76-C8EAF9499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15B0CD-1432-46A2-A441-5DC9F1FC1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E92CE6-33A3-469D-A0E0-DD68FC30A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918536-C7CA-4239-A15B-55FF730DA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A4FD-4319-4C2C-91C8-4A71D8896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5790B1-58AA-430F-A28F-E17342EAF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EFC996-5165-4D5F-848D-B2C36817B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30A28A-3036-4C4B-A903-0D465A4AB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1E015F-2AA2-4E04-931C-6955EF5EF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55390B-8971-4132-8B32-C84903846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DF907E-F887-4794-9E27-5F404A10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A00AB6-0DBA-4580-97AD-774753E4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2EE2ED-D536-4E20-9373-76D275C0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1329C5-E15A-4432-8372-37E8EA6C0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9F3E46-65A8-4810-BFD7-87182E920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44BF-3BA3-4743-81B0-C75FB10EA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BA33F7-F225-4C56-AAD0-54D99CDB4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D855A21-90E8-47A9-95ED-1EF7B2F83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C0A616C-5D4E-4E33-8CD6-02BE8530F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4C6BFBE-4071-4074-B30A-8A311F90B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086B8C5-C7A7-42EB-95D1-21569C3D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C5A2A3C-14FA-4404-8896-60F628FDF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325D861-5D59-4EF9-944F-C1033E96F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B05292C-BC09-4968-881C-1150D0D3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1CE9EA2-B09D-4EE0-9797-FC8DF6F9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50D90E6-B956-48E7-B860-90F436C4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AC790-F34C-469A-83F9-FE542850B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9B1C3C0-3DE6-44A5-8BDE-5AE954D33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B94D2AE-BBD4-41EF-AD94-896B69AE4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47EBD36-6B85-41BE-86ED-9E925062A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3308D6-72C7-4F32-A11C-75636A113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797FB4-0CD2-473C-9678-D3BDFB39B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C19A1A-AA37-4BFF-99B2-5E512468C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C00817-9A6E-42EC-9BBB-2DC3B07C1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4F8247-B25C-4F7B-897E-CF3F7DCE3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F5A6E9-075C-4075-90E1-A886E2B13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8EC657-9B5A-4046-A079-FDB0EC98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C2244-1342-4C21-A67B-A86F9062F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E2529A-8A67-4417-BCB6-AD3E34EA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EAA663-3618-4BDF-A7AA-FF2FFCB0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F7FB23-5103-4EF6-A9B1-3A7FD496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463045-5325-4CBC-B6B3-923C30C81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393815-7CCE-477A-AC35-62889311D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1D87950-3330-4CC7-B35F-2D46AA62F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79AFC7B-ACC3-411E-A557-40AFC3D1E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EBAD5EE-A331-4200-B848-35E098F8F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9202243-0F33-463F-A63C-A0343C70D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376EF00-15FE-46AD-B260-39E3A5C4D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07D01-4AA1-49D4-9F2B-0E4E7A34E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C466897-DC2D-4F78-9D6F-10B5E0951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E269E2E-9BDF-412C-B279-C8C407F1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6CFAF2C-C630-4508-852B-ABEC4269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6B26FDC-9A93-4B6E-BF55-6C11D363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B199E14-7501-4AA6-89E2-C491DE357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3DBA991-FC47-4008-B1C6-9AE633B97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AAD5885-788A-44F2-8033-8740B3CA8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8762EA1-EC45-4EBA-B0BD-81E341E8E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5D90F8F-64C3-4A07-A140-66374E446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FE48B97-6454-4415-9261-301FEEB4A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29FB0-9914-4D42-BB45-F947B7CB2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779D725-3938-4242-8E47-8E8DCAFA1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010723D-064E-44BE-B0AE-D743F7643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2A91CFE-9061-4C28-BBA1-5A060EC9B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C2DCE95-D269-4336-B397-0A851189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A3A0F53-73EF-4E92-9DEB-1AEF7507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82A2241-D3CC-4A11-A9D1-92CCD93A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FB8C040-A674-4311-8091-993912203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4C1E4AB-3B9B-4808-BABA-3A2393149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D7F63E3-93B9-4E61-8E65-97A06A0AE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57EDAF9-DCC7-4834-BB71-4546FC517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44564-C82F-4353-8D3F-9584FA9EC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E014B2C-64C7-4FC7-82B8-1CF1613E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7E07116-C7C1-4610-973F-A7968C2BA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8703C34-B1CD-42DA-9268-57F08FE71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FF9E6DB-85B8-4939-A2DE-521001EBD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CF8F5DE-03CA-4CE5-9A04-5670BD7B5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4FD3FEF-0479-4354-920D-296EF943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30EF916-81C3-4995-9F66-D9521681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EEB0097-25AA-40B3-A603-9B24BD7A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8FBA03F-D4CE-46E5-A0E6-BC7A3FAE3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048B5EA-61F6-4724-9F82-EB68D04D9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61354-1175-4676-BBD7-2BADFAE8A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C01FD0A-EBAF-4BF5-93ED-96D770D7F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D4AB0F-6487-47B2-9971-78DE375C3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E4197E-E499-4707-8F46-6447344BC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95D45B-CBC7-40B4-B4F5-CD90A8354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20F52C-32A1-4067-92B7-827368A03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C67206-393A-4C74-85F2-00864DF24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E6E0E9-FB5C-4613-9AAB-C7AC342A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E45CFF-60D8-440B-A4B7-D8BD7D26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3A1F20-668C-4D7A-BCB2-9350D602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C3E104-FFB5-4FCD-9919-392E97AB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0D5D0-EB8F-4A26-9BD9-2C7E3F15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183A39-7489-49F8-9C36-100B0F591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1EC44F-75D1-49B0-9752-AC8D21F1B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955370-7EAC-4CDD-A8AA-E5F7A4480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578B405-EE73-4C0F-9FCF-82E134155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06ED8A5-BF33-46C6-8C7E-CF91CDBDB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76DF787-42CB-4130-9F12-9458FBF44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BE91D1E-47E3-4493-8259-071AE769F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F4EF716-8766-4490-835A-65457AE96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B09F811-4981-4C70-A643-2540FB7C4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E5C7DC9-7D02-4C42-AEF9-242B891B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82C7-08D9-4236-9D22-444968E70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E570C-282F-40F2-9430-2AD4F951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4DF19E2-D48E-4EEE-8A51-5EBB089D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DF1FBCF-D0EE-4CE1-A2F1-5BB7549C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4780B20-16A9-4341-B0EF-C92C1C156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93E3F80-1AD2-46EB-83B4-D626B0150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FB4567A-E1A1-4FA9-BCCD-D7AD93BF8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910D16-B7DD-4C9D-A1BC-DA73792F0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C3C87B-CE51-4552-B8BA-4DE013F90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47DEFD-76D8-48A6-A5B9-B6743534C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235EB5-14C8-495F-BF79-9AEB27CCE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DEEE56-6E54-41AD-8789-D04BAE426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6F67E-D7A3-4912-8E11-54D71BB6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B0BE37-AC3C-4811-8010-4A1AE43ED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01A948-6746-4D65-95FA-D4DD3B0B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41D43B-4580-40AE-84C2-3FF5C8433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E74AE4-827B-41B2-928A-F4F6AF05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D60FE8-FE93-437D-AC2B-C38E8FA05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5CFD87-8BC8-4532-9C1E-207AECFB1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F50B7D-2344-4366-9D45-0B33F9495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30A7FED-575D-486A-BB41-792043AAE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265E688-B9BA-433C-9613-21DD6768E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10FBA97-46FD-4AEA-9D5C-3171A7B0E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7779A-159D-4A4C-A8B7-FB53CEB29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F83F59D-F56F-41D1-8C3A-EE09AA9C4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27B969D-4FEE-49A1-9214-C7E4131EC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6C6891A-3016-47B4-8E4D-AE93E9E7B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3A10E04-9CC5-4FFD-9FDC-1771A3A0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1691E4D-7891-4008-812C-B37A0281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01E079E-632A-4051-953B-1EA3C406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E6F05AC-6EE7-4374-9306-7BAA8A833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D2BA898-67E1-476D-8259-AEE9C8C77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4039C88-E458-487A-9974-4B64508DA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B1F5A24-C25E-4709-9791-DFC296279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1995C-0AF8-4422-BB73-73C2C3793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905118D-7B3A-4912-B43E-E3F4B2392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C24EAFF-1349-41F4-ABDB-365193122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237BE62-86C7-4736-80E0-F64190B19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2216DD0-C66D-4014-A46C-BD48A1E21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73EC398-EFB5-4300-97FE-A241DF72B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E4D9C6F-0A87-4601-A05C-E6872B60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8BA88CF-4ACE-4F2D-9935-F8F6D2107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00220CE-C069-47F5-801B-1BFF8345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F3F451B-7385-4983-B552-51AE7B0E2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BF8A9E8-7FB5-434B-BDDB-134AEF11A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5D63E-B432-4C17-941F-F5B6B95E4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0897778-7C30-4052-89DC-F2A676D5A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8FAD1F1-B5F1-43D8-83C3-542D10AF0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ECFDFDB-6684-41A8-874E-9DF6A2B5F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AF4B5FC-2783-47FD-9585-BF7E2A90B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6882DAB-5C4C-4B96-BE87-9790C19E4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8539579-B2DD-49BC-831E-1BB6A921F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4AE3770-90F1-4C04-A4C8-41EA9FB91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955DA13-2AD4-4261-8CDD-8D1538C9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B70E0C9-5766-4D90-86C4-10C355B3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BB27377-E4E7-4BD3-9733-0F991D6F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37AC7-1594-4ADF-8A9E-BECD0C99A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2A4BE5D-1726-4D0F-B23A-0B8F061A2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168BBA5-C5C5-48EC-B7DB-1D116928C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FFA316D-4DA1-4E45-A49D-AD7EDD6DE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33C83-A4C8-432A-AF2B-BA1D845EC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ACC22-0974-472C-9ECE-94DF0B56E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567B4-F3D2-4174-B191-CAA09F82A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BDD3B-9B97-4428-8CC1-EF674D27F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FEC9-CEC7-4D65-AF95-8F84A3C85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F3E03-B870-4C0E-A150-4EE26D164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74EA3-093A-442F-8B13-71D93E67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E3BF7-FF94-44AC-8B73-23F039C6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DAF4B-3067-429A-B270-7496A3AB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0C062-04EF-437B-8FF4-EC4587BEF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40C7D-C598-4B2F-A901-2B70D8B9F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D0302-D0CA-45B8-8848-9B3EDF775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45F59-9590-4A43-85AF-639672A31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26EEF-B718-412A-B286-1D2AD5033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43555-94C4-4C54-BF22-F58A9CD57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4630-0B05-472A-99DF-95E338AC7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692C4-CCD3-4683-BEB4-33B3E98DC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ADBC3-77B8-4D53-9D7E-CB1953BB6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A8BF7-ECD2-4478-9688-4DEDD7717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75F39-EA8E-4855-BBF6-39391D4B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8AC95-FDD6-405A-9DA1-F4BBAC7A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B184B-B64F-4686-88F0-0D1EBA3D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DBC44-9930-4AF1-8C8E-6A452B164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9C590-D406-45DD-BDEB-40F073265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FC2F5-3E00-436E-9605-222B9406F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655BF8-A744-4378-8F92-F34743B8B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6A0D-9B70-4661-9B2C-A8BC7F6CD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AF0ECB-93E4-43C4-9201-17D4E25FC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421221-758E-4A35-9883-87715B7A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022767-76CE-4BD0-B8C0-759A4936D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D1F27D-978B-4A42-BD8B-ED534E8AB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6075E6-9D52-40C2-B4CF-0775287F2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CF2B92-C0D4-4F12-B209-691514B0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E8934A-0D18-4967-9B8C-370B4946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E7E738-61CD-4D88-8FE6-4CC1F311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3DF6CE-D6E1-47B5-81AB-99836B2E8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AC9D24-99A6-426F-A6C5-D6C08BD94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695C-9F61-428E-A66F-62D725213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9E9285-DFED-48ED-AF9B-DB488E31D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498F4-D442-4C34-AF9E-758834041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9B6BF-9853-4A68-BF87-ABDEF1CC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4E7DE-FD21-45DE-B0EC-CFB24A056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FF58D-B709-479C-9342-4A324A82E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AE3A36-F5A2-44FA-91AE-C5E80057D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D75FE-1DBA-4B28-9BBC-5A3B41B35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A613C-EAAB-4B91-BCBD-DF641ABB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2AB5E-6603-4574-BA7A-54C89127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1D882-B62B-4A5C-8748-7D32CB65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5D55-572C-4DCA-9448-5CB2076C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0FE80-2E2F-4FF8-8154-4E2D350C8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D1284C-6732-412D-9F61-7436CDA7E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25B5A4-6586-49F1-AC01-382AC70E6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B46FF7-591B-4588-B33E-ED57BFC20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1023C2-29BD-4975-A13B-AF52274C3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4CAD9B-17D0-47D6-AF9F-773BBFCD5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B02484-EC6D-44E0-B2A0-9877F73FD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6D8CBE-9C91-4B6D-A24E-580FACEEF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E3C9CA-7BA9-4E25-9375-25F5FEE79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F89FA9-8FD0-44E2-A3EB-4C7FB0BD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A7D9-CB11-4655-8575-EA08A421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CC7CBB-C92B-4CBB-BC80-623705DE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CA1822-8E1E-433E-ACA5-FB1F6A61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FA55B0-4635-47A7-8C1F-63D9859D3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D37908-A495-4606-9580-09A8355AD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411258-6A97-479C-8A17-DBF4087CD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6D5FFA-B5A2-4860-8A8A-D9F34A369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230451-E2DC-468E-AE33-AE16A9809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562CF6-1717-4820-B127-4F014DB8A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6C1CBE-3892-40B0-8660-1DAF130AF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DF5842-939A-42A9-A539-F1CB267EB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94C7-3D33-4348-BC85-1CA14B0D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0F9C9C-B58C-4651-8975-CABBC437B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CAFE76-E63A-411D-961F-A1A2C5F1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B1A624-2236-4677-A9FA-BA206982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0536F6-593F-4D16-9A45-D8087F1C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C325B8-6E64-46B9-9237-0F3A9F578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9A3E86-18CA-4E77-9847-E122BD8E9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0B354E-031A-4EF3-A20C-65C89D950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670088-358F-4E9D-9FA3-8B9B5F85F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4B11AC-8C44-4599-9DDF-7882624B7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BC6B64-B248-4B5D-98FE-6401A1CBD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Gerade Verbindung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e9adc8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8309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be298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9adc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aab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66666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Gerade Verbindung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e9a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Gerade Verbindung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d830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htec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9adc8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Gerade Verbindung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d830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El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83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A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2F8B4-F640-4333-AC1E-25A1B1F5571A}" type="slidenum">
              <a:rPr b="1" lang="de-A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hteck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e9adc8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hteck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0cddc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hteck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0cdd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hteck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8e8ef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Gerade Verbindung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e9adc8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Gerade Verbindung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8e8ef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Gerade Verbindung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e9a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Gerade Verbindung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e9adc8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Gerade Verbindung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e9a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Gerade Verbindung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e9a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hteck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e9adc8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Ellipse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d83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Ellipse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d83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Ellipse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d83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Ellipse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d83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Ellipse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d83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8309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be298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9adc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aab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28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66666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29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0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A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975B4-4288-4D12-86F4-31B7C733D5E0}" type="slidenum">
              <a:rPr b="1" lang="de-A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Gerade Verbindung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e9adc8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Gerade Verbindung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e9a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Gerade Verbindung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d830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htec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9adc8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Gerade Verbindung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d830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El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83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8309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be298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9adc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aab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66666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sldNum" idx="32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A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5D573-8951-4CF4-AE04-4FF004042A12}" type="slidenum">
              <a:rPr b="1" lang="de-A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ftr" idx="3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hteck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e9adc8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hteck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0cddc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hteck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0cdd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hteck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8e8ef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Gerade Verbindung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e9adc8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Gerade Verbindung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8e8ef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Gerade Verbindung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e9a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Gerade Verbindung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e9adc8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Gerade Verbindung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e9a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hteck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e9adc8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Ellipse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d83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Ellipse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d83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Ellipse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d83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Ellipse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d83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Ellipse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d83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Gerade Verbindung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e9a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2d2d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8309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be298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9adc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aab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4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2d2d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d2d2d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5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sldNum" idx="36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A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4C2CE-52EC-439B-8736-DD4DB0BD355B}" type="slidenum">
              <a:rPr b="1" lang="de-A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Gerade Verbindung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e9adc8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Gerade Verbindung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e9a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Gerade Verbindung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d830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htec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9adc8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Gerade Verbindung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d830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El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83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8309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be298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9adc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aab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dt" idx="3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66666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 type="sldNum" idx="3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A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0EEA8-422F-42FF-9645-E5E9543E4E5C}" type="slidenum">
              <a:rPr b="1" lang="de-A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 type="ftr" idx="3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Gerade Verbindung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e9adc8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Gerade Verbindung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e9a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Gerade Verbindung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d830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Gerade Verbindung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d830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hteck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9adc8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Gerade Verbindung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d830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Ellipse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83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8309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be298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9adc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aab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4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66666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sldNum" idx="4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A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F625C-08A0-4E2F-96B2-9D5F79EC2A99}" type="slidenum">
              <a:rPr b="1" lang="de-A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ftr" idx="4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Gerade Verbindung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e9a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Ellipse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83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Gerade Verbindung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hteck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9ad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Gerade Verbindung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d830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Gerade Verbindung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e9a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Gerade Verbindung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d830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8309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be298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9adc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aab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 type="dt" idx="4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66666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 type="sldNum" idx="4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A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7BD69-B7C5-4D60-9A85-7AD56074123A}" type="slidenum">
              <a:rPr b="1" lang="de-A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 type="ftr" idx="4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hteck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e9adc8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hteck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0cddc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hteck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0cdd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hteck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8e8ef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Gerade Verbindung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e9adc8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Gerade Verbindung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8e8ef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Gerade Verbindung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e9a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Gerade Verbindung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e9adc8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Gerade Verbindung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e9a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Gerade Verbindung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e9a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hteck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e9adc8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Ellipse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d83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Ellipse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d83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Ellipse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d83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Ellipse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d83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Ellipse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d83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8309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be298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9adc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aab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 type="dt" idx="46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66666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 type="ftr" idx="47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 type="sldNum" idx="48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A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4FF4B-A1A5-4F3E-AD94-EA1528E09C71}" type="slidenum">
              <a:rPr b="1" lang="de-A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Gerade Verbindung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e9adc8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Gerade Verbindung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e9a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Gerade Verbindung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d830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htec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9adc8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Gerade Verbindung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d830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El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83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8309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be298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9adc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aab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 type="dt" idx="4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66666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 type="sldNum" idx="5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A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0C87F-444B-4353-A026-95807782900F}" type="slidenum">
              <a:rPr b="1" lang="de-A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 type="ftr" idx="5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hteck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e9adc8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hteck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0cddc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hteck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0cdd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hteck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8e8ef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Gerade Verbindung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e9adc8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Gerade Verbindung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8e8ef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Gerade Verbindung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e9a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Gerade Verbindung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e9adc8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Gerade Verbindung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e9a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hteck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e9adc8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Ellipse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d83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Ellipse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d83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Ellipse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d83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Ellipse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d83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Ellipse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d83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Gerade Verbindung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e9a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2d2d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8309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be298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9adc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aab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52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2d2d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d2d2d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ftr" idx="53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 type="sldNum" idx="54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A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461F-61CF-4D90-9316-725C23B79174}" type="slidenum">
              <a:rPr b="1" lang="de-A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Gerade Verbindung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e9adc8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Gerade Verbindung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e9a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Gerade Verbindung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d830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Rechtec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9adc8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Gerade Verbindung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d830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El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83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8309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be298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9adc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aab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dt" idx="55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66666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5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A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A6FBC-6D11-439C-9E0B-643426CA6969}" type="slidenum">
              <a:rPr b="1" lang="de-A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 type="ftr" idx="57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Gerade Verbindung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e9adc8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8309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be298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9adc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aab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66666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Gerade Verbindung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e9a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Gerade Verbindung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d830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htec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9adc8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Gerade Verbindung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d830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El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83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A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5E55D-085B-419D-9019-A4C10078838E}" type="slidenum">
              <a:rPr b="1" lang="de-A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Gerade Verbindung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e9adc8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Gerade Verbindung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e9a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Gerade Verbindung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d830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Gerade Verbindung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d830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Rechteck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9adc8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Gerade Verbindung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d830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Ellipse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83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8309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be298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9adc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aab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58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66666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sldNum" idx="59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A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9EEDE-AAE4-40C2-8BBA-B36F7BD0C580}" type="slidenum">
              <a:rPr b="1" lang="de-A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ftr" idx="60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Gerade Verbindung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e9a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Ellipse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83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Gerade Verbindung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Rechteck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9ad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Gerade Verbindung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d830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Gerade Verbindung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e9a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Gerade Verbindung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d830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8309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be298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9adc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aab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 type="dt" idx="6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66666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 type="sldNum" idx="62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A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0E728-10E4-4BFF-9C04-F7B5F81FA2B2}" type="slidenum">
              <a:rPr b="1" lang="de-A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 type="ftr" idx="6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Gerade Verbindung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e9adc8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8309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be298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9adc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aab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66666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Gerade Verbindung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e9a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Gerade Verbindung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d830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htec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9adc8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Gerade Verbindung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d830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El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83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A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5FECA-9447-4EDA-A27C-EEB27FAAEE43}" type="slidenum">
              <a:rPr b="1" lang="de-A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hteck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e9adc8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hteck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0cddc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hteck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0cdd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hteck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8e8ef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Gerade Verbindung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e9adc8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Gerade Verbindung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8e8ef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Gerade Verbindung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e9a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Gerade Verbindung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e9adc8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Gerade Verbindung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e9a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Gerade Verbindung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e9a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hteck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e9adc8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llipse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d83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Ellipse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d83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Ellipse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d83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Ellipse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d83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Ellipse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d83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8309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be298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9adc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aab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66666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A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56457-60E8-48A9-9E82-52DEA350E493}" type="slidenum">
              <a:rPr b="1" lang="de-A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Gerade Verbindung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e9adc8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Gerade Verbindung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e9a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Gerade Verbindung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d830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htec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9adc8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Gerade Verbindung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d830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El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83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8309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be298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9adc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aab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66666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A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345F7-9725-4C59-9A37-D586B3869C2B}" type="slidenum">
              <a:rPr b="1" lang="de-A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hteck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e9adc8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hteck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0cddc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hteck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0cdd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hteck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8e8ef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Gerade Verbindung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e9adc8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Gerade Verbindung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8e8ef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Gerade Verbindung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e9a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Gerade Verbindung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e9adc8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Gerade Verbindung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e9a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hteck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e9adc8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Ellipse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d83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Ellipse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d83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Ellipse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d83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Ellipse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d83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Ellipse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d83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Gerade Verbindung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e9a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2d2d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8309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be298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9adc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aab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2d2d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d2d2d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A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B80D8-ED69-4097-8744-AA33FF5EE4B9}" type="slidenum">
              <a:rPr b="1" lang="de-A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Gerade Verbindung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e9adc8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Gerade Verbindung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e9a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Gerade Verbindung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d830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htec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9adc8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Gerade Verbindung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d830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El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83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8309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be298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9adc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aab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66666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A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415A7-570E-4F2A-8183-1264E01B6AF2}" type="slidenum">
              <a:rPr b="1" lang="de-A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Gerade Verbindung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e9adc8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Gerade Verbindung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e9a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Gerade Verbindung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d830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Gerade Verbindung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d830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hteck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9adc8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Gerade Verbindung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d830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Ellipse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83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8309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be298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9adc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aab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66666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sldNum" idx="2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A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8AB68-4639-4BA9-B478-88DCA8BFB3FA}" type="slidenum">
              <a:rPr b="1" lang="de-A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ftr" idx="2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Gerade Verbindung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e9a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Ellipse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83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Gerade Verbindung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hteck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9ad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Gerade Verbindung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d830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Gerade Verbindung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e9a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Gerade Verbindung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d830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8309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be298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9adc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aab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66666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sldNum" idx="2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A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967BB-F437-4F66-947A-653F14D5E4E3}" type="slidenum">
              <a:rPr b="1" lang="de-A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ftr" idx="27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portal.tirol.gv.at/moodle/course/view.php?id=2158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s://portal.tirol.gv.at/moodle/course/view.php?id=1014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s://portal.tirol.gv.at/moodle/course/view.php?id=1157" TargetMode="External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portal.tirol.gv.at/moodle/course/view.php?id=2207&amp;edit=0&amp;sesskey=7XRKas7KB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subTitle"/>
          </p:nvPr>
        </p:nvSpPr>
        <p:spPr>
          <a:xfrm>
            <a:off x="2285640" y="465300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666666"/>
                </a:solidFill>
                <a:latin typeface="Calibri"/>
              </a:rPr>
              <a:t>Lernplattform Moodle für SchulleiterInne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1" name="Textfeld 3"/>
          <p:cNvSpPr/>
          <p:nvPr/>
        </p:nvSpPr>
        <p:spPr>
          <a:xfrm>
            <a:off x="4987800" y="537372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alibri"/>
              </a:rPr>
              <a:t>Mag. Dietmar Auckenthaler</a:t>
            </a:r>
            <a:br>
              <a:rPr sz="1800"/>
            </a:br>
            <a:r>
              <a:rPr b="0" lang="de-AT" sz="1800" spc="-1" strike="noStrike">
                <a:solidFill>
                  <a:srgbClr val="7f7f7f"/>
                </a:solidFill>
                <a:latin typeface="Calibri"/>
              </a:rPr>
              <a:t>Andrea Prock, 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2" name="Grafik 4" descr="logo_tirol.gif"/>
          <p:cNvPicPr/>
          <p:nvPr/>
        </p:nvPicPr>
        <p:blipFill>
          <a:blip r:embed="rId1"/>
          <a:stretch/>
        </p:blipFill>
        <p:spPr>
          <a:xfrm>
            <a:off x="5786280" y="571680"/>
            <a:ext cx="2703600" cy="1844640"/>
          </a:xfrm>
          <a:prstGeom prst="rect">
            <a:avLst/>
          </a:prstGeom>
          <a:ln w="0">
            <a:noFill/>
          </a:ln>
        </p:spPr>
      </p:pic>
      <p:pic>
        <p:nvPicPr>
          <p:cNvPr id="1063" name="Bild 6" descr=""/>
          <p:cNvPicPr/>
          <p:nvPr/>
        </p:nvPicPr>
        <p:blipFill>
          <a:blip r:embed="rId2"/>
          <a:stretch/>
        </p:blipFill>
        <p:spPr>
          <a:xfrm>
            <a:off x="2340000" y="2492280"/>
            <a:ext cx="6345360" cy="2016360"/>
          </a:xfrm>
          <a:prstGeom prst="rect">
            <a:avLst/>
          </a:prstGeom>
          <a:ln w="0">
            <a:noFill/>
          </a:ln>
        </p:spPr>
      </p:pic>
      <p:sp>
        <p:nvSpPr>
          <p:cNvPr id="1064" name="Textfeld 1"/>
          <p:cNvSpPr/>
          <p:nvPr/>
        </p:nvSpPr>
        <p:spPr>
          <a:xfrm>
            <a:off x="7308720" y="6350040"/>
            <a:ext cx="15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alibri"/>
              </a:rPr>
              <a:t>März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600" spc="-1" strike="noStrike">
                <a:solidFill>
                  <a:srgbClr val="666666"/>
                </a:solidFill>
                <a:latin typeface="Cambria"/>
              </a:rPr>
              <a:t>VIRTUELLES KONFERENZZIMMER(LINK)</a:t>
            </a:r>
            <a:endParaRPr b="0" lang="en-US" sz="3600" spc="-1" strike="noStrike">
              <a:solidFill>
                <a:srgbClr val="666666"/>
              </a:solidFill>
              <a:latin typeface="Century Schoolbook"/>
            </a:endParaRPr>
          </a:p>
        </p:txBody>
      </p:sp>
      <p:pic>
        <p:nvPicPr>
          <p:cNvPr id="1104" name="Grafik 5" descr=""/>
          <p:cNvPicPr/>
          <p:nvPr/>
        </p:nvPicPr>
        <p:blipFill>
          <a:blip r:embed="rId1"/>
          <a:stretch/>
        </p:blipFill>
        <p:spPr>
          <a:xfrm>
            <a:off x="1522440" y="1450800"/>
            <a:ext cx="5786280" cy="5013360"/>
          </a:xfrm>
          <a:prstGeom prst="rect">
            <a:avLst/>
          </a:prstGeom>
          <a:ln w="0">
            <a:noFill/>
          </a:ln>
        </p:spPr>
      </p:pic>
      <p:cxnSp>
        <p:nvCxnSpPr>
          <p:cNvPr id="1105" name="Gerade Verbindung mit Pfeil 9"/>
          <p:cNvCxnSpPr/>
          <p:nvPr/>
        </p:nvCxnSpPr>
        <p:spPr>
          <a:xfrm flipH="1">
            <a:off x="6516000" y="1988640"/>
            <a:ext cx="964440" cy="361080"/>
          </a:xfrm>
          <a:prstGeom prst="straightConnector1">
            <a:avLst/>
          </a:prstGeom>
          <a:ln w="38160">
            <a:solidFill>
              <a:srgbClr val="dc0385"/>
            </a:solidFill>
            <a:miter/>
            <a:tailEnd len="med" type="triangle" w="med"/>
          </a:ln>
        </p:spPr>
      </p:cxnSp>
      <p:sp>
        <p:nvSpPr>
          <p:cNvPr id="1106" name="Textfeld 10"/>
          <p:cNvSpPr/>
          <p:nvPr/>
        </p:nvSpPr>
        <p:spPr>
          <a:xfrm>
            <a:off x="7451640" y="1727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595959"/>
                </a:solidFill>
                <a:latin typeface="Arial"/>
              </a:rPr>
              <a:t>Kal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Textfeld 14"/>
          <p:cNvSpPr/>
          <p:nvPr/>
        </p:nvSpPr>
        <p:spPr>
          <a:xfrm>
            <a:off x="7596360" y="3456000"/>
            <a:ext cx="122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595959"/>
                </a:solidFill>
                <a:latin typeface="Arial"/>
              </a:rPr>
              <a:t>Bald aktu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8" name="Gerade Verbindung mit Pfeil 16"/>
          <p:cNvCxnSpPr/>
          <p:nvPr/>
        </p:nvCxnSpPr>
        <p:spPr>
          <a:xfrm flipH="1">
            <a:off x="6638040" y="3777840"/>
            <a:ext cx="964440" cy="361080"/>
          </a:xfrm>
          <a:prstGeom prst="straightConnector1">
            <a:avLst/>
          </a:prstGeom>
          <a:ln w="38160">
            <a:solidFill>
              <a:srgbClr val="dc0385"/>
            </a:solidFill>
            <a:miter/>
            <a:tailEnd len="med" type="triangle" w="med"/>
          </a:ln>
        </p:spPr>
      </p:cxnSp>
      <p:cxnSp>
        <p:nvCxnSpPr>
          <p:cNvPr id="1109" name="Gerade Verbindung mit Pfeil 17"/>
          <p:cNvCxnSpPr/>
          <p:nvPr/>
        </p:nvCxnSpPr>
        <p:spPr>
          <a:xfrm>
            <a:off x="1331640" y="4508640"/>
            <a:ext cx="1369080" cy="505440"/>
          </a:xfrm>
          <a:prstGeom prst="straightConnector1">
            <a:avLst/>
          </a:prstGeom>
          <a:ln w="38160">
            <a:solidFill>
              <a:srgbClr val="dc0385"/>
            </a:solidFill>
            <a:miter/>
            <a:tailEnd len="med" type="triangle" w="med"/>
          </a:ln>
        </p:spPr>
      </p:cxnSp>
      <p:sp>
        <p:nvSpPr>
          <p:cNvPr id="1110" name="Textfeld 21"/>
          <p:cNvSpPr/>
          <p:nvPr/>
        </p:nvSpPr>
        <p:spPr>
          <a:xfrm>
            <a:off x="82440" y="3965400"/>
            <a:ext cx="132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595959"/>
                </a:solidFill>
                <a:latin typeface="Arial"/>
              </a:rPr>
              <a:t>Nachri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1" name="Gerade Verbindung mit Pfeil 22"/>
          <p:cNvCxnSpPr/>
          <p:nvPr/>
        </p:nvCxnSpPr>
        <p:spPr>
          <a:xfrm>
            <a:off x="1331640" y="5373720"/>
            <a:ext cx="1369080" cy="504000"/>
          </a:xfrm>
          <a:prstGeom prst="straightConnector1">
            <a:avLst/>
          </a:prstGeom>
          <a:ln w="38160">
            <a:solidFill>
              <a:srgbClr val="dc0385"/>
            </a:solidFill>
            <a:miter/>
            <a:tailEnd len="med" type="triangle" w="med"/>
          </a:ln>
        </p:spPr>
      </p:cxnSp>
      <p:sp>
        <p:nvSpPr>
          <p:cNvPr id="1112" name="Textfeld 23"/>
          <p:cNvSpPr/>
          <p:nvPr/>
        </p:nvSpPr>
        <p:spPr>
          <a:xfrm>
            <a:off x="179280" y="5033880"/>
            <a:ext cx="1320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595959"/>
                </a:solidFill>
                <a:latin typeface="Arial"/>
              </a:rPr>
              <a:t>Dokumente</a:t>
            </a:r>
            <a:br>
              <a:rPr sz="1600"/>
            </a:br>
            <a:r>
              <a:rPr b="0" lang="de-AT" sz="1600" spc="-1" strike="noStrike">
                <a:solidFill>
                  <a:srgbClr val="595959"/>
                </a:solidFill>
                <a:latin typeface="Arial"/>
              </a:rPr>
              <a:t>Formulare</a:t>
            </a:r>
            <a:br>
              <a:rPr sz="1600"/>
            </a:br>
            <a:r>
              <a:rPr b="0" lang="de-AT" sz="1600" spc="-1" strike="noStrike">
                <a:solidFill>
                  <a:srgbClr val="595959"/>
                </a:solidFill>
                <a:latin typeface="Arial"/>
              </a:rPr>
              <a:t>Planungen</a:t>
            </a:r>
            <a:br>
              <a:rPr sz="1600"/>
            </a:br>
            <a:r>
              <a:rPr b="0" lang="de-AT" sz="1600" spc="-1" strike="noStrike">
                <a:solidFill>
                  <a:srgbClr val="595959"/>
                </a:solidFill>
                <a:latin typeface="Arial"/>
              </a:rPr>
              <a:t>Protoko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595959"/>
                </a:solidFill>
                <a:latin typeface="Arial"/>
              </a:rPr>
              <a:t>Bilder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666666"/>
                </a:solidFill>
                <a:latin typeface="Cambria"/>
                <a:ea typeface="Calibri"/>
              </a:rPr>
              <a:t>PAUSE</a:t>
            </a:r>
            <a:endParaRPr b="0" lang="en-US" sz="4000" spc="-1" strike="noStrike">
              <a:solidFill>
                <a:srgbClr val="666666"/>
              </a:solidFill>
              <a:latin typeface="Century Schoolbook"/>
            </a:endParaRPr>
          </a:p>
        </p:txBody>
      </p:sp>
      <p:pic>
        <p:nvPicPr>
          <p:cNvPr id="1114" name="Picture 2" descr="C:\Users\Andrea\AppData\Local\Microsoft\Windows\Temporary Internet Files\Content.IE5\2OHY87FG\MP900422391[1].jpg"/>
          <p:cNvPicPr/>
          <p:nvPr/>
        </p:nvPicPr>
        <p:blipFill>
          <a:blip r:embed="rId1"/>
          <a:stretch/>
        </p:blipFill>
        <p:spPr>
          <a:xfrm>
            <a:off x="2565360" y="1600200"/>
            <a:ext cx="3251160" cy="4873680"/>
          </a:xfrm>
          <a:prstGeom prst="rect">
            <a:avLst/>
          </a:prstGeom>
          <a:ln w="0">
            <a:noFill/>
          </a:ln>
        </p:spPr>
      </p:pic>
      <p:sp>
        <p:nvSpPr>
          <p:cNvPr id="1115" name="Textfeld 3"/>
          <p:cNvSpPr/>
          <p:nvPr/>
        </p:nvSpPr>
        <p:spPr>
          <a:xfrm>
            <a:off x="6012000" y="5732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15 Minu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  <a:ea typeface="Calibri"/>
              </a:rPr>
              <a:t>www.tibs.a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  <a:ea typeface="Calibri"/>
              </a:rPr>
              <a:t>QuickLink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  <a:ea typeface="Calibri"/>
              </a:rPr>
              <a:t>ePortal Tiro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  <a:ea typeface="Calibri"/>
              </a:rPr>
              <a:t>Anwendungen: TSNmoodl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  <a:ea typeface="Calibri"/>
              </a:rPr>
              <a:t>Meine Kurs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  <a:ea typeface="Calibri"/>
              </a:rPr>
              <a:t>Kurs „Virtuelles Konferenzzimmer“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7" name="Titel 1"/>
          <p:cNvSpPr/>
          <p:nvPr/>
        </p:nvSpPr>
        <p:spPr>
          <a:xfrm>
            <a:off x="609480" y="426960"/>
            <a:ext cx="7467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666666"/>
                </a:solidFill>
                <a:latin typeface="Cambria"/>
                <a:ea typeface="Calibri"/>
              </a:rPr>
              <a:t>EINSTIEG INS TSNMOOD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666666"/>
                </a:solidFill>
                <a:latin typeface="Cambria"/>
              </a:rPr>
              <a:t>MOODLE-SELBSTLERNKURS (LINK)</a:t>
            </a:r>
            <a:endParaRPr b="0" lang="en-US" sz="4000" spc="-1" strike="noStrike">
              <a:solidFill>
                <a:srgbClr val="666666"/>
              </a:solidFill>
              <a:latin typeface="Century Schoolbook"/>
            </a:endParaRPr>
          </a:p>
        </p:txBody>
      </p:sp>
      <p:pic>
        <p:nvPicPr>
          <p:cNvPr id="1119" name="Inhaltsplatzhalter 3" descr=""/>
          <p:cNvPicPr/>
          <p:nvPr/>
        </p:nvPicPr>
        <p:blipFill>
          <a:blip r:embed="rId1"/>
          <a:stretch/>
        </p:blipFill>
        <p:spPr>
          <a:xfrm>
            <a:off x="681120" y="1600200"/>
            <a:ext cx="70200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666666"/>
                </a:solidFill>
                <a:latin typeface="Cambria"/>
              </a:rPr>
              <a:t>TSNMOODLE – NMS TIROL (LINK)</a:t>
            </a:r>
            <a:endParaRPr b="0" lang="en-US" sz="3200" spc="-1" strike="noStrike">
              <a:solidFill>
                <a:srgbClr val="666666"/>
              </a:solidFill>
              <a:latin typeface="Century Schoolbook"/>
            </a:endParaRPr>
          </a:p>
        </p:txBody>
      </p:sp>
      <p:pic>
        <p:nvPicPr>
          <p:cNvPr id="1121" name="Inhaltsplatzhalter 4" descr=""/>
          <p:cNvPicPr/>
          <p:nvPr/>
        </p:nvPicPr>
        <p:blipFill>
          <a:blip r:embed="rId1"/>
          <a:stretch/>
        </p:blipFill>
        <p:spPr>
          <a:xfrm>
            <a:off x="949320" y="1600200"/>
            <a:ext cx="6483240" cy="4873680"/>
          </a:xfrm>
          <a:prstGeom prst="rect">
            <a:avLst/>
          </a:prstGeom>
          <a:ln w="0">
            <a:noFill/>
          </a:ln>
        </p:spPr>
      </p:pic>
      <p:pic>
        <p:nvPicPr>
          <p:cNvPr id="1122" name="Grafik 6" descr=""/>
          <p:cNvPicPr/>
          <p:nvPr/>
        </p:nvPicPr>
        <p:blipFill>
          <a:blip r:embed="rId2"/>
          <a:stretch/>
        </p:blipFill>
        <p:spPr>
          <a:xfrm>
            <a:off x="755640" y="2133720"/>
            <a:ext cx="6696000" cy="435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666666"/>
                </a:solidFill>
                <a:latin typeface="Cambria"/>
              </a:rPr>
              <a:t>ZUGANGSSCHLÜSSEL</a:t>
            </a:r>
            <a:endParaRPr b="0" lang="en-US" sz="44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124" name=""/>
          <p:cNvSpPr txBox="1"/>
          <p:nvPr/>
        </p:nvSpPr>
        <p:spPr>
          <a:xfrm>
            <a:off x="456840" y="1627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alibri"/>
              </a:rPr>
              <a:t>Zugangsschlüssel zu den einzelnen Kursen der </a:t>
            </a:r>
            <a:br>
              <a:rPr sz="2400"/>
            </a:br>
            <a:r>
              <a:rPr b="0" lang="de-AT" sz="2400" spc="-1" strike="noStrike">
                <a:solidFill>
                  <a:srgbClr val="000000"/>
                </a:solidFill>
                <a:latin typeface="Calibri"/>
              </a:rPr>
              <a:t>TSNmoodle-Plattform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alibri"/>
              </a:rPr>
              <a:t>Deutsch</a:t>
            </a:r>
            <a:r>
              <a:rPr b="0" lang="de-AT" sz="2400" spc="-1" strike="noStrike">
                <a:solidFill>
                  <a:srgbClr val="000000"/>
                </a:solidFill>
                <a:latin typeface="Calibri"/>
              </a:rPr>
              <a:t>: goeth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alibri"/>
              </a:rPr>
              <a:t>Englisch</a:t>
            </a:r>
            <a:r>
              <a:rPr b="0" lang="de-AT" sz="2400" spc="-1" strike="noStrike">
                <a:solidFill>
                  <a:srgbClr val="000000"/>
                </a:solidFill>
                <a:latin typeface="Calibri"/>
              </a:rPr>
              <a:t>: quee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alibri"/>
              </a:rPr>
              <a:t>Mathematik</a:t>
            </a:r>
            <a:r>
              <a:rPr b="0" lang="de-AT" sz="2400" spc="-1" strike="noStrike">
                <a:solidFill>
                  <a:srgbClr val="000000"/>
                </a:solidFill>
                <a:latin typeface="Calibri"/>
              </a:rPr>
              <a:t>: sokrat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alibri"/>
              </a:rPr>
              <a:t>Lernfeld GEB</a:t>
            </a:r>
            <a:r>
              <a:rPr b="0" lang="de-AT" sz="2400" spc="-1" strike="noStrike">
                <a:solidFill>
                  <a:srgbClr val="000000"/>
                </a:solidFill>
                <a:latin typeface="Calibri"/>
              </a:rPr>
              <a:t>: hippokrat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alibri"/>
              </a:rPr>
              <a:t>Lernfeld Naturwissenschaften</a:t>
            </a:r>
            <a:r>
              <a:rPr b="0" lang="de-AT" sz="2400" spc="-1" strike="noStrike">
                <a:solidFill>
                  <a:srgbClr val="000000"/>
                </a:solidFill>
                <a:latin typeface="Calibri"/>
              </a:rPr>
              <a:t>: einstei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alibri"/>
              </a:rPr>
              <a:t>Lernfeld Kunst und Kreativität</a:t>
            </a:r>
            <a:r>
              <a:rPr b="0" lang="de-AT" sz="2400" spc="-1" strike="noStrike">
                <a:solidFill>
                  <a:srgbClr val="000000"/>
                </a:solidFill>
                <a:latin typeface="Calibri"/>
              </a:rPr>
              <a:t>: picass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alibri"/>
              </a:rPr>
              <a:t>Lernfeld Gesellschaft und Welt</a:t>
            </a:r>
            <a:r>
              <a:rPr b="0" lang="de-AT" sz="2400" spc="-1" strike="noStrike">
                <a:solidFill>
                  <a:srgbClr val="000000"/>
                </a:solidFill>
                <a:latin typeface="Calibri"/>
              </a:rPr>
              <a:t>: kolumbu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alibri"/>
              </a:rPr>
              <a:t>Lerndesign</a:t>
            </a:r>
            <a:r>
              <a:rPr b="0" lang="de-AT" sz="2400" spc="-1" strike="noStrike">
                <a:solidFill>
                  <a:srgbClr val="000000"/>
                </a:solidFill>
                <a:latin typeface="Calibri"/>
              </a:rPr>
              <a:t>: comeniu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alibri"/>
              </a:rPr>
              <a:t>E-Learning</a:t>
            </a:r>
            <a:r>
              <a:rPr b="0" lang="de-AT" sz="2400" spc="-1" strike="noStrike">
                <a:solidFill>
                  <a:srgbClr val="000000"/>
                </a:solidFill>
                <a:latin typeface="Calibri"/>
              </a:rPr>
              <a:t>: comput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125" name="Picture 2" descr=""/>
          <p:cNvPicPr/>
          <p:nvPr/>
        </p:nvPicPr>
        <p:blipFill>
          <a:blip r:embed="rId1"/>
          <a:stretch/>
        </p:blipFill>
        <p:spPr>
          <a:xfrm>
            <a:off x="5572080" y="428760"/>
            <a:ext cx="2494080" cy="12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666666"/>
                </a:solidFill>
                <a:latin typeface="Cambria"/>
                <a:ea typeface="Calibri"/>
              </a:rPr>
              <a:t>DANKE</a:t>
            </a:r>
            <a:endParaRPr b="0" lang="en-US" sz="4000" spc="-1" strike="noStrike">
              <a:solidFill>
                <a:srgbClr val="666666"/>
              </a:solidFill>
              <a:latin typeface="Century Schoolbook"/>
            </a:endParaRPr>
          </a:p>
        </p:txBody>
      </p:sp>
      <p:pic>
        <p:nvPicPr>
          <p:cNvPr id="1127" name="Inhaltsplatzhalter 4" descr=""/>
          <p:cNvPicPr/>
          <p:nvPr/>
        </p:nvPicPr>
        <p:blipFill>
          <a:blip r:embed="rId1"/>
          <a:stretch/>
        </p:blipFill>
        <p:spPr>
          <a:xfrm>
            <a:off x="1979640" y="1341360"/>
            <a:ext cx="498456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666666"/>
                </a:solidFill>
                <a:latin typeface="Cambria"/>
              </a:rPr>
              <a:t>E-LEARNING</a:t>
            </a:r>
            <a:endParaRPr b="0" lang="en-US" sz="4400" spc="-1" strike="noStrike">
              <a:solidFill>
                <a:srgbClr val="666666"/>
              </a:solidFill>
              <a:latin typeface="Century Schoolbook"/>
            </a:endParaRPr>
          </a:p>
        </p:txBody>
      </p:sp>
      <p:pic>
        <p:nvPicPr>
          <p:cNvPr id="1066" name="Grafik 3" descr="e-learning-klasse.jpg"/>
          <p:cNvPicPr/>
          <p:nvPr/>
        </p:nvPicPr>
        <p:blipFill>
          <a:blip r:embed="rId1"/>
          <a:stretch/>
        </p:blipFill>
        <p:spPr>
          <a:xfrm>
            <a:off x="714240" y="1571760"/>
            <a:ext cx="697068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595959"/>
                </a:solidFill>
                <a:latin typeface="Cambria"/>
              </a:rPr>
              <a:t>AGENDA</a:t>
            </a:r>
            <a:endParaRPr b="0" lang="en-US" sz="4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068" name=""/>
          <p:cNvSpPr txBox="1"/>
          <p:nvPr/>
        </p:nvSpPr>
        <p:spPr>
          <a:xfrm>
            <a:off x="457200" y="1600200"/>
            <a:ext cx="77580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alibri"/>
              </a:rPr>
              <a:t>Lernplattform Moodle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alibri"/>
              </a:rPr>
              <a:t>Beispiel: Virtuelles Konferenzzimmer der NMS 2 Jenbach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alibri"/>
              </a:rPr>
              <a:t>Diskussion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07680" indent="-259200">
              <a:lnSpc>
                <a:spcPct val="100000"/>
              </a:lnSpc>
              <a:spcBef>
                <a:spcPts val="601"/>
              </a:spcBef>
              <a:buClr>
                <a:srgbClr val="d8309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alibri"/>
              </a:rPr>
              <a:t>Pause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de-AT" sz="2400" spc="-1" strike="noStrike">
                <a:solidFill>
                  <a:srgbClr val="000000"/>
                </a:solidFill>
                <a:latin typeface="Calibri"/>
              </a:rPr>
              <a:t>Moodlen“ im virtuellen Konferenzzimm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07680" indent="-259200">
              <a:lnSpc>
                <a:spcPct val="100000"/>
              </a:lnSpc>
              <a:spcBef>
                <a:spcPts val="524"/>
              </a:spcBef>
              <a:buClr>
                <a:srgbClr val="d8309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100" spc="-1" strike="noStrike">
                <a:solidFill>
                  <a:srgbClr val="000000"/>
                </a:solidFill>
                <a:latin typeface="Calibri"/>
              </a:rPr>
              <a:t>Kalender – Termine eingebe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07680" indent="-259200">
              <a:lnSpc>
                <a:spcPct val="100000"/>
              </a:lnSpc>
              <a:spcBef>
                <a:spcPts val="524"/>
              </a:spcBef>
              <a:buClr>
                <a:srgbClr val="d8309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100" spc="-1" strike="noStrike">
                <a:solidFill>
                  <a:srgbClr val="000000"/>
                </a:solidFill>
                <a:latin typeface="Calibri"/>
              </a:rPr>
              <a:t>Nachrichtenforum – Beitrag schreibe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07680" indent="-259200">
              <a:lnSpc>
                <a:spcPct val="100000"/>
              </a:lnSpc>
              <a:spcBef>
                <a:spcPts val="524"/>
              </a:spcBef>
              <a:buClr>
                <a:srgbClr val="d8309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100" spc="-1" strike="noStrike">
                <a:solidFill>
                  <a:srgbClr val="000000"/>
                </a:solidFill>
                <a:latin typeface="Calibri"/>
              </a:rPr>
              <a:t>Dokumente hochladen und verwalte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07680" indent="-259200">
              <a:lnSpc>
                <a:spcPct val="100000"/>
              </a:lnSpc>
              <a:spcBef>
                <a:spcPts val="524"/>
              </a:spcBef>
              <a:buClr>
                <a:srgbClr val="d8309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100" spc="-1" strike="noStrike">
                <a:solidFill>
                  <a:srgbClr val="000000"/>
                </a:solidFill>
                <a:latin typeface="Calibri"/>
              </a:rPr>
              <a:t>Auf Webseiten verlinke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alibri"/>
              </a:rPr>
              <a:t>Kurse für Lehrpersonen auf TSNmoodl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069" name="Grafik 4" descr="pc01.jpg"/>
          <p:cNvPicPr/>
          <p:nvPr/>
        </p:nvPicPr>
        <p:blipFill>
          <a:blip r:embed="rId1"/>
          <a:stretch/>
        </p:blipFill>
        <p:spPr>
          <a:xfrm>
            <a:off x="7000920" y="214200"/>
            <a:ext cx="1436760" cy="1447920"/>
          </a:xfrm>
          <a:prstGeom prst="rect">
            <a:avLst/>
          </a:prstGeom>
          <a:ln w="0">
            <a:noFill/>
          </a:ln>
        </p:spPr>
      </p:pic>
      <p:pic>
        <p:nvPicPr>
          <p:cNvPr id="1070" name="Grafik 3" descr=""/>
          <p:cNvPicPr/>
          <p:nvPr/>
        </p:nvPicPr>
        <p:blipFill>
          <a:blip r:embed="rId2"/>
          <a:stretch/>
        </p:blipFill>
        <p:spPr>
          <a:xfrm>
            <a:off x="3564000" y="2924280"/>
            <a:ext cx="150336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666666"/>
                </a:solidFill>
                <a:latin typeface="Cambria"/>
              </a:rPr>
              <a:t>WEB 2.0</a:t>
            </a:r>
            <a:endParaRPr b="0" lang="en-US" sz="44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072" name=""/>
          <p:cNvSpPr txBox="1"/>
          <p:nvPr/>
        </p:nvSpPr>
        <p:spPr>
          <a:xfrm>
            <a:off x="457200" y="2362320"/>
            <a:ext cx="49068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Lernplattform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ocial Softwar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Wiki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-Portfolio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log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Podcas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reencas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YouTub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Google Doc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Twitter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3" name=""/>
          <p:cNvSpPr txBox="1"/>
          <p:nvPr/>
        </p:nvSpPr>
        <p:spPr>
          <a:xfrm>
            <a:off x="488880" y="1602000"/>
            <a:ext cx="7765560" cy="594720"/>
          </a:xfrm>
          <a:prstGeom prst="rect">
            <a:avLst/>
          </a:prstGeom>
          <a:solidFill>
            <a:srgbClr val="d83094"/>
          </a:solidFill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ffffff"/>
                </a:solidFill>
                <a:latin typeface="Cambria"/>
              </a:rPr>
              <a:t>Web zum Mitmachen - Interaktivitä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074" name="Bild 4" descr=""/>
          <p:cNvPicPr/>
          <p:nvPr/>
        </p:nvPicPr>
        <p:blipFill>
          <a:blip r:embed="rId1"/>
          <a:stretch/>
        </p:blipFill>
        <p:spPr>
          <a:xfrm>
            <a:off x="3635280" y="2421000"/>
            <a:ext cx="404820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666666"/>
                </a:solidFill>
                <a:latin typeface="Cambria"/>
              </a:rPr>
              <a:t>LERNPLATTFORM</a:t>
            </a:r>
            <a:endParaRPr b="0" lang="en-US" sz="4000" spc="-1" strike="noStrike">
              <a:solidFill>
                <a:srgbClr val="666666"/>
              </a:solidFill>
              <a:latin typeface="Century Schoolbook"/>
            </a:endParaRPr>
          </a:p>
        </p:txBody>
      </p:sp>
      <p:pic>
        <p:nvPicPr>
          <p:cNvPr id="1076" name="Bild 2" descr=""/>
          <p:cNvPicPr/>
          <p:nvPr/>
        </p:nvPicPr>
        <p:blipFill>
          <a:blip r:embed="rId1"/>
          <a:stretch/>
        </p:blipFill>
        <p:spPr>
          <a:xfrm>
            <a:off x="5148360" y="189000"/>
            <a:ext cx="3463920" cy="1663560"/>
          </a:xfrm>
          <a:prstGeom prst="rect">
            <a:avLst/>
          </a:prstGeom>
          <a:ln w="0">
            <a:noFill/>
          </a:ln>
        </p:spPr>
      </p:pic>
      <p:pic>
        <p:nvPicPr>
          <p:cNvPr id="1077" name="Inhaltsplatzhalter 3" descr=""/>
          <p:cNvPicPr/>
          <p:nvPr/>
        </p:nvPicPr>
        <p:blipFill>
          <a:blip r:embed="rId2"/>
          <a:stretch/>
        </p:blipFill>
        <p:spPr>
          <a:xfrm>
            <a:off x="615960" y="1547640"/>
            <a:ext cx="3263760" cy="2448000"/>
          </a:xfrm>
          <a:prstGeom prst="rect">
            <a:avLst/>
          </a:prstGeom>
          <a:ln w="0">
            <a:noFill/>
          </a:ln>
        </p:spPr>
      </p:pic>
      <p:pic>
        <p:nvPicPr>
          <p:cNvPr id="1078" name="Grafik 5" descr=""/>
          <p:cNvPicPr/>
          <p:nvPr/>
        </p:nvPicPr>
        <p:blipFill>
          <a:blip r:embed="rId3"/>
          <a:stretch/>
        </p:blipFill>
        <p:spPr>
          <a:xfrm>
            <a:off x="611280" y="4173480"/>
            <a:ext cx="3265560" cy="2448000"/>
          </a:xfrm>
          <a:prstGeom prst="rect">
            <a:avLst/>
          </a:prstGeom>
          <a:ln w="0">
            <a:noFill/>
          </a:ln>
        </p:spPr>
      </p:pic>
      <p:pic>
        <p:nvPicPr>
          <p:cNvPr id="1079" name="Grafik 7" descr=""/>
          <p:cNvPicPr/>
          <p:nvPr/>
        </p:nvPicPr>
        <p:blipFill>
          <a:blip r:embed="rId4"/>
          <a:stretch/>
        </p:blipFill>
        <p:spPr>
          <a:xfrm>
            <a:off x="4205160" y="1557360"/>
            <a:ext cx="3264120" cy="2448000"/>
          </a:xfrm>
          <a:prstGeom prst="rect">
            <a:avLst/>
          </a:prstGeom>
          <a:ln w="0">
            <a:noFill/>
          </a:ln>
        </p:spPr>
      </p:pic>
      <p:pic>
        <p:nvPicPr>
          <p:cNvPr id="1080" name="Grafik 8" descr=""/>
          <p:cNvPicPr/>
          <p:nvPr/>
        </p:nvPicPr>
        <p:blipFill>
          <a:blip r:embed="rId5"/>
          <a:stretch/>
        </p:blipFill>
        <p:spPr>
          <a:xfrm>
            <a:off x="4211640" y="4149720"/>
            <a:ext cx="3263760" cy="2448000"/>
          </a:xfrm>
          <a:prstGeom prst="rect">
            <a:avLst/>
          </a:prstGeom>
          <a:ln w="0">
            <a:noFill/>
          </a:ln>
        </p:spPr>
      </p:pic>
      <p:cxnSp>
        <p:nvCxnSpPr>
          <p:cNvPr id="1081" name="Gerade Verbindung mit Pfeil 10"/>
          <p:cNvCxnSpPr>
            <a:stCxn id="1077" idx="3"/>
            <a:endCxn id="1079" idx="1"/>
          </p:cNvCxnSpPr>
          <p:nvPr/>
        </p:nvCxnSpPr>
        <p:spPr>
          <a:xfrm>
            <a:off x="3879720" y="2771280"/>
            <a:ext cx="326160" cy="10440"/>
          </a:xfrm>
          <a:prstGeom prst="straightConnector1">
            <a:avLst/>
          </a:prstGeom>
          <a:ln w="28440">
            <a:solidFill>
              <a:srgbClr val="dc0385"/>
            </a:solidFill>
            <a:miter/>
            <a:tailEnd len="med" type="arrow" w="med"/>
          </a:ln>
        </p:spPr>
      </p:cxnSp>
      <p:cxnSp>
        <p:nvCxnSpPr>
          <p:cNvPr id="1082" name="Gerade Verbindung mit Pfeil 13"/>
          <p:cNvCxnSpPr/>
          <p:nvPr/>
        </p:nvCxnSpPr>
        <p:spPr>
          <a:xfrm flipH="1">
            <a:off x="3879360" y="4005000"/>
            <a:ext cx="332640" cy="168840"/>
          </a:xfrm>
          <a:prstGeom prst="straightConnector1">
            <a:avLst/>
          </a:prstGeom>
          <a:ln w="28440">
            <a:solidFill>
              <a:srgbClr val="dc0385"/>
            </a:solidFill>
            <a:miter/>
            <a:tailEnd len="med" type="arrow" w="med"/>
          </a:ln>
        </p:spPr>
      </p:cxnSp>
      <p:cxnSp>
        <p:nvCxnSpPr>
          <p:cNvPr id="1083" name="Gerade Verbindung mit Pfeil 17"/>
          <p:cNvCxnSpPr/>
          <p:nvPr/>
        </p:nvCxnSpPr>
        <p:spPr>
          <a:xfrm>
            <a:off x="3886200" y="5516640"/>
            <a:ext cx="326160" cy="10080"/>
          </a:xfrm>
          <a:prstGeom prst="straightConnector1">
            <a:avLst/>
          </a:prstGeom>
          <a:ln w="28440">
            <a:solidFill>
              <a:srgbClr val="dc0385"/>
            </a:solidFill>
            <a:miter/>
            <a:tailEnd len="med" type="arrow" w="med"/>
          </a:ln>
        </p:spPr>
      </p:cxn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666666"/>
                </a:solidFill>
                <a:latin typeface="Cambria"/>
              </a:rPr>
              <a:t>LERNPLATTFORM</a:t>
            </a:r>
            <a:endParaRPr b="0" lang="en-US" sz="4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085" name=""/>
          <p:cNvSpPr txBox="1"/>
          <p:nvPr/>
        </p:nvSpPr>
        <p:spPr>
          <a:xfrm>
            <a:off x="457200" y="1600200"/>
            <a:ext cx="77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alibri"/>
                <a:ea typeface="Calibri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d8309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100" spc="-1" strike="noStrike">
                <a:solidFill>
                  <a:srgbClr val="000000"/>
                </a:solidFill>
                <a:latin typeface="Calibri"/>
                <a:ea typeface="Calibri"/>
              </a:rPr>
              <a:t>Arbeitsunterlagen, Dateien, Wörterbuch, Lektion, Wiki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alibri"/>
                <a:ea typeface="Calibri"/>
              </a:rPr>
              <a:t>Kommunik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d8309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100" spc="-1" strike="noStrike">
                <a:solidFill>
                  <a:srgbClr val="000000"/>
                </a:solidFill>
                <a:latin typeface="Calibri"/>
                <a:ea typeface="Calibri"/>
              </a:rPr>
              <a:t>Foren, Chat, Messenger, Abstimmung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alibri"/>
                <a:ea typeface="Calibri"/>
              </a:rPr>
              <a:t>Kooper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d8309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100" spc="-1" strike="noStrike">
                <a:solidFill>
                  <a:srgbClr val="000000"/>
                </a:solidFill>
                <a:latin typeface="Calibri"/>
                <a:ea typeface="Calibri"/>
              </a:rPr>
              <a:t>Wiki, Wörterbuch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alibri"/>
                <a:ea typeface="Calibri"/>
              </a:rPr>
              <a:t>Wiederholungen, Prüfunge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d8309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100" spc="-1" strike="noStrike">
                <a:solidFill>
                  <a:srgbClr val="000000"/>
                </a:solidFill>
                <a:latin typeface="Calibri"/>
                <a:ea typeface="Calibri"/>
              </a:rPr>
              <a:t>Lektion, Wiki, Workshop, Test, Aufgab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alibri"/>
                <a:ea typeface="Calibri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d8309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100" spc="-1" strike="noStrike">
                <a:solidFill>
                  <a:srgbClr val="000000"/>
                </a:solidFill>
                <a:latin typeface="Calibri"/>
                <a:ea typeface="Calibri"/>
              </a:rPr>
              <a:t>Umfrage, Test, Aufgabe, Abstimmung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086" name="Bild 2" descr=""/>
          <p:cNvPicPr/>
          <p:nvPr/>
        </p:nvPicPr>
        <p:blipFill>
          <a:blip r:embed="rId1"/>
          <a:stretch/>
        </p:blipFill>
        <p:spPr>
          <a:xfrm>
            <a:off x="5148360" y="189000"/>
            <a:ext cx="3463920" cy="16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7" name="Grafik 1" descr="kurs_arbeitsauftrag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5840" y="1214280"/>
            <a:ext cx="8383320" cy="4400640"/>
          </a:xfrm>
          <a:prstGeom prst="rect">
            <a:avLst/>
          </a:prstGeom>
          <a:ln w="0">
            <a:noFill/>
          </a:ln>
        </p:spPr>
      </p:pic>
      <p:sp>
        <p:nvSpPr>
          <p:cNvPr id="1088" name="Rechteck 4"/>
          <p:cNvSpPr/>
          <p:nvPr/>
        </p:nvSpPr>
        <p:spPr>
          <a:xfrm>
            <a:off x="380880" y="446040"/>
            <a:ext cx="71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600" spc="-1" strike="noStrike">
                <a:solidFill>
                  <a:srgbClr val="696969"/>
                </a:solidFill>
                <a:latin typeface="Cambria"/>
              </a:rPr>
              <a:t>S</a:t>
            </a:r>
            <a:r>
              <a:rPr b="1" lang="de-AT" sz="2800" spc="-1" strike="noStrike">
                <a:solidFill>
                  <a:srgbClr val="696969"/>
                </a:solidFill>
                <a:latin typeface="Cambria"/>
              </a:rPr>
              <a:t>chülerkurs „Die Fabel“ (</a:t>
            </a:r>
            <a:r>
              <a:rPr b="0" lang="de-AT" sz="2800" spc="-1" strike="noStrike" u="sng">
                <a:solidFill>
                  <a:srgbClr val="17bbfd"/>
                </a:solidFill>
                <a:uFillTx/>
                <a:latin typeface="Cambria"/>
                <a:hlinkClick r:id="rId3"/>
              </a:rPr>
              <a:t>Link</a:t>
            </a:r>
            <a:r>
              <a:rPr b="1" lang="de-AT" sz="2800" spc="-1" strike="noStrike">
                <a:solidFill>
                  <a:srgbClr val="696969"/>
                </a:solidFill>
                <a:latin typeface="Cambria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Grafik 2" descr=""/>
          <p:cNvPicPr/>
          <p:nvPr/>
        </p:nvPicPr>
        <p:blipFill>
          <a:blip r:embed="rId1"/>
          <a:stretch/>
        </p:blipFill>
        <p:spPr>
          <a:xfrm>
            <a:off x="1054080" y="1433520"/>
            <a:ext cx="6191280" cy="5143320"/>
          </a:xfrm>
          <a:prstGeom prst="rect">
            <a:avLst/>
          </a:prstGeom>
          <a:ln w="0">
            <a:noFill/>
          </a:ln>
        </p:spPr>
      </p:pic>
      <p:cxnSp>
        <p:nvCxnSpPr>
          <p:cNvPr id="1090" name="Gerade Verbindung mit Pfeil 10"/>
          <p:cNvCxnSpPr/>
          <p:nvPr/>
        </p:nvCxnSpPr>
        <p:spPr>
          <a:xfrm flipH="1">
            <a:off x="4284000" y="1989000"/>
            <a:ext cx="3312360" cy="720000"/>
          </a:xfrm>
          <a:prstGeom prst="straightConnector1">
            <a:avLst/>
          </a:prstGeom>
          <a:ln w="38160">
            <a:solidFill>
              <a:srgbClr val="dc0385"/>
            </a:solidFill>
            <a:miter/>
            <a:tailEnd len="med" type="triangle" w="med"/>
          </a:ln>
        </p:spPr>
      </p:cxnSp>
      <p:cxnSp>
        <p:nvCxnSpPr>
          <p:cNvPr id="1091" name="Gerade Verbindung mit Pfeil 13"/>
          <p:cNvCxnSpPr/>
          <p:nvPr/>
        </p:nvCxnSpPr>
        <p:spPr>
          <a:xfrm flipH="1">
            <a:off x="4066560" y="4005360"/>
            <a:ext cx="3529800" cy="792720"/>
          </a:xfrm>
          <a:prstGeom prst="straightConnector1">
            <a:avLst/>
          </a:prstGeom>
          <a:ln w="38160">
            <a:solidFill>
              <a:srgbClr val="dc0385"/>
            </a:solidFill>
            <a:miter/>
            <a:tailEnd len="med" type="triangle" w="med"/>
          </a:ln>
        </p:spPr>
      </p:cxnSp>
      <p:cxnSp>
        <p:nvCxnSpPr>
          <p:cNvPr id="1092" name="Gerade Verbindung mit Pfeil 15"/>
          <p:cNvCxnSpPr/>
          <p:nvPr/>
        </p:nvCxnSpPr>
        <p:spPr>
          <a:xfrm flipH="1">
            <a:off x="4222080" y="5300280"/>
            <a:ext cx="3445560" cy="793080"/>
          </a:xfrm>
          <a:prstGeom prst="straightConnector1">
            <a:avLst/>
          </a:prstGeom>
          <a:ln w="38160">
            <a:solidFill>
              <a:srgbClr val="dc0385"/>
            </a:solidFill>
            <a:miter/>
            <a:tailEnd len="med" type="triangle" w="med"/>
          </a:ln>
        </p:spPr>
      </p:cxnSp>
      <p:sp>
        <p:nvSpPr>
          <p:cNvPr id="1093" name="Textfeld 18"/>
          <p:cNvSpPr/>
          <p:nvPr/>
        </p:nvSpPr>
        <p:spPr>
          <a:xfrm>
            <a:off x="7524720" y="170028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Vid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Bilder</a:t>
            </a:r>
            <a:br>
              <a:rPr sz="1800"/>
            </a:b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Diash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Textfeld 19"/>
          <p:cNvSpPr/>
          <p:nvPr/>
        </p:nvSpPr>
        <p:spPr>
          <a:xfrm>
            <a:off x="7524720" y="3754440"/>
            <a:ext cx="10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Arbeits-</a:t>
            </a:r>
            <a:br>
              <a:rPr sz="1800"/>
            </a:b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blä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Textfeld 20"/>
          <p:cNvSpPr/>
          <p:nvPr/>
        </p:nvSpPr>
        <p:spPr>
          <a:xfrm>
            <a:off x="7524720" y="503064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Quiz</a:t>
            </a:r>
            <a:br>
              <a:rPr sz="1800"/>
            </a:b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Aufträ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6" name="Gerade Verbindung mit Pfeil 22"/>
          <p:cNvCxnSpPr/>
          <p:nvPr/>
        </p:nvCxnSpPr>
        <p:spPr>
          <a:xfrm>
            <a:off x="899640" y="3141720"/>
            <a:ext cx="1893240" cy="1302480"/>
          </a:xfrm>
          <a:prstGeom prst="straightConnector1">
            <a:avLst/>
          </a:prstGeom>
          <a:ln w="38160">
            <a:solidFill>
              <a:srgbClr val="dc0385"/>
            </a:solidFill>
            <a:miter/>
            <a:tailEnd len="med" type="triangle" w="med"/>
          </a:ln>
        </p:spPr>
      </p:cxnSp>
      <p:sp>
        <p:nvSpPr>
          <p:cNvPr id="1097" name="Textfeld 23"/>
          <p:cNvSpPr/>
          <p:nvPr/>
        </p:nvSpPr>
        <p:spPr>
          <a:xfrm>
            <a:off x="179280" y="275436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Forum</a:t>
            </a:r>
            <a:br>
              <a:rPr sz="1800"/>
            </a:b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C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8" name="Gerade Verbindung mit Pfeil 24"/>
          <p:cNvCxnSpPr/>
          <p:nvPr/>
        </p:nvCxnSpPr>
        <p:spPr>
          <a:xfrm flipV="1">
            <a:off x="539280" y="4581360"/>
            <a:ext cx="670680" cy="648360"/>
          </a:xfrm>
          <a:prstGeom prst="straightConnector1">
            <a:avLst/>
          </a:prstGeom>
          <a:ln w="38160">
            <a:solidFill>
              <a:srgbClr val="dc0385"/>
            </a:solidFill>
            <a:miter/>
            <a:tailEnd len="med" type="triangle" w="med"/>
          </a:ln>
        </p:spPr>
      </p:cxnSp>
      <p:sp>
        <p:nvSpPr>
          <p:cNvPr id="1099" name="Textfeld 28"/>
          <p:cNvSpPr/>
          <p:nvPr/>
        </p:nvSpPr>
        <p:spPr>
          <a:xfrm>
            <a:off x="179280" y="5159520"/>
            <a:ext cx="103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Bewer-t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Rechteck 4"/>
          <p:cNvSpPr/>
          <p:nvPr/>
        </p:nvSpPr>
        <p:spPr>
          <a:xfrm>
            <a:off x="380880" y="446040"/>
            <a:ext cx="71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696969"/>
                </a:solidFill>
                <a:latin typeface="Cambria"/>
              </a:rPr>
              <a:t>S</a:t>
            </a:r>
            <a:r>
              <a:rPr b="1" lang="de-AT" sz="2800" spc="-1" strike="noStrike">
                <a:solidFill>
                  <a:srgbClr val="696969"/>
                </a:solidFill>
                <a:latin typeface="Cambria"/>
              </a:rPr>
              <a:t>CHÜLERKURS „Regenwald“ (</a:t>
            </a:r>
            <a:r>
              <a:rPr b="0" lang="de-AT" sz="2800" spc="-1" strike="noStrike" u="sng">
                <a:solidFill>
                  <a:srgbClr val="17bbfd"/>
                </a:solidFill>
                <a:uFillTx/>
                <a:latin typeface="Cambria"/>
                <a:hlinkClick r:id="rId2"/>
              </a:rPr>
              <a:t>Link</a:t>
            </a:r>
            <a:r>
              <a:rPr b="1" lang="de-AT" sz="2800" spc="-1" strike="noStrike">
                <a:solidFill>
                  <a:srgbClr val="696969"/>
                </a:solidFill>
                <a:latin typeface="Cambria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600" spc="-1" strike="noStrike">
                <a:solidFill>
                  <a:srgbClr val="666666"/>
                </a:solidFill>
                <a:latin typeface="Cambria"/>
              </a:rPr>
              <a:t>VIRTUELLES KLASSENZIMMER (</a:t>
            </a:r>
            <a:r>
              <a:rPr b="0" lang="de-AT" sz="3600" spc="-1" strike="noStrike" u="sng">
                <a:solidFill>
                  <a:srgbClr val="17bbfd"/>
                </a:solidFill>
                <a:uFillTx/>
                <a:latin typeface="Cambria"/>
                <a:hlinkClick r:id="rId1"/>
              </a:rPr>
              <a:t>LINK</a:t>
            </a:r>
            <a:r>
              <a:rPr b="1" lang="de-AT" sz="3600" spc="-1" strike="noStrike">
                <a:solidFill>
                  <a:srgbClr val="666666"/>
                </a:solidFill>
                <a:latin typeface="Cambria"/>
              </a:rPr>
              <a:t>)</a:t>
            </a:r>
            <a:endParaRPr b="0" lang="en-US" sz="3600" spc="-1" strike="noStrike">
              <a:solidFill>
                <a:srgbClr val="666666"/>
              </a:solidFill>
              <a:latin typeface="Century Schoolbook"/>
            </a:endParaRPr>
          </a:p>
        </p:txBody>
      </p:sp>
      <p:pic>
        <p:nvPicPr>
          <p:cNvPr id="1102" name="Inhaltsplatzhalter 3" descr=""/>
          <p:cNvPicPr/>
          <p:nvPr/>
        </p:nvPicPr>
        <p:blipFill>
          <a:blip r:embed="rId2"/>
          <a:stretch/>
        </p:blipFill>
        <p:spPr>
          <a:xfrm>
            <a:off x="457200" y="1844640"/>
            <a:ext cx="74674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6T17:22:41Z</dcterms:created>
  <dc:creator>Windows-Benutzer</dc:creator>
  <dc:description/>
  <dc:language>en-US</dc:language>
  <cp:lastModifiedBy>Andrea</cp:lastModifiedBy>
  <dcterms:modified xsi:type="dcterms:W3CDTF">2012-03-06T16:43:30Z</dcterms:modified>
  <cp:revision>605</cp:revision>
  <dc:subject/>
  <dc:title>E-Learning</dc:title>
</cp:coreProperties>
</file>