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31.png" ContentType="image/png"/>
  <Override PartName="/ppt/media/image45.jpeg" ContentType="image/jpeg"/>
  <Override PartName="/ppt/media/image32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8.png" ContentType="image/pn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96D9-F634-4AC5-B24A-5110837F646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72D7-57F7-4A87-B412-29BADBF2A372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B031-F3C8-448F-BC6B-18113B7FC00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15B2-7700-496C-992F-884CE456D233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FF81-1D97-49F7-9CB1-DC46B2E3F07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B2D2-B4E6-4788-9D14-EFC7837F2E2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D8EA-9EA8-4452-91C9-CEFCD1B4120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0DD5-E465-4C2A-8F82-1E5CB756C6E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3799-DCA1-44BC-96C9-FA58E3AFB16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C928-9414-454A-ACB9-9A28AAE3068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8458-0756-4EB2-80B2-4B078341963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AA5-5E4F-43B5-80F6-8CE33F9D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F12-8C76-43B0-B321-B9643D9E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5A0919-7C5D-47CE-BF47-85122810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460BD9-6CA8-439F-B815-D71E29AA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350A0-6232-412F-BE9D-9E477FA5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3C254-1470-4798-B2C4-12D08061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AFF09E-E1EA-4E0B-8AC0-DC4D68BC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060342-AF5A-4088-8F3E-CD57E88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D2B4C2-FC61-4190-9A0B-5E60CF76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31A69A-A339-4BC0-9725-7A657DD6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02983-40F4-4BF8-BA57-FAC9D748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EFE299-D049-47CF-B392-3480571A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B7A-0893-4F58-9EE6-C973FD38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D5B1AC-AE55-4EC2-8D09-A67E006E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467B05-9F48-46B9-91EA-F51E3FB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C1B0CC-C50D-42B6-97F1-A5E58910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DDE259-1162-446C-957D-36D125B4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D69DE8-3DCB-4028-A485-3BC1A263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CDC88C-81CA-48E2-9F04-18E431B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433971-DF8D-41E2-8701-FF0BD78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9FDBCE-75E8-43D9-8017-33962F0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0FF245-3298-4B25-81B0-62E4C3F7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367FBD-1B1A-46E5-A80F-EF4410EA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FA0-5FDB-4B11-B0C5-F8F505AC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84A8AA-5A89-472B-AC34-38463AE5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E3B836-3697-4C3E-8146-2F80E063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439B16-BC8E-41BA-8B90-404C3190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E07E37-6CA5-4F58-86C5-ED0D839E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0BFD42-D139-4DA7-9EB8-D50C2496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731647-4409-4558-BC41-ACC50432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8230FD-A269-4E7E-B47A-AAC9F7FF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96C45B-300A-4E83-BCBB-AF5775D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DA77C4-5114-4C67-B72F-C8368AC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11E700-B0F5-45EE-82E0-349ADCF8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F76C-DFB6-447D-A058-7C133853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B45865-F00D-4BF9-B631-D8FBD48E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2FBBB9-D2F2-40A8-8F23-2AA82224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758534-5347-4220-A9D2-E6C0E51C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23C783-E10D-4CA9-89AF-F5C86FF4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178682-BE9F-4ECB-836C-0E50C53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29BDB1-17CF-41EC-B775-167F432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88D3BB-7DCB-4B39-B902-74DB416E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B7C9B1-C9ED-4A75-B040-B81B5217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E20D9D-B846-43E8-95B7-694D3883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356338-E8C7-455F-9911-FB7A0058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8128-7B74-4E0C-A687-9C933927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C2FCBE-3906-4200-A89D-E76E2F31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F9B4BB-52E6-46C4-86BF-5211B636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D6CBF0-FB66-48A3-A688-4F6A0F4B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280A2F-1997-45AD-A2A3-086DAF4D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4D3573-B22F-4E4E-AB36-9E1C72F1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EE9758-6CA0-40E7-A833-19FA40A3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808866-583E-4BC5-BBB3-054058C8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2E072B-1052-4C1A-B55F-84C6124A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940F45-CAEF-4B77-94AA-2707B06E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D8DF91-51A8-44D8-A415-0375BABF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E976-9E6D-487A-B9CF-52546F2F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53AB97-665D-4076-892A-78A7418C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B484A2-D6DB-493D-9C88-E79D6304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76D5F1-37E2-4066-90F8-03FDC343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C79A75-4B1B-4BC5-A699-2DE319E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75A524-0386-4174-9ECD-09F60196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5638E2-06E4-48B8-8D1E-EFA46339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480521-655D-4B0E-8EE4-2D920C71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91AA92-A228-4049-ABDC-FC9EAD3C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150324-3FB1-47F5-A92A-60610559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F9E1C0-9489-4C51-A7FD-751D80D7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C598-62DD-48E2-8514-AD219393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76FC9B-8EC2-4529-9B22-5F8BBED2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786FCB-EF08-4CB6-A896-2C75DF4B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2FCD6B-DDD5-48CD-8152-D23D0498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3EBEFF-96D5-48C6-BFA0-F9092C25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81907D-8FEE-4BAD-A739-9B6D15A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DDEB3E-7B54-49BE-ACF6-B96B5CD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062D7B-338F-4F05-9F76-C11117B5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6DD25C-9436-41FD-87AB-1E153788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C7152E-2E61-47DC-9C8A-790A989F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7CDFCE-0BE5-48D4-A5F1-9EB355ED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7B25-F4B6-49FE-A657-67CEF82A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D3C415-AAD1-45B7-BCFF-B8E668B9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F700D9-B9F9-49D6-AA38-534C6E55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63D66C-15B5-4FA2-B0E4-59B527CB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4E4936-13EE-44A3-8B98-4D8D4A9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8A013D-495C-4D98-8E02-50BA44A3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B68E7E-D698-4DFE-ADBC-5ABECF2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D2AD6B-B396-43A5-842B-13036BDE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0D5546-AEF3-4C01-B6CE-BE3504D4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8570DF-56CD-4FE4-9F9A-7CB84660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ABA87A-6BCD-40D6-A7D0-6C36DCB9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823F-8A8B-413F-8B84-DB25645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510342-F649-44CB-B2A1-FFF0E0CF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145B-9804-4340-B4F9-D4BAC51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C85-4AD7-449F-9D2E-9EACA65A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5CD9-F9B3-4B0B-8414-1FBEA474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264-2557-41F6-969A-F0FECDE6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B3E1-4E6C-43E3-9FEF-A819583E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0112-0E75-4474-BFC9-349B5079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D5F6-1828-479F-AC7A-EB556E22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EC335-5C20-4CF4-91D8-0B0A0F251A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12EC5-9DDA-4D84-9641-47E16B440A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EE88C-F6B3-4EE1-A7CE-C491E83FE1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F4948-9DC9-499A-848C-261A9BC44A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7228E-CD2E-4952-A5FB-22D195CC7E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703-5B4E-4645-B179-AF537076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C897A-2A37-4E92-9798-021595C3D5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67D0B-20A7-416F-9E5E-0A03FFAFDA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81E74-4DE6-4EFB-85E5-B3B8726609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0C547-58AA-4730-992D-523846CBAC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5C72A-A998-4A5E-8747-F327AA42D0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412D5-D80A-47AE-BD9D-33773A6595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1C968-17B5-4FB2-9670-D30A45FD49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29FD3-148F-42D8-BECB-B9511B86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5EC40-C818-4586-8EFF-6000A0A9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B4044-428A-499C-B7C0-E018B785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90D-B925-42FC-9771-4DD74572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DFE01-EE7A-4B7E-BC13-E3E5398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C314A-E494-4283-8B1D-ACEF38B5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0B57B-4EC6-4001-9C4B-9093A064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5A966-3CC1-4228-8561-E99443AA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F1489-F034-447D-8BD3-339778D6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5F8F1-0AF5-4FE0-A76F-CBCCA88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E9C5F-6D82-4A5A-9F41-2CAAC10E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06682-2689-4500-97C9-67794E27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8C0BB-C281-4E8F-9F8F-CCF330DF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370E6-3A27-414D-94CB-D431425C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1BC-033E-4414-8347-A0288C88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C38C2-8771-4F1A-9D2C-9834A1E6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C0066-1998-416D-8F57-5D47361D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EA23C-C686-4734-8CDF-44DF1FD2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52541-A632-40CA-90DA-14BCB5E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D1E07-E6A3-487A-B381-376BEA73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8FAC3-005D-474B-99C8-092C678A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ED8F2-55EC-4006-97B2-8233DBFD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121BB-5608-4C19-BB8C-786CDC71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BB2C5-0205-45B8-9E98-3C169C4C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D543B-0D49-4534-ABBF-024AE271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813-4380-4618-A91B-80EF1AEE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AD046-3706-4C93-8330-0B2A1887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63B6F-BE93-4C22-846A-733E816A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2777B-E68A-477C-8E4D-761663A4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FADD9-2F16-487A-9676-8C52D53B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0848A-8C4E-4624-936C-9FC6A442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D1DF9-8391-4329-A942-BBE7450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A2199-7CDC-411D-B7C0-3795A2F6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DE774-24CC-47A6-BBAE-E91B523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B265C-8358-4C53-9812-BD8663C5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DC1DE-F1BF-46C2-98CE-F28D5A3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49F-048A-40F0-A1EB-F9F9212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2655A-503F-4F18-97C3-1E8B2278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54C12-072A-41C8-827F-D59C6E54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D6CDA-5327-4014-BE70-CCA195B6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4269F-5B19-46A1-9208-05F6A6CC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4DB6D-77C0-4484-BF02-56C7A9DB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29AB8-3844-4517-A217-E64D6068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E26CE-9E16-446F-A7C8-F1D35357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B4251-AAF8-4C66-9B59-43863127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E559C-884E-43D4-B79E-5A58F166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EC787-87DC-4869-8A53-7CFDDB39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71B-71D5-4068-8EE3-75ABFB07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FB0C9-B6DB-4CC0-B84D-0FEA86C5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180AC-ABF0-4FC5-8DCD-C3E0C7C3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7D67D-CB8F-49D2-B513-2443CD2E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C727B-B1D0-4CA9-8BC8-B7097D7C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9922E-3A99-473C-8830-E3049BDB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B4A99A-28AE-496C-B095-DDB2BE72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60695B-AC5A-4015-87BF-1833CD99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1A8750-594B-4134-B07F-5BF345E2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1F0A9F-0347-4397-B084-400D7985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E461F0-E2D7-4A6A-B903-4BAEC23C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262-9502-4DD3-BC0E-772E79D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3DD40C-9ADA-478A-8EEF-8F80FD73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DF82E-05F3-4289-A28D-9BDC6C2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A05DDB-607E-4D0F-9519-0D70E33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2C128-1904-4F99-BA99-3AA0E70A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55E1C-0878-4051-92C4-D7F6E422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C761EC-12DA-4713-8882-0B1FA6C8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32DA8-5183-4984-B2CF-7AAA58C0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EBF2BB-BAFA-4203-8E95-84027515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DE2446-5C81-44DC-9CAD-38951B8D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2E5266-96EF-4C15-9258-5EACEE64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86F7-0795-40E1-BE66-2D6B786FD3E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54D7-650A-4FE3-853F-8586E174E76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EE00-4207-4F2D-BCA9-A4228BA2FA2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0C74-CF27-48E1-B733-041AF457409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1DF8-D513-4796-88B4-E5867BAE70F7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C78B-5F7A-490C-89C3-B924BA47AE5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E301-9FB4-4D0F-A0E8-30F04C7F571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9ABD-92E0-4E18-B0AB-29AC42CC3C8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CC76-9641-44C5-969B-00C3A913BEC7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CC5C-A6BD-4266-A542-85384FF165A1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BE3E-7D91-46A6-BED6-403BBCFF91C9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F8BE-1F3E-4D13-BC30-5926FD674449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4DFE-B488-41A7-8AB6-22D9141EE5F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8414-B9A7-4850-8010-B923BCDCCD82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9472-78AD-487C-BD70-65B9D247FCB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3991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hyperlink" Target="http://www.nms.tsn.at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WebQuest@Home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DANKE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74747"/>
                </a:solidFill>
                <a:latin typeface="Calibri"/>
              </a:rPr>
              <a:t>Informationen zum Wettbewerb „WebQuest@Home“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Abenteuerliche 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n Schulort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4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5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Hinweise für Lehrperson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6" name="Grafik 4" descr=""/>
          <p:cNvPicPr/>
          <p:nvPr/>
        </p:nvPicPr>
        <p:blipFill>
          <a:blip r:embed="rId2"/>
          <a:stretch/>
        </p:blipFill>
        <p:spPr>
          <a:xfrm>
            <a:off x="1511280" y="622440"/>
            <a:ext cx="5021280" cy="259056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5" descr=""/>
          <p:cNvPicPr/>
          <p:nvPr/>
        </p:nvPicPr>
        <p:blipFill>
          <a:blip r:embed="rId3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4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5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Eben a. A.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6270480" y="2565360"/>
            <a:ext cx="2644920" cy="3406680"/>
            <a:chOff x="6270480" y="2565360"/>
            <a:chExt cx="2644920" cy="3406680"/>
          </a:xfrm>
        </p:grpSpPr>
        <p:sp>
          <p:nvSpPr>
            <p:cNvPr id="693" name="Rectangle 14"/>
            <p:cNvSpPr/>
            <p:nvPr/>
          </p:nvSpPr>
          <p:spPr>
            <a:xfrm>
              <a:off x="6597360" y="2565360"/>
              <a:ext cx="2318040" cy="34066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4" name="TextBox 7"/>
            <p:cNvSpPr/>
            <p:nvPr/>
          </p:nvSpPr>
          <p:spPr>
            <a:xfrm>
              <a:off x="6672960" y="2656440"/>
              <a:ext cx="216612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595959"/>
                  </a:solidFill>
                  <a:latin typeface="Calibri"/>
                </a:rPr>
                <a:t>Fertig ausgearbeiteter WebQuest - zu finden auf der Plattform TSN-Moodle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5" name="Straight Connector 18"/>
            <p:cNvSpPr/>
            <p:nvPr/>
          </p:nvSpPr>
          <p:spPr>
            <a:xfrm>
              <a:off x="6270480" y="50655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6" name="Grafik 9" descr=""/>
          <p:cNvPicPr/>
          <p:nvPr/>
        </p:nvPicPr>
        <p:blipFill>
          <a:blip r:embed="rId3"/>
          <a:stretch/>
        </p:blipFill>
        <p:spPr>
          <a:xfrm>
            <a:off x="1552680" y="2565360"/>
            <a:ext cx="45432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698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0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1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03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Sekundarstufe I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Neue Mittelschulen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Tiroler Hauptschulen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Schulinstanz auf TSN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08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0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1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3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5"/>
          <p:cNvSpPr/>
          <p:nvPr/>
        </p:nvSpPr>
        <p:spPr>
          <a:xfrm>
            <a:off x="5435640" y="1700280"/>
            <a:ext cx="3097080" cy="33130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18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19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1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22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24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iPad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Headset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Gutscheine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7" name="Textfeld 4"/>
          <p:cNvSpPr/>
          <p:nvPr/>
        </p:nvSpPr>
        <p:spPr>
          <a:xfrm>
            <a:off x="5580000" y="1755720"/>
            <a:ext cx="30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3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Dialogta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4"/>
          <p:cNvSpPr/>
          <p:nvPr/>
        </p:nvSpPr>
        <p:spPr>
          <a:xfrm>
            <a:off x="399960" y="1542960"/>
            <a:ext cx="4648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29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32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7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8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9" name="Grafik 2" descr=""/>
          <p:cNvPicPr/>
          <p:nvPr/>
        </p:nvPicPr>
        <p:blipFill>
          <a:blip r:embed="rId5"/>
          <a:stretch/>
        </p:blipFill>
        <p:spPr>
          <a:xfrm>
            <a:off x="539640" y="4267080"/>
            <a:ext cx="2303640" cy="1106640"/>
          </a:xfrm>
          <a:prstGeom prst="rect">
            <a:avLst/>
          </a:prstGeom>
          <a:ln w="0">
            <a:noFill/>
          </a:ln>
        </p:spPr>
      </p:pic>
      <p:pic>
        <p:nvPicPr>
          <p:cNvPr id="740" name="Grafik 3" descr=""/>
          <p:cNvPicPr/>
          <p:nvPr/>
        </p:nvPicPr>
        <p:blipFill>
          <a:blip r:embed="rId6"/>
          <a:stretch/>
        </p:blipFill>
        <p:spPr>
          <a:xfrm>
            <a:off x="539640" y="5608800"/>
            <a:ext cx="4368960" cy="699840"/>
          </a:xfrm>
          <a:prstGeom prst="rect">
            <a:avLst/>
          </a:prstGeom>
          <a:ln w="0">
            <a:noFill/>
          </a:ln>
        </p:spPr>
      </p:pic>
      <p:pic>
        <p:nvPicPr>
          <p:cNvPr id="741" name="Grafik 5" descr=""/>
          <p:cNvPicPr/>
          <p:nvPr/>
        </p:nvPicPr>
        <p:blipFill>
          <a:blip r:embed="rId7"/>
          <a:stretch/>
        </p:blipFill>
        <p:spPr>
          <a:xfrm>
            <a:off x="3059280" y="4772160"/>
            <a:ext cx="1849320" cy="601560"/>
          </a:xfrm>
          <a:prstGeom prst="rect">
            <a:avLst/>
          </a:prstGeom>
          <a:ln w="0">
            <a:noFill/>
          </a:ln>
        </p:spPr>
      </p:pic>
      <p:pic>
        <p:nvPicPr>
          <p:cNvPr id="742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pic>
        <p:nvPicPr>
          <p:cNvPr id="743" name="Grafik 28" descr=""/>
          <p:cNvPicPr/>
          <p:nvPr/>
        </p:nvPicPr>
        <p:blipFill>
          <a:blip r:embed="rId9"/>
          <a:stretch/>
        </p:blipFill>
        <p:spPr>
          <a:xfrm>
            <a:off x="5724360" y="3284640"/>
            <a:ext cx="1768680" cy="912600"/>
          </a:xfrm>
          <a:prstGeom prst="rect">
            <a:avLst/>
          </a:prstGeom>
          <a:ln w="0">
            <a:noFill/>
          </a:ln>
        </p:spPr>
      </p:pic>
      <p:sp>
        <p:nvSpPr>
          <p:cNvPr id="744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1-02-26T14:07:56Z</dcterms:modified>
  <cp:revision>1</cp:revision>
  <dc:subject/>
  <dc:title/>
</cp:coreProperties>
</file>