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47.png" ContentType="image/png"/>
  <Override PartName="/ppt/media/image2.jpeg" ContentType="image/jpeg"/>
  <Override PartName="/ppt/media/image3.jpeg" ContentType="image/jpeg"/>
  <Override PartName="/ppt/media/image30.jpeg" ContentType="image/jpeg"/>
  <Override PartName="/ppt/media/image31.png" ContentType="image/png"/>
  <Override PartName="/ppt/media/image45.jpeg" ContentType="image/jpeg"/>
  <Override PartName="/ppt/media/image32.png" ContentType="image/png"/>
  <Override PartName="/ppt/media/image33.png" ContentType="image/png"/>
  <Override PartName="/ppt/media/image41.jpeg" ContentType="image/jpeg"/>
  <Override PartName="/ppt/media/image14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46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48.png" ContentType="image/png"/>
  <Override PartName="/ppt/media/image12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4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B3DF-14AC-40B3-B9A2-F2FC87AD2C1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CC8D-D9B2-4D61-A5D3-66BC9FE2CA43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E6D4-0016-487E-B7D7-CB46B0AB804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06F5-0E0C-4749-84DC-A68B50EF2A02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D67F-995B-4A48-BCF3-40F8FA0F19F8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D474-D270-4883-967B-9AAE7FD25CE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201C-9682-4499-9015-0E898AC329C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529B-8E58-4E19-94B9-16738BE6E23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BA8C-FB58-482B-8F79-338989B68B2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7B9F-B115-4141-8F43-1661D40A7B2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2BB9-0DAB-405B-9F16-5C5EF221074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AB2F-CA6B-45D2-BD26-D22498A6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430-0F2D-4870-AEC6-DE725597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400A06-CB26-49A9-8878-C35A943B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135CA6-951A-4A54-B6CB-0C76CC29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795887-921E-458F-A2D8-518045B5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C1F20F-632B-4B90-8526-CB547AA6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C4D1DD-C007-4388-998B-C5528EB0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B14995-BA0F-4086-9F48-BB3F942E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82A7C6-007A-4519-9329-85F6B269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7C0BCE-67BF-4676-A40E-A99455E5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9AD994-7891-47DE-8FF2-3EEF2EC6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923F30-6959-4BD9-9F52-A24854C8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E23-CFCB-49EF-A2B0-4CA75164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45BED6-AB11-4820-A002-04320996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7E7690-EB65-467C-8C61-D1E956C5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0FF039-495F-4F43-92E5-7FA60C60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65EE9D-1C26-4386-BA13-DF8F701B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96F499-CBDE-48BF-A74F-69E171F6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CE1A77-45CE-4CA5-83F6-6DCC33F1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A85AC2-27FB-4F34-AAB0-A5FA5859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3C6B3B-0114-4AF3-9156-B640C153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488CC4-B750-4620-A317-2199E915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CD8D13-E6DC-47E5-833A-79D5FC2B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8DC-D308-4452-B668-19A38780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3731E6-983B-404F-9ED8-BEAA2DBD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53F148-6926-45CD-A04C-63034EFF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C79B6A-FE7F-462D-AB86-DCF773FC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A1B021-461C-40CC-9347-66FF8241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10B828-0D55-4490-A94E-64EBE024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C3F5BF-B5B2-4C26-B86E-E8CB2642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C51A3B-8E17-4777-A38C-1175F576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A9AF6D-5E4F-40E3-85EC-EF93C9FE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0A8296-1EA1-41F5-A550-FB06DDE0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DE7278-3B76-4E00-ADFE-CB81D88F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3B0C-2AAC-4D38-8E49-6D60AED9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9F119F-651C-47CF-A55B-EE8FF593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827EFD-22C0-426F-B457-1E1E06B5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38DC8D-EAAA-4757-BFFC-B5F7077A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B713BA-E26E-442A-AC8C-A9EE25D7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15EC87-E32B-483D-ABEC-0F54B264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7BA421-2734-40D9-987F-5FE428F5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A26112-9C03-4EF4-97CF-863ECAE6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DF74E7-0A74-4F2E-8655-9EC68D0C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782AD1-60CD-4980-A9B8-C642A289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7419B1-2AD0-4EF1-B9CC-3328A1BE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20FF-444B-4312-999E-B8E62BE4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F1F023-EBDE-44EC-B3BB-FF4C3C14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087CB8-ED0B-48D4-AC6C-F1918138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15A31A-AAB1-42A1-A0CE-DE22C6F2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3F9E31-D1A9-4A25-AD61-62E9A5ED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D50229-0E4A-4F97-A719-B3C798CD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F75383-292E-4811-BDBD-9A13E714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3F24DE-3552-4538-A21B-BECCB862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B2BE92-C094-405C-8DA2-BDC5C383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A9071E-4E51-4AF8-B502-8AAA37E1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9A5294-B7ED-47F2-9EA5-32F2B36B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947C-D9E0-49F8-B11A-B517CA91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D9292A-462C-48C3-8612-4030494C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04D5EE-2CEB-4223-8102-8379029B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C78C66-FD64-483A-805F-0B8A996A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AB0943-E295-4BE6-A5B2-E968856E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1E06EB-18E1-4E47-81F3-720D9DCA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D345AE-99F5-421F-AC5D-F8DDFF09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B0ADB4-C227-4D16-9D66-049D9100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BF9ACDD-EFB9-4816-B2D5-2CB0D3A6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FE9A81-2DC3-4C17-B07E-FF57BB41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D57C22D-A71B-4557-B3C2-D9194F7C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F996-6F70-478D-90B5-A93F2095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4550AD-7CCA-4B7E-B11E-6A5A5417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099578-BB79-478E-A950-5EDCDCC0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933DF4-E8F2-4FF8-BD8A-563BDA9F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33622B-4D79-47C4-83B4-FB97C95B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81B0D7-1A73-4B12-B2BD-59B68B1F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7FD48B-0EF5-4825-9AAB-4B85F03C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F1A635-D78D-425B-9822-F53805E1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386EC6-20AC-4FFA-9875-CC375CFC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530636-C954-4F68-B986-A23EBEC1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944FB8-DE37-428D-81B5-0B71D4BD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2938-8433-437C-98A7-948305AE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D95AC8-6125-4E3B-A2F5-09BF2B32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01543C-247F-4F96-85AA-0428E979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C5D709-2241-4C5C-8581-57DC8C4F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93FF010-260F-48AA-A0B7-89042394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45465F7-F002-475E-B49D-41A34FC8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9E6634-C91D-4A28-A3BE-E804BB79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4EDCD8-29FA-4695-8E59-5D1DFBB3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F9D49E-BC55-47D4-BA23-039A2720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28015B-01AD-4785-9FF1-DD03BDFF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DAEC8F-D535-4A00-A2E9-D2A924F0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9601-BE29-40F6-877E-3914E8A5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F07BDB-0B34-4BDC-BAFD-7949B07B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0A7A-E308-4F55-AD22-3888602E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B48D-FC68-4329-B8C6-EF9BCEF9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9FC6-F1DB-4C69-8B56-5D4B6265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DE4D-8F14-42C5-883F-4ABE0B04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A15C-1453-4441-8BB1-B0B066EA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588F-621F-4F95-AE79-1FC9332C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0B36-FCD7-4D0D-85D7-1D013A7C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94268F-E8F1-4F12-81E9-9E162D1DBE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EB39BC-23DE-4049-8FC6-3AFE309FE7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42DD1-D2B8-470A-B6E9-29A58E06BD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12906-7DC8-449E-A04F-F65D9FE24C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D0798-0682-4F60-A38F-CB68BF3611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B55F-38C8-476B-95F0-757AD001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B95A2-6D5E-4450-A5F8-853AD5B85C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88C27-C737-4EC3-8DD6-3B473875B2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A65CF7-C0B5-4A45-8212-5D464B31C6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15A580-5AAB-4EBB-87A3-430038C3E6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B373D-88E6-4809-8CB3-9DD838AC35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C67CB-C4A2-423A-9069-74111EEF38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F5DB6E-EBB3-4ADF-A380-2578A46E71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CD9A03-65CC-454B-B1AF-1424AE52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2D545D-B2D3-4443-91C3-172BD04D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4654F0-C1B1-49B2-84CD-F700DCA2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969-72C6-4BFF-80EB-D69CBBEB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DCD645-FF85-49C9-B301-CBD9D6F4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4449A5-3CC5-4C95-9AE3-CD155B1A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04CFC5-4956-47A1-A1AD-C42B6FB2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2EDA2B-AFB5-4766-A333-78BE2519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E28685-60FB-4199-9DE7-CC0F97A6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814BF4-1A2D-4859-8EE0-6C0B29DC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DD817F-9558-48D7-B45D-8A72DDA4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C0E2A2-994E-469E-9C9D-DDD06C3B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9E5B7B-3F35-4B4F-8749-CF27FF23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A19FFC-9248-4718-A803-ABDCC25A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643-7A53-4D1C-8486-B383E0C2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88F229-27A2-48CC-8BB2-C383832D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5CFD10-3A66-478F-85E2-3EDECD02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A721B7-CF77-4EA7-B6D2-50060EDA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F8121-3813-47E2-A430-F8889735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8B77E2-7A3B-4344-A7F3-B7A64B4D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A9B43C-AF3E-4683-8DF9-D5248667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F48CBD-A26C-4438-9575-C5DFEAD3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01E651-7EA0-4DDD-9F2D-DAF3CE8A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F08CB7-F068-4A1E-A797-3931C534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B42061-D037-4EAE-847F-CFCCA29D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E3B8-18ED-46C2-923B-370C9161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859883-4C5F-4B8D-8383-33827B10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D557A5-3248-4649-B3E5-9C13F537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B24227-9000-4E9E-8E73-CB1ECCB1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206FE-6EBD-4869-AD33-D70BE59F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B94DE2-B7B8-4772-AF9E-4CAEA93B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0D5032-2CC5-479D-922F-8A2D4FD9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F419E8-12C7-4D32-9E04-5A54A0DC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0B9AC-5F70-42A9-9468-D5B2BE02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487323-442F-485C-969A-436E00FD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78A57-438F-4BA5-98A9-1DBDE401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C8D-3456-49D0-824F-6848C198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2B91B-35D8-4FBB-871D-A626437C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B9E814-6492-42BE-A4AD-706A9FD9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1B7592-4E9D-4698-AAEF-2E4FA9EA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825C8B-7F43-44F2-B613-F88769CE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1823EA-22F4-4E85-9E49-9FEABF62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EAE047-2836-418D-872C-EFF38C37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AE2507-D0D3-4E7F-BA66-6E692DCB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2659D8-2B11-4972-AFA1-056831A5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76DB70-11B4-4719-8BB3-41F524E7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54E08F-DBFB-4843-B0AE-50E3448A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185-D9C9-4864-BC0D-69A2E151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98474-8697-4349-8FD9-994C72F4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16C4A8-E88F-4528-BF1A-49656F55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8531AD-13F8-4F36-AD20-6736344D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B40930-AE69-4BDC-B357-BB4CE280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B51AF1-D9B2-4168-BF29-3D11FE7D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FDCD11-DA36-481E-A12A-B5DA845C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18BD31-422F-43D5-A61E-15EA5C93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F0BB8F-62E1-49A7-9A40-BFD47E01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0D5FD9-C0DE-4D08-A5CF-36A4D0FE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D31C26-130B-40CA-B9BB-0EAB353D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E9A-B866-4B5B-A45D-BE5494D6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526E8D-4592-4633-94FD-E3D1D52F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E0999C-6C3D-4B7E-92A5-2999E3EB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ADFB0A-20BB-404A-B6FB-1A7B14FD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DDB178-6C5B-4631-9FDC-6B07BC1F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882758-C5E3-4508-841A-22C0D6A9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994026-D7B8-4F65-A625-2911BD5A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B3121B-42B7-4D3D-B758-E5CCFC66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60E50C-B28B-4363-8BA8-8EBBC4AD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B450DE-F28B-49D5-BF4C-6ACA818D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C1210E-2918-4FD0-982F-CD946AB5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F765-CE4C-403D-9A2E-6A6900CAB367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9BB1-A9D3-4852-914F-BEB0D5E97C8A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9CB2-94FA-45DD-8A70-62D7CF74ED25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2C50-D2E4-4ECD-A316-DAF7C1600A30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7C7B-D75A-4F7C-A081-73E9F2805EEF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EE76-7183-4A5C-8646-F47A8CF6998A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D19D-F3AA-4492-BB18-7E9DF89B28B8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384D-EE8F-492D-B579-71C9B1F59B6C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97FA-48CC-45D1-BC80-B6FA804D1DF2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86B7-905A-4C78-897A-F88D64929AD0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0406-D47F-4A32-9173-CA377AF47CD9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5979-05F3-4FF2-AD19-DC59ABE2CC89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65FE-823F-46AE-9590-5E2E683D3E2D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A740-ADFB-4B2A-AEBE-4016357C4438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7687-390A-41CC-9889-8F3DA921E819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2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3991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5.png"/><Relationship Id="rId3" Type="http://schemas.openxmlformats.org/officeDocument/2006/relationships/image" Target="../media/image9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hyperlink" Target="http://www.nms.tsn.at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WebQuest@Home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1896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DANKE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74747"/>
                </a:solidFill>
                <a:latin typeface="Calibri"/>
              </a:rPr>
              <a:t>Informationen zum Wettbewerb „WebQuest@Home“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Abenteuerliche 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n Schulort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4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5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Hinweise für Lehrperson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6" name="Grafik 4" descr=""/>
          <p:cNvPicPr/>
          <p:nvPr/>
        </p:nvPicPr>
        <p:blipFill>
          <a:blip r:embed="rId2"/>
          <a:stretch/>
        </p:blipFill>
        <p:spPr>
          <a:xfrm>
            <a:off x="1511280" y="622440"/>
            <a:ext cx="5021280" cy="2590560"/>
          </a:xfrm>
          <a:prstGeom prst="rect">
            <a:avLst/>
          </a:prstGeom>
          <a:ln w="0">
            <a:noFill/>
          </a:ln>
        </p:spPr>
      </p:pic>
      <p:pic>
        <p:nvPicPr>
          <p:cNvPr id="687" name="Grafik 5" descr=""/>
          <p:cNvPicPr/>
          <p:nvPr/>
        </p:nvPicPr>
        <p:blipFill>
          <a:blip r:embed="rId3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4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5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1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Eben a. A.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2" name="Group 3"/>
          <p:cNvGrpSpPr/>
          <p:nvPr/>
        </p:nvGrpSpPr>
        <p:grpSpPr>
          <a:xfrm>
            <a:off x="6270480" y="2565360"/>
            <a:ext cx="2644920" cy="3406680"/>
            <a:chOff x="6270480" y="2565360"/>
            <a:chExt cx="2644920" cy="3406680"/>
          </a:xfrm>
        </p:grpSpPr>
        <p:sp>
          <p:nvSpPr>
            <p:cNvPr id="693" name="Rectangle 14"/>
            <p:cNvSpPr/>
            <p:nvPr/>
          </p:nvSpPr>
          <p:spPr>
            <a:xfrm>
              <a:off x="6597360" y="2565360"/>
              <a:ext cx="2318040" cy="340668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4" name="TextBox 7"/>
            <p:cNvSpPr/>
            <p:nvPr/>
          </p:nvSpPr>
          <p:spPr>
            <a:xfrm>
              <a:off x="6672960" y="2656440"/>
              <a:ext cx="2166120" cy="31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595959"/>
                  </a:solidFill>
                  <a:latin typeface="Calibri"/>
                </a:rPr>
                <a:t>Fertig ausgearbeiteter WebQuest - zu finden auf der Plattform TSN-Moodle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5" name="Straight Connector 18"/>
            <p:cNvSpPr/>
            <p:nvPr/>
          </p:nvSpPr>
          <p:spPr>
            <a:xfrm>
              <a:off x="6270480" y="50655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6" name="Grafik 9" descr=""/>
          <p:cNvPicPr/>
          <p:nvPr/>
        </p:nvPicPr>
        <p:blipFill>
          <a:blip r:embed="rId3"/>
          <a:stretch/>
        </p:blipFill>
        <p:spPr>
          <a:xfrm>
            <a:off x="1552680" y="2565360"/>
            <a:ext cx="4543200" cy="340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698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0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1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03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Sekundarstufe I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Neue Mittelschulen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Tiroler Hauptschulen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Schulinstanz auf TSN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6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08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0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1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3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hteck 5"/>
          <p:cNvSpPr/>
          <p:nvPr/>
        </p:nvSpPr>
        <p:spPr>
          <a:xfrm>
            <a:off x="5435640" y="1700280"/>
            <a:ext cx="3097080" cy="33130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18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19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1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22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24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iPad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Headset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Gutscheine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7" name="Textfeld 4"/>
          <p:cNvSpPr/>
          <p:nvPr/>
        </p:nvSpPr>
        <p:spPr>
          <a:xfrm>
            <a:off x="5580000" y="1755720"/>
            <a:ext cx="302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3. Mai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Dialogtag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Box 4"/>
          <p:cNvSpPr/>
          <p:nvPr/>
        </p:nvSpPr>
        <p:spPr>
          <a:xfrm>
            <a:off x="399960" y="1542960"/>
            <a:ext cx="4648320" cy="23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29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32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6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7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8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9" name="Grafik 2" descr=""/>
          <p:cNvPicPr/>
          <p:nvPr/>
        </p:nvPicPr>
        <p:blipFill>
          <a:blip r:embed="rId5"/>
          <a:stretch/>
        </p:blipFill>
        <p:spPr>
          <a:xfrm>
            <a:off x="539640" y="4267080"/>
            <a:ext cx="2303640" cy="1106640"/>
          </a:xfrm>
          <a:prstGeom prst="rect">
            <a:avLst/>
          </a:prstGeom>
          <a:ln w="0">
            <a:noFill/>
          </a:ln>
        </p:spPr>
      </p:pic>
      <p:pic>
        <p:nvPicPr>
          <p:cNvPr id="740" name="Grafik 3" descr=""/>
          <p:cNvPicPr/>
          <p:nvPr/>
        </p:nvPicPr>
        <p:blipFill>
          <a:blip r:embed="rId6"/>
          <a:stretch/>
        </p:blipFill>
        <p:spPr>
          <a:xfrm>
            <a:off x="539640" y="5608800"/>
            <a:ext cx="4368960" cy="699840"/>
          </a:xfrm>
          <a:prstGeom prst="rect">
            <a:avLst/>
          </a:prstGeom>
          <a:ln w="0">
            <a:noFill/>
          </a:ln>
        </p:spPr>
      </p:pic>
      <p:pic>
        <p:nvPicPr>
          <p:cNvPr id="741" name="Grafik 5" descr=""/>
          <p:cNvPicPr/>
          <p:nvPr/>
        </p:nvPicPr>
        <p:blipFill>
          <a:blip r:embed="rId7"/>
          <a:stretch/>
        </p:blipFill>
        <p:spPr>
          <a:xfrm>
            <a:off x="3059280" y="4772160"/>
            <a:ext cx="1849320" cy="601560"/>
          </a:xfrm>
          <a:prstGeom prst="rect">
            <a:avLst/>
          </a:prstGeom>
          <a:ln w="0">
            <a:noFill/>
          </a:ln>
        </p:spPr>
      </p:pic>
      <p:pic>
        <p:nvPicPr>
          <p:cNvPr id="742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pic>
        <p:nvPicPr>
          <p:cNvPr id="743" name="Grafik 28" descr=""/>
          <p:cNvPicPr/>
          <p:nvPr/>
        </p:nvPicPr>
        <p:blipFill>
          <a:blip r:embed="rId9"/>
          <a:stretch/>
        </p:blipFill>
        <p:spPr>
          <a:xfrm>
            <a:off x="5724360" y="3284640"/>
            <a:ext cx="1768680" cy="912600"/>
          </a:xfrm>
          <a:prstGeom prst="rect">
            <a:avLst/>
          </a:prstGeom>
          <a:ln w="0">
            <a:noFill/>
          </a:ln>
        </p:spPr>
      </p:pic>
      <p:sp>
        <p:nvSpPr>
          <p:cNvPr id="744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1-02-26T14:07:56Z</dcterms:modified>
  <cp:revision>1</cp:revision>
  <dc:subject/>
  <dc:title/>
</cp:coreProperties>
</file>