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47.png" ContentType="image/png"/>
  <Override PartName="/ppt/media/image2.jpeg" ContentType="image/jpeg"/>
  <Override PartName="/ppt/media/image3.jpeg" ContentType="image/jpeg"/>
  <Override PartName="/ppt/media/image30.jpeg" ContentType="image/jpeg"/>
  <Override PartName="/ppt/media/image31.png" ContentType="image/png"/>
  <Override PartName="/ppt/media/image45.jpeg" ContentType="image/jpeg"/>
  <Override PartName="/ppt/media/image32.png" ContentType="image/png"/>
  <Override PartName="/ppt/media/image33.png" ContentType="image/png"/>
  <Override PartName="/ppt/media/image41.jpeg" ContentType="image/jpeg"/>
  <Override PartName="/ppt/media/image1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48.png" ContentType="image/png"/>
  <Override PartName="/ppt/media/image12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38.png" ContentType="image/pn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4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4104-5214-4E60-AAA5-136759EA2CF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Diese Präsentation veranschaulicht die neuen Fähigkeiten von PowerPoint. Betrachten Sie sie am besten als Diashow. Diese Folien sollen Ihnen als Anregung zur Gestaltung eigener Präsentationen in PowerPoint 2010 dien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eitere Beispielvorlagen können Sie anzeigen, indem Sie auf die Registerkarte Datei und dann auf der Registerkarte Neu auf Beispielvorlagen klic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0008-9FEE-4C10-AF51-88C59F7D3EC5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C4F1-EAC5-45D6-A191-B9E97E5D26E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48F-EDFF-4C21-9AD0-3CD1AC979A15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25D4-B4B1-4350-95E1-8192546240EE}" type="slidenum">
              <a:rPr b="0" lang="de-DE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2F431-2692-424E-B6DA-427F96276F5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1A9F-62E9-4356-B9A9-2AB38892E7FA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F184-879B-466F-BB32-8EDFAF59293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8B11-C54D-4F91-802C-1B0B37FD8B8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026-7558-47B5-940C-BCD958FC578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44B5-3A84-456F-8093-031CB512C6C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741-7CB5-481F-8A9B-6BF17A6C9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8E8-9DF4-472B-9A34-401224B8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936CD6-1C39-4F2E-A059-E0A8B48D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476CF5-473B-4D0D-A3B7-0C588DDF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AC2D7E-B356-4DDA-9BF4-0C281D01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19725B-2FD9-42EE-8E1F-A0A4E2E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629376-4AF0-4464-BFA8-594262A5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547B57-D9A5-40AD-AB5E-6104C38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132555-A334-4A01-85C0-853EBCF4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F89CAE-93AA-4331-933C-1F98C8F2E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2C9AF5-C5A3-469B-B069-8C7B8D5C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D725E0-6A40-4E34-9EBD-D3965C952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CAA4-DB6F-4074-8898-17BC7670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86A8ED-DCA5-4979-8731-9AD1FD11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F5CFD2-7E72-47D5-8437-64D29336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F847F1-F1F2-48F8-AD9B-9BAF2790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9F9234-A475-45A1-A19A-AB8B6AC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80C23D-8AFC-4A84-9A30-BFBB1CFC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EFFB3F-8C3A-4B48-B171-5DA2534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2458D9-975C-4393-9B23-5930E0F5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B14430-ABE7-4D85-B3C0-090EAE3B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DFB6C7-53D1-48D4-BB1C-B6736AED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CB69F0-82A7-4AFA-A6A1-D79DABEC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B34-79D5-4DDD-9C79-AEA152EB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558E14-5123-437D-B5A4-9A0EE054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A3C813-11A7-4E9A-A909-A28632AF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116DA6-E060-4762-806F-97488482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503B31-7A00-4653-8188-3EA89AF5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AE405B-E9D6-404E-97B3-8543D229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DF8C3B-6AEB-491B-9EE3-52240B46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9FDDC3-6195-481D-905C-EF1F4B2B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44B3E0-1A18-49B1-87BE-5D48A5DD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528287-15CF-4B46-A20F-D5D3B89D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4526CF-8F43-4A55-9762-442C2CF4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808C-F42D-47F0-A4E8-CA49D0AA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0959CD-6CE2-4DCF-A4A7-0F6B8F04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88347B-B835-4F35-AC18-5A5C4B64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BB53DD-9106-47BD-9D80-EB902DD1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5878E3-A996-4D2B-8B1B-FA94F72A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97F0FF-CD25-4A95-AC4B-C3EB8118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40E227-1825-446E-AB45-73C3261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BCE1C4-63DB-419A-A541-4ABABFC9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04CE84-6F0A-4F2E-ADB2-61D97313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B29667-92AC-4798-8A43-63A61921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2E2005-3BED-408B-83E8-3EBBA385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CA3B-E368-4996-9AD8-00DBBA6E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BC75770-9014-405F-9DC0-9C5136D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471D05-BC2A-4C6D-8723-81E347F4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BB29A2-2A2C-4630-BDC2-67917ED0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F32968-A725-41F2-B4CE-C980B9BA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15626B-E8D8-41BE-A1C4-7203AC22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A3D99F-EDEC-4CB5-8FAE-0CF8C66F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9C994D-7047-42D4-BC82-A4C52BCF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0D3383-C139-4A58-A4AC-9AFFB6F2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D82378-2BF8-439C-920F-29EB96A9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C38905-17FE-425E-874D-D11AF471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8B26-0E93-409D-B127-5B527D95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744E5F-747B-406F-8FB5-2ADA541A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4D018C-6755-432F-BCF1-CE565E75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6EC615-F0BA-445F-96FD-A645D389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57B345-C6AB-49EC-A1DD-1628C918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5853C0-0A50-4517-89BC-AB312C59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3C5F74-0FF3-48DE-847E-B1CC4C2A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5D99EB-7DA5-4E6D-9D0E-C1C7CBFC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8937DE-F184-44FA-84ED-8217D4A6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6D83EE-D80C-4761-88EB-95E6215D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C4B52DC-FABA-4D0D-8173-DA211D5C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7BC5-FC61-4A39-B409-5312236B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376691-E619-4081-9032-AB842DD6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1DBF69-7A1F-4F2A-91BF-CE80E382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F70DF0-E903-4867-A953-173840E0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C5E3B5C-32AE-4493-A994-A1D4E1C8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2E3691-D7D9-4C93-826D-4EBD180F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AF5283-92FD-4B0F-B178-80F8A79B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83B099-30DF-42C9-8593-15D56615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7F3B84-382D-48B8-98F8-9D7EA304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6ABDC9-5429-4BE6-8139-4B36CDC0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C55B6C-4377-488D-99D9-705E4C36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3796-13B7-4BA2-8261-1953AF9E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199E33-2428-491E-95E2-3E1D7294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4BCB6D-01D9-45F6-9DA1-3521D15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82F822-87D9-455F-95D0-B232DD36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D54AFF-5EC3-4715-806C-F1B75C46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1CE68A-C89C-41AC-BFCD-8E299D45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A4E20B-F7CE-4075-8B85-42EF9E18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273714-7D11-4835-8EB2-0DD1614B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C42684-8ABE-4535-BDA5-90786888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7E5655-FD03-45D8-8FCA-794C4AE2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1BC9BC-4E26-4573-8DF7-F6E37CD6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32E0-9135-4454-9B9B-CA1EAE61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6A93DA-C957-4FBA-ABB3-E385D33D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179F-0728-40B2-8C34-A82F371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BE1-B8BF-4826-8521-6816E1A2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2FF7-4705-44E0-9956-6DE28BE2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9B00-054A-4F13-8DCC-E4373ECA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9D6E-130B-478B-9A25-9A2BDDC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3045-B4FF-425C-A157-6CC28A33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CA02-8DF0-4695-AFD7-631911E10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47BE57-0566-43F3-971F-23397BFC54A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9F438-4F7F-44C9-BADE-9B0E4D71F0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0563A4-FB05-4592-9507-7A55DB1ADA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F9F1E-529D-4676-98C0-B2D98739B6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D4DC6-0205-494D-8239-84D08BC205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5024-1118-45F8-AE09-19ECBC07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68049-11AC-477F-929A-773B6C9FF70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F7279-C3E1-494C-BF85-6413E993D2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BD00B-5E7E-487C-AE6A-07B5BF5AF0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DD538-EEA3-4072-A0B0-FABA728C6B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56955-484F-45F9-B4BF-87DC9FA930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ECB27-0E8E-4747-95B0-B9446611E0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382BE7-57ED-4D77-BF3D-376D5E707C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B049AB-03C5-43B5-8667-5F646210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63F85-922A-413E-ACD6-DADD145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0B888-5EB5-4E35-9D32-26E9278C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01D-7163-40D7-B762-ABDE315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522B5-B904-4F75-A66A-164F839E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CBDCD-CE6F-4D28-9EC3-3BEE5FB1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20C058-953E-499E-9211-066C4D87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7BBFF8-762F-4C77-942A-FBB6D69C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93783-B9B6-4F90-A414-4FB1CA52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CC3EF-B85C-416F-A745-9FA77DFC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74A3D9-F47F-490D-9906-C1EC6415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A915B-6AA4-44EA-8F2A-FAD87ACB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49ADA-44B9-46E7-A79E-421C200A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E1F58-F7EC-4C10-B424-B3CCAE8B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E78-3C9E-4B86-8CE8-ECFED174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C9F0E5-EB03-4195-8553-B6BC4A12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39CC1-0752-441B-BD5A-CA844428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966A1-38F4-4F0C-83C3-887480FE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2F379-6DB6-41D8-83B7-131060AA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BE628-1888-40AD-9755-52C26354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D3912-6B9C-4849-B61C-A571CEE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B6585C-3686-4F54-BB45-A8982A21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C30D0-CBA7-410F-90FC-7D1BDF2F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DAF292-77FC-42F6-A5D9-A5CA6E6A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903BE-FC06-43D8-BF75-17276167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6F0A-F7FE-4318-971D-FF3923D4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0A793-1D59-4A3D-998D-82B336BE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0CEED-E4A1-4CF6-9FDB-BFEB4C4A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A498C-137F-4EF0-9957-09434C42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7DD81-B226-481C-AAE6-6E0631B4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9E7D8-4D84-4EFD-B201-A48C25D9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B3B0B9-BEA5-42B5-8A39-772B6270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3BD76F-637E-4978-A750-51295006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A9CB9-B60C-4A19-864B-7D764B4E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396B7-BF13-41B8-9B1F-DAE7491B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22AFCF-1D52-435A-A3DC-786F25D3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EB9-25E0-4288-AF55-CACBEEC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E28CF-4CF0-41FD-82E2-8593DFCB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07FAB8-C6F2-4E54-8819-19F7FCB0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814E86-F0A4-4D31-8389-0D90C446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B8501-D961-4DB7-8F9B-C22793BA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1954D8-F94C-4D54-8898-42062053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EF56E0-14AB-47CE-9F7E-010C4480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AEFB87-2C82-4583-85B5-21E5D221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1922E-77E2-4D02-A87E-AC4288AA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C8804-36AC-43BE-BCFA-83C0B7D3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546E1A-5617-4935-9E4B-E5C4DD39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C92-96FC-4D34-834C-7753F199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5728BD-7CB7-4A3F-8275-2C8C2C50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1F94B-E60A-4127-92C7-3813E03E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E0C2B-A01E-4165-824C-F92E7CD2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52C39-DFE3-4B56-87BE-F2518D2F1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6D931-9DBD-48B2-ACC8-5FAC668A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779169-C19D-420B-8BD1-EAE3EEA2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31B997-0C9A-4C91-9C03-6EAD39C7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313EC4-81B8-4636-89CD-5A95F5F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78834F-9E87-4C62-B4A0-B7EB43E1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3F269A-D7BF-43D2-90CC-7A7473BE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7D0-055A-4378-8BC8-41DF16F2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4430E2-E3A3-4C0C-8D77-DFFE0CC5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E812FE-E299-49DA-A7E2-C4245069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773965-8EA6-4985-B4C1-50221C5C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9A5F9-FE81-4D2A-9F3F-DC1F86D5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63F70-E1AE-4813-A56C-4EAD4F4F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73B10-83EA-4632-A55F-49478B2E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03CBBD-3CC1-48FD-A402-F8B837A7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BD253-152C-4716-BB18-6719DCF9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1C71FC-928E-40E9-87FA-ECB912C6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4E9802-30F6-4AE1-9BD2-FD9E29F9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03A1-DBE3-46D8-BBD6-947E5D92747A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FC1C-CF90-484A-AC98-DF4291A50CC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595440" y="4800600"/>
            <a:ext cx="487332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5DC9-FAE2-4504-94D7-AD831D0BE161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1792440" y="4800600"/>
            <a:ext cx="5500440" cy="685800"/>
          </a:xfrm>
          <a:prstGeom prst="rect">
            <a:avLst/>
          </a:prstGeom>
          <a:solidFill>
            <a:srgbClr val="313131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2EED-373C-43C6-A19E-54BD0BA12154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5E95-DBB1-4EE7-A420-5AB1F85697BB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2399-F4ED-48F6-B433-3A9CB1D528D3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" descr=""/>
          <p:cNvPicPr/>
          <p:nvPr/>
        </p:nvPicPr>
        <p:blipFill>
          <a:blip r:embed="rId2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991A-1B70-47C7-908B-D1D69861ACE1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20520" y="20520"/>
            <a:ext cx="3498840" cy="282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3503520" y="20520"/>
            <a:ext cx="5624640" cy="282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4"/>
          <a:stretch/>
        </p:blipFill>
        <p:spPr>
          <a:xfrm>
            <a:off x="20520" y="2817720"/>
            <a:ext cx="7669440" cy="2297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5"/>
          <a:stretch/>
        </p:blipFill>
        <p:spPr>
          <a:xfrm>
            <a:off x="7662960" y="2819520"/>
            <a:ext cx="1460520" cy="229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6"/>
          <a:stretch/>
        </p:blipFill>
        <p:spPr>
          <a:xfrm>
            <a:off x="20520" y="5089680"/>
            <a:ext cx="9097920" cy="1738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3"/>
          <p:cNvSpPr/>
          <p:nvPr/>
        </p:nvSpPr>
        <p:spPr>
          <a:xfrm>
            <a:off x="8755200" y="2470320"/>
            <a:ext cx="304560" cy="152280"/>
          </a:xfrm>
          <a:prstGeom prst="rect">
            <a:avLst/>
          </a:prstGeom>
          <a:solidFill>
            <a:srgbClr val="f2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2697-60C9-436D-BACE-962CC5A29D06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Oval 6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90" name="Oval 6" descr=""/>
            <p:cNvPicPr/>
            <p:nvPr/>
          </p:nvPicPr>
          <p:blipFill>
            <a:blip r:embed="rId3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2" name="Rectangle 7"/>
          <p:cNvSpPr/>
          <p:nvPr/>
        </p:nvSpPr>
        <p:spPr>
          <a:xfrm>
            <a:off x="8686800" y="526572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93" name="Oval 8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94" name="Oval 8" descr=""/>
            <p:cNvPicPr/>
            <p:nvPr/>
          </p:nvPicPr>
          <p:blipFill>
            <a:blip r:embed="rId4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9BD9-E9E9-45EA-8962-1157C7AA61B1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E082-341C-488B-AD5B-0F80B0CA6CF3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"/>
          <p:cNvPicPr/>
          <p:nvPr/>
        </p:nvPicPr>
        <p:blipFill>
          <a:blip r:embed="rId3"/>
          <a:srcRect l="2599" t="0" r="5874" b="5271"/>
          <a:stretch/>
        </p:blipFill>
        <p:spPr>
          <a:xfrm>
            <a:off x="3240" y="5867280"/>
            <a:ext cx="914400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47474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5CD7-4469-4326-843F-0340D54BB208}" type="slidenum">
              <a:rPr b="0" lang="de-DE" sz="1200" spc="-1" strike="noStrike">
                <a:solidFill>
                  <a:srgbClr val="47474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1DAE-45E1-433A-B4CE-B51E4303662D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5" descr=""/>
          <p:cNvPicPr/>
          <p:nvPr/>
        </p:nvPicPr>
        <p:blipFill>
          <a:blip r:embed="rId3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59F2-B06D-4C43-AEF2-47CF9183168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d8d8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2C2E-11EE-436A-B394-F20296CE6966}" type="slidenum">
              <a:rPr b="0" lang="de-DE" sz="1200" spc="-1" strike="noStrike">
                <a:solidFill>
                  <a:srgbClr val="8d8d8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Rectangle 6"/>
          <p:cNvGrpSpPr/>
          <p:nvPr/>
        </p:nvGrpSpPr>
        <p:grpSpPr>
          <a:xfrm>
            <a:off x="0" y="2895480"/>
            <a:ext cx="7547040" cy="2133720"/>
            <a:chOff x="0" y="2895480"/>
            <a:chExt cx="7547040" cy="2133720"/>
          </a:xfrm>
        </p:grpSpPr>
        <p:pic>
          <p:nvPicPr>
            <p:cNvPr id="34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2895480"/>
              <a:ext cx="75470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0" y="2895480"/>
              <a:ext cx="7543800" cy="21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4730-3811-4926-91D9-611608EE9B4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2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s://portal.tirol.gv.at/moodle/course/view.php?id=3991" TargetMode="External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9.png"/><Relationship Id="rId4" Type="http://schemas.openxmlformats.org/officeDocument/2006/relationships/image" Target="../media/image38.png"/><Relationship Id="rId5" Type="http://schemas.openxmlformats.org/officeDocument/2006/relationships/hyperlink" Target="http://www.nms.tsn.at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69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3733920" y="1315800"/>
            <a:ext cx="4952880" cy="141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c5c5c"/>
                </a:solidFill>
                <a:latin typeface="Calibri"/>
              </a:rPr>
              <a:t>eLearning-Wettbewerb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228240" y="3048120"/>
            <a:ext cx="7512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de-DE" sz="5600" spc="-1" strike="noStrike">
                <a:solidFill>
                  <a:srgbClr val="ffffff"/>
                </a:solidFill>
                <a:latin typeface="Arial"/>
                <a:ea typeface="Arial"/>
              </a:rPr>
              <a:t>WebQuest@Home</a:t>
            </a:r>
            <a:endParaRPr b="0" lang="en-US" sz="56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46" name="Grafik 1" descr=""/>
          <p:cNvPicPr/>
          <p:nvPr/>
        </p:nvPicPr>
        <p:blipFill>
          <a:blip r:embed="rId1"/>
          <a:stretch/>
        </p:blipFill>
        <p:spPr>
          <a:xfrm>
            <a:off x="3132000" y="5191200"/>
            <a:ext cx="1905120" cy="14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0" y="762120"/>
            <a:ext cx="2444760" cy="22860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18960" y="2670120"/>
            <a:ext cx="7543800" cy="120024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800" spc="-1" strike="noStrike">
                <a:solidFill>
                  <a:srgbClr val="262626"/>
                </a:solidFill>
                <a:latin typeface="Calibri"/>
              </a:rPr>
              <a:t>DANKE</a:t>
            </a:r>
            <a:endParaRPr b="0" lang="en-US" sz="7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1"/>
          <p:cNvSpPr/>
          <p:nvPr/>
        </p:nvSpPr>
        <p:spPr>
          <a:xfrm>
            <a:off x="609480" y="380880"/>
            <a:ext cx="81154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74747"/>
                </a:solidFill>
                <a:latin typeface="Calibri"/>
              </a:rPr>
              <a:t>Informationen zum Wettbewerb „WebQuest@Home“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8" name="Straight Connector 9"/>
          <p:cNvSpPr/>
          <p:nvPr/>
        </p:nvSpPr>
        <p:spPr>
          <a:xfrm>
            <a:off x="1905120" y="2936880"/>
            <a:ext cx="5257800" cy="1440"/>
          </a:xfrm>
          <a:prstGeom prst="line">
            <a:avLst/>
          </a:prstGeom>
          <a:ln w="47520">
            <a:solidFill>
              <a:srgbClr val="e4e4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750960" y="5127480"/>
            <a:ext cx="79740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c5c5c"/>
                </a:solidFill>
                <a:latin typeface="Calibri"/>
              </a:rPr>
              <a:t>Abenteuerliche Spurensuche im Internet 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0" name="Rectangle 11"/>
          <p:cNvSpPr/>
          <p:nvPr/>
        </p:nvSpPr>
        <p:spPr>
          <a:xfrm>
            <a:off x="8686800" y="5284800"/>
            <a:ext cx="457200" cy="96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6600"/>
                </a:solidFill>
                <a:latin typeface="Calibri"/>
              </a:rPr>
              <a:t>           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51" name="Group 25"/>
          <p:cNvGrpSpPr/>
          <p:nvPr/>
        </p:nvGrpSpPr>
        <p:grpSpPr>
          <a:xfrm>
            <a:off x="762120" y="1557360"/>
            <a:ext cx="2057400" cy="2708280"/>
            <a:chOff x="762120" y="1557360"/>
            <a:chExt cx="2057400" cy="2708280"/>
          </a:xfrm>
        </p:grpSpPr>
        <p:grpSp>
          <p:nvGrpSpPr>
            <p:cNvPr id="652" name="Oval 5"/>
            <p:cNvGrpSpPr/>
            <p:nvPr/>
          </p:nvGrpSpPr>
          <p:grpSpPr>
            <a:xfrm>
              <a:off x="1204200" y="2150640"/>
              <a:ext cx="1210680" cy="1656360"/>
              <a:chOff x="1204200" y="2150640"/>
              <a:chExt cx="1210680" cy="1656360"/>
            </a:xfrm>
          </p:grpSpPr>
          <p:pic>
            <p:nvPicPr>
              <p:cNvPr id="653" name="Oval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204200" y="2150640"/>
                <a:ext cx="121068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"/>
              <p:cNvSpPr/>
              <p:nvPr/>
            </p:nvSpPr>
            <p:spPr>
              <a:xfrm>
                <a:off x="1402920" y="23313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55" name="TextBox 13" descr=""/>
            <p:cNvPicPr/>
            <p:nvPr/>
          </p:nvPicPr>
          <p:blipFill>
            <a:blip r:embed="rId2"/>
            <a:stretch/>
          </p:blipFill>
          <p:spPr>
            <a:xfrm>
              <a:off x="762120" y="155736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6" name="Oval 18"/>
            <p:cNvGrpSpPr/>
            <p:nvPr/>
          </p:nvGrpSpPr>
          <p:grpSpPr>
            <a:xfrm>
              <a:off x="1367280" y="2165040"/>
              <a:ext cx="884160" cy="775440"/>
              <a:chOff x="1367280" y="2165040"/>
              <a:chExt cx="884160" cy="775440"/>
            </a:xfrm>
          </p:grpSpPr>
          <p:pic>
            <p:nvPicPr>
              <p:cNvPr id="657" name="Oval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1367280" y="216504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1496160" y="227844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59" name="TextBox 12"/>
            <p:cNvSpPr/>
            <p:nvPr/>
          </p:nvSpPr>
          <p:spPr>
            <a:xfrm>
              <a:off x="1269360" y="2581920"/>
              <a:ext cx="107676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as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0" name="Group 22"/>
          <p:cNvGrpSpPr/>
          <p:nvPr/>
        </p:nvGrpSpPr>
        <p:grpSpPr>
          <a:xfrm>
            <a:off x="3602160" y="1592280"/>
            <a:ext cx="2057400" cy="2708280"/>
            <a:chOff x="3602160" y="1592280"/>
            <a:chExt cx="2057400" cy="2708280"/>
          </a:xfrm>
        </p:grpSpPr>
        <p:grpSp>
          <p:nvGrpSpPr>
            <p:cNvPr id="661" name="Oval 3"/>
            <p:cNvGrpSpPr/>
            <p:nvPr/>
          </p:nvGrpSpPr>
          <p:grpSpPr>
            <a:xfrm>
              <a:off x="4044240" y="2163600"/>
              <a:ext cx="1173240" cy="1641600"/>
              <a:chOff x="4044240" y="2163600"/>
              <a:chExt cx="1173240" cy="1641600"/>
            </a:xfrm>
          </p:grpSpPr>
          <p:pic>
            <p:nvPicPr>
              <p:cNvPr id="662" name="Oval 3" descr=""/>
              <p:cNvPicPr/>
              <p:nvPr/>
            </p:nvPicPr>
            <p:blipFill>
              <a:blip r:embed="rId4"/>
              <a:stretch/>
            </p:blipFill>
            <p:spPr>
              <a:xfrm>
                <a:off x="4044240" y="2163600"/>
                <a:ext cx="1173240" cy="164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4225320" y="234432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64" name="TextBox 14" descr=""/>
            <p:cNvPicPr/>
            <p:nvPr/>
          </p:nvPicPr>
          <p:blipFill>
            <a:blip r:embed="rId5"/>
            <a:stretch/>
          </p:blipFill>
          <p:spPr>
            <a:xfrm>
              <a:off x="3602160" y="159228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5" name="Oval 19"/>
            <p:cNvGrpSpPr/>
            <p:nvPr/>
          </p:nvGrpSpPr>
          <p:grpSpPr>
            <a:xfrm>
              <a:off x="4190400" y="2178360"/>
              <a:ext cx="884160" cy="775440"/>
              <a:chOff x="4190400" y="2178360"/>
              <a:chExt cx="884160" cy="775440"/>
            </a:xfrm>
          </p:grpSpPr>
          <p:pic>
            <p:nvPicPr>
              <p:cNvPr id="666" name="Oval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4190400" y="217836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4318920" y="229212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68" name="TextBox 15"/>
            <p:cNvSpPr/>
            <p:nvPr/>
          </p:nvSpPr>
          <p:spPr>
            <a:xfrm>
              <a:off x="4089960" y="261612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er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669" name="Group 23"/>
          <p:cNvGrpSpPr/>
          <p:nvPr/>
        </p:nvGrpSpPr>
        <p:grpSpPr>
          <a:xfrm>
            <a:off x="6324480" y="1587600"/>
            <a:ext cx="2057400" cy="2708280"/>
            <a:chOff x="6324480" y="1587600"/>
            <a:chExt cx="2057400" cy="2708280"/>
          </a:xfrm>
        </p:grpSpPr>
        <p:grpSp>
          <p:nvGrpSpPr>
            <p:cNvPr id="670" name="Oval 4"/>
            <p:cNvGrpSpPr/>
            <p:nvPr/>
          </p:nvGrpSpPr>
          <p:grpSpPr>
            <a:xfrm>
              <a:off x="6746040" y="2166120"/>
              <a:ext cx="1207440" cy="1656360"/>
              <a:chOff x="6746040" y="2166120"/>
              <a:chExt cx="1207440" cy="1656360"/>
            </a:xfrm>
          </p:grpSpPr>
          <p:pic>
            <p:nvPicPr>
              <p:cNvPr id="671" name="Oval 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6040" y="2166120"/>
                <a:ext cx="1207440" cy="165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6942960" y="2347560"/>
                <a:ext cx="81180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pic>
          <p:nvPicPr>
            <p:cNvPr id="673" name="TextBox 16" descr=""/>
            <p:cNvPicPr/>
            <p:nvPr/>
          </p:nvPicPr>
          <p:blipFill>
            <a:blip r:embed="rId8"/>
            <a:stretch/>
          </p:blipFill>
          <p:spPr>
            <a:xfrm>
              <a:off x="6324480" y="1587600"/>
              <a:ext cx="2057400" cy="270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4" name="Oval 20"/>
            <p:cNvGrpSpPr/>
            <p:nvPr/>
          </p:nvGrpSpPr>
          <p:grpSpPr>
            <a:xfrm>
              <a:off x="6922800" y="2188080"/>
              <a:ext cx="884160" cy="775440"/>
              <a:chOff x="6922800" y="2188080"/>
              <a:chExt cx="884160" cy="775440"/>
            </a:xfrm>
          </p:grpSpPr>
          <p:pic>
            <p:nvPicPr>
              <p:cNvPr id="675" name="Oval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6922800" y="2188080"/>
                <a:ext cx="884160" cy="77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6" name=""/>
              <p:cNvSpPr/>
              <p:nvPr/>
            </p:nvSpPr>
            <p:spPr>
              <a:xfrm>
                <a:off x="7051680" y="2302560"/>
                <a:ext cx="624600" cy="54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800" spc="-1" strike="noStrike">
                    <a:solidFill>
                      <a:srgbClr val="ffffff"/>
                    </a:solidFill>
                    <a:latin typeface="Calibri"/>
                  </a:rPr>
                  <a:t>       </a:t>
                </a:r>
                <a:endParaRPr b="0" lang="en-US" sz="1800" spc="-1" strike="noStrike">
                  <a:solidFill>
                    <a:srgbClr val="262626"/>
                  </a:solidFill>
                  <a:latin typeface="Calibri"/>
                </a:endParaRPr>
              </a:p>
            </p:txBody>
          </p:sp>
        </p:grpSp>
        <p:sp>
          <p:nvSpPr>
            <p:cNvPr id="677" name="TextBox 17"/>
            <p:cNvSpPr/>
            <p:nvPr/>
          </p:nvSpPr>
          <p:spPr>
            <a:xfrm>
              <a:off x="6823800" y="2598840"/>
              <a:ext cx="10767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4000" spc="-1" strike="noStrike">
                  <a:solidFill>
                    <a:srgbClr val="ffffff"/>
                  </a:solidFill>
                  <a:latin typeface="Calibri"/>
                </a:rPr>
                <a:t>Wie?</a:t>
              </a:r>
              <a:endParaRPr b="0" lang="en-US" sz="40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971800" y="1992240"/>
            <a:ext cx="5867280" cy="302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chülerInnen begeben sich mit dem Computer und dem Internet auf Spurensuche.</a:t>
            </a:r>
            <a:br>
              <a:rPr sz="2800"/>
            </a:br>
            <a:r>
              <a:rPr b="1" lang="de-DE" sz="2800" spc="-1" strike="noStrike">
                <a:solidFill>
                  <a:srgbClr val="262626"/>
                </a:solidFill>
                <a:latin typeface="Calibri"/>
              </a:rPr>
              <a:t>Sie erforschen gemeinsam ihren Schulort und präsentieren die Ergebnisse auf der Lernplattform Moodle.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gaben auf der Lernplattform 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680" name="TextBox 5" descr=""/>
          <p:cNvPicPr/>
          <p:nvPr/>
        </p:nvPicPr>
        <p:blipFill>
          <a:blip r:embed="rId1"/>
          <a:stretch/>
        </p:blipFill>
        <p:spPr>
          <a:xfrm>
            <a:off x="-85680" y="95076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681" name="TextBox 12"/>
          <p:cNvSpPr/>
          <p:nvPr/>
        </p:nvSpPr>
        <p:spPr>
          <a:xfrm>
            <a:off x="824040" y="2666880"/>
            <a:ext cx="19303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as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WebQuest-Method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83" name="Group 3"/>
          <p:cNvGrpSpPr/>
          <p:nvPr/>
        </p:nvGrpSpPr>
        <p:grpSpPr>
          <a:xfrm>
            <a:off x="1511280" y="3405240"/>
            <a:ext cx="4978440" cy="2832120"/>
            <a:chOff x="1511280" y="3405240"/>
            <a:chExt cx="4978440" cy="2832120"/>
          </a:xfrm>
        </p:grpSpPr>
        <p:sp>
          <p:nvSpPr>
            <p:cNvPr id="684" name="Rectangle 14"/>
            <p:cNvSpPr/>
            <p:nvPr/>
          </p:nvSpPr>
          <p:spPr>
            <a:xfrm>
              <a:off x="1511280" y="3405240"/>
              <a:ext cx="4978440" cy="28321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85" name="TextBox 7"/>
            <p:cNvSpPr/>
            <p:nvPr/>
          </p:nvSpPr>
          <p:spPr>
            <a:xfrm>
              <a:off x="1628640" y="3477960"/>
              <a:ext cx="4696200" cy="26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Einlei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blauf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fgab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Quell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Bewertung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Ausblick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  <a:p>
              <a:pPr marL="457200" indent="-457200">
                <a:lnSpc>
                  <a:spcPct val="90000"/>
                </a:lnSpc>
                <a:buClr>
                  <a:srgbClr val="262626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262626"/>
                  </a:solidFill>
                  <a:latin typeface="Calibri"/>
                </a:rPr>
                <a:t>Hinweise für Lehrpersonen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86" name="Grafik 4" descr=""/>
          <p:cNvPicPr/>
          <p:nvPr/>
        </p:nvPicPr>
        <p:blipFill>
          <a:blip r:embed="rId2"/>
          <a:stretch/>
        </p:blipFill>
        <p:spPr>
          <a:xfrm>
            <a:off x="1511280" y="622440"/>
            <a:ext cx="5021280" cy="2590560"/>
          </a:xfrm>
          <a:prstGeom prst="rect">
            <a:avLst/>
          </a:prstGeom>
          <a:ln w="0">
            <a:noFill/>
          </a:ln>
        </p:spPr>
      </p:pic>
      <p:pic>
        <p:nvPicPr>
          <p:cNvPr id="687" name="Grafik 5" descr=""/>
          <p:cNvPicPr/>
          <p:nvPr/>
        </p:nvPicPr>
        <p:blipFill>
          <a:blip r:embed="rId3"/>
          <a:stretch/>
        </p:blipFill>
        <p:spPr>
          <a:xfrm>
            <a:off x="6732720" y="4751280"/>
            <a:ext cx="1904760" cy="1486080"/>
          </a:xfrm>
          <a:prstGeom prst="rect">
            <a:avLst/>
          </a:prstGeom>
          <a:ln w="0">
            <a:noFill/>
          </a:ln>
        </p:spPr>
      </p:pic>
      <p:pic>
        <p:nvPicPr>
          <p:cNvPr id="688" name="Grafik 12" descr=""/>
          <p:cNvPicPr/>
          <p:nvPr/>
        </p:nvPicPr>
        <p:blipFill>
          <a:blip r:embed="rId4"/>
          <a:stretch/>
        </p:blipFill>
        <p:spPr>
          <a:xfrm>
            <a:off x="7526160" y="3492360"/>
            <a:ext cx="1231920" cy="960480"/>
          </a:xfrm>
          <a:prstGeom prst="rect">
            <a:avLst/>
          </a:prstGeom>
          <a:ln w="0">
            <a:noFill/>
          </a:ln>
        </p:spPr>
      </p:pic>
      <p:pic>
        <p:nvPicPr>
          <p:cNvPr id="689" name="Grafik 13" descr=""/>
          <p:cNvPicPr/>
          <p:nvPr/>
        </p:nvPicPr>
        <p:blipFill>
          <a:blip r:embed="rId5"/>
          <a:stretch/>
        </p:blipFill>
        <p:spPr>
          <a:xfrm>
            <a:off x="7161120" y="2470320"/>
            <a:ext cx="952560" cy="742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1"/>
          <p:cNvSpPr/>
          <p:nvPr/>
        </p:nvSpPr>
        <p:spPr>
          <a:xfrm rot="16200000">
            <a:off x="-2145960" y="2451240"/>
            <a:ext cx="54864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Beispiel-Kurs auf Moodle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1" name="TextBox 2"/>
          <p:cNvSpPr/>
          <p:nvPr/>
        </p:nvSpPr>
        <p:spPr>
          <a:xfrm>
            <a:off x="1523880" y="685800"/>
            <a:ext cx="7391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eispi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2"/>
              </a:rPr>
              <a:t>WebQuest@Eben a. A.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692" name="Group 3"/>
          <p:cNvGrpSpPr/>
          <p:nvPr/>
        </p:nvGrpSpPr>
        <p:grpSpPr>
          <a:xfrm>
            <a:off x="6270480" y="2565360"/>
            <a:ext cx="2644920" cy="3406680"/>
            <a:chOff x="6270480" y="2565360"/>
            <a:chExt cx="2644920" cy="3406680"/>
          </a:xfrm>
        </p:grpSpPr>
        <p:sp>
          <p:nvSpPr>
            <p:cNvPr id="693" name="Rectangle 14"/>
            <p:cNvSpPr/>
            <p:nvPr/>
          </p:nvSpPr>
          <p:spPr>
            <a:xfrm>
              <a:off x="6597360" y="2565360"/>
              <a:ext cx="2318040" cy="340668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4" name="TextBox 7"/>
            <p:cNvSpPr/>
            <p:nvPr/>
          </p:nvSpPr>
          <p:spPr>
            <a:xfrm>
              <a:off x="6672960" y="2656440"/>
              <a:ext cx="2166120" cy="31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595959"/>
                  </a:solidFill>
                  <a:latin typeface="Calibri"/>
                </a:rPr>
                <a:t>Fertig ausgearbeiteter WebQuest - zu finden auf der Plattform TSN-Moodle</a:t>
              </a:r>
              <a:endParaRPr b="0" lang="en-US" sz="2400" spc="-1" strike="noStrike">
                <a:solidFill>
                  <a:srgbClr val="262626"/>
                </a:solidFill>
                <a:latin typeface="Calibri"/>
              </a:endParaRPr>
            </a:p>
          </p:txBody>
        </p:sp>
        <p:sp>
          <p:nvSpPr>
            <p:cNvPr id="695" name="Straight Connector 18"/>
            <p:cNvSpPr/>
            <p:nvPr/>
          </p:nvSpPr>
          <p:spPr>
            <a:xfrm>
              <a:off x="6270480" y="5065560"/>
              <a:ext cx="274680" cy="0"/>
            </a:xfrm>
            <a:prstGeom prst="line">
              <a:avLst/>
            </a:prstGeom>
            <a:ln cap="rnd" w="25560">
              <a:solidFill>
                <a:srgbClr val="a6a6a6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696" name="Grafik 9" descr=""/>
          <p:cNvPicPr/>
          <p:nvPr/>
        </p:nvPicPr>
        <p:blipFill>
          <a:blip r:embed="rId3"/>
          <a:stretch/>
        </p:blipFill>
        <p:spPr>
          <a:xfrm>
            <a:off x="1552680" y="2565360"/>
            <a:ext cx="4543200" cy="340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Oval 3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698" name="Oval 3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00" name="Oval 7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01" name="Oval 7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03" name="TextBox 16" descr=""/>
          <p:cNvPicPr/>
          <p:nvPr/>
        </p:nvPicPr>
        <p:blipFill>
          <a:blip r:embed="rId4"/>
          <a:stretch/>
        </p:blipFill>
        <p:spPr>
          <a:xfrm>
            <a:off x="-42840" y="927000"/>
            <a:ext cx="3687840" cy="453564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4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Sekundarstufe I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Neue Mittelschulen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Tiroler Hauptschulen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Voraussetzung: Schulinstanz auf TSNmoodl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6" name="TextBox 15"/>
          <p:cNvSpPr/>
          <p:nvPr/>
        </p:nvSpPr>
        <p:spPr>
          <a:xfrm>
            <a:off x="833400" y="2630520"/>
            <a:ext cx="1932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er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Oval 2"/>
          <p:cNvGrpSpPr/>
          <p:nvPr/>
        </p:nvGrpSpPr>
        <p:grpSpPr>
          <a:xfrm>
            <a:off x="706320" y="1944720"/>
            <a:ext cx="2170080" cy="2773440"/>
            <a:chOff x="706320" y="1944720"/>
            <a:chExt cx="2170080" cy="2773440"/>
          </a:xfrm>
        </p:grpSpPr>
        <p:pic>
          <p:nvPicPr>
            <p:cNvPr id="708" name="Oval 2" descr=""/>
            <p:cNvPicPr/>
            <p:nvPr/>
          </p:nvPicPr>
          <p:blipFill>
            <a:blip r:embed="rId2"/>
            <a:stretch/>
          </p:blipFill>
          <p:spPr>
            <a:xfrm>
              <a:off x="706320" y="1944720"/>
              <a:ext cx="2170080" cy="277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10" name="Oval 5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11" name="Oval 5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pic>
        <p:nvPicPr>
          <p:cNvPr id="713" name="TextBox 12" descr=""/>
          <p:cNvPicPr/>
          <p:nvPr/>
        </p:nvPicPr>
        <p:blipFill>
          <a:blip r:embed="rId4"/>
          <a:stretch/>
        </p:blipFill>
        <p:spPr>
          <a:xfrm>
            <a:off x="-49320" y="987480"/>
            <a:ext cx="3687840" cy="4535280"/>
          </a:xfrm>
          <a:prstGeom prst="rect">
            <a:avLst/>
          </a:prstGeom>
          <a:ln w="0">
            <a:noFill/>
          </a:ln>
        </p:spPr>
      </p:pic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19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262626"/>
                </a:solidFill>
                <a:latin typeface="Calibri"/>
              </a:rPr>
              <a:t>Online-Anmeldung</a:t>
            </a:r>
            <a:br>
              <a:rPr sz="4000"/>
            </a:br>
            <a:r>
              <a:rPr b="0" lang="de-DE" sz="4000" spc="-1" strike="noStrike">
                <a:solidFill>
                  <a:srgbClr val="7f7f7f"/>
                </a:solidFill>
                <a:latin typeface="Calibri"/>
              </a:rPr>
              <a:t>Homepage der NMS</a:t>
            </a:r>
            <a:br>
              <a:rPr sz="4000"/>
            </a:br>
            <a:r>
              <a:rPr b="1" lang="de-DE" sz="40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www.nms.tsn.at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Informationen und Anmeldung auf der NMS-Homepage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16" name="TextBox 17"/>
          <p:cNvSpPr/>
          <p:nvPr/>
        </p:nvSpPr>
        <p:spPr>
          <a:xfrm>
            <a:off x="825480" y="2635200"/>
            <a:ext cx="1930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Calibri"/>
              </a:rPr>
              <a:t>Wie?</a:t>
            </a:r>
            <a:endParaRPr b="0" lang="en-US" sz="4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hteck 5"/>
          <p:cNvSpPr/>
          <p:nvPr/>
        </p:nvSpPr>
        <p:spPr>
          <a:xfrm>
            <a:off x="5435640" y="1700280"/>
            <a:ext cx="3097080" cy="3313080"/>
          </a:xfrm>
          <a:prstGeom prst="rect">
            <a:avLst/>
          </a:prstGeom>
          <a:solidFill>
            <a:srgbClr val="f4891e"/>
          </a:solidFill>
          <a:ln w="25560">
            <a:solidFill>
              <a:srgbClr val="b363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grpSp>
        <p:nvGrpSpPr>
          <p:cNvPr id="718" name="Oval 1"/>
          <p:cNvGrpSpPr/>
          <p:nvPr/>
        </p:nvGrpSpPr>
        <p:grpSpPr>
          <a:xfrm>
            <a:off x="738360" y="1944720"/>
            <a:ext cx="2108160" cy="2749680"/>
            <a:chOff x="738360" y="1944720"/>
            <a:chExt cx="2108160" cy="2749680"/>
          </a:xfrm>
        </p:grpSpPr>
        <p:pic>
          <p:nvPicPr>
            <p:cNvPr id="719" name="Oval 1" descr=""/>
            <p:cNvPicPr/>
            <p:nvPr/>
          </p:nvPicPr>
          <p:blipFill>
            <a:blip r:embed="rId2"/>
            <a:stretch/>
          </p:blipFill>
          <p:spPr>
            <a:xfrm>
              <a:off x="738360" y="1944720"/>
              <a:ext cx="2108160" cy="27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1063800" y="2247840"/>
              <a:ext cx="145404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grpSp>
        <p:nvGrpSpPr>
          <p:cNvPr id="721" name="Oval 2"/>
          <p:cNvGrpSpPr/>
          <p:nvPr/>
        </p:nvGrpSpPr>
        <p:grpSpPr>
          <a:xfrm>
            <a:off x="1006560" y="1994040"/>
            <a:ext cx="1584360" cy="1292040"/>
            <a:chOff x="1006560" y="1994040"/>
            <a:chExt cx="1584360" cy="1292040"/>
          </a:xfrm>
        </p:grpSpPr>
        <p:pic>
          <p:nvPicPr>
            <p:cNvPr id="722" name="Oval 2" descr=""/>
            <p:cNvPicPr/>
            <p:nvPr/>
          </p:nvPicPr>
          <p:blipFill>
            <a:blip r:embed="rId3"/>
            <a:stretch/>
          </p:blipFill>
          <p:spPr>
            <a:xfrm>
              <a:off x="1006560" y="1994040"/>
              <a:ext cx="1584360" cy="129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1239840" y="2182680"/>
              <a:ext cx="111924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Calibri"/>
                </a:rPr>
                <a:t>       </a:t>
              </a:r>
              <a:endParaRPr b="0" lang="en-US" sz="1800" spc="-1" strike="noStrike">
                <a:solidFill>
                  <a:srgbClr val="262626"/>
                </a:solidFill>
                <a:latin typeface="Calibri"/>
              </a:endParaRPr>
            </a:p>
          </p:txBody>
        </p:sp>
      </p:grpSp>
      <p:sp>
        <p:nvSpPr>
          <p:cNvPr id="724" name="TextBox 3"/>
          <p:cNvSpPr/>
          <p:nvPr/>
        </p:nvSpPr>
        <p:spPr>
          <a:xfrm>
            <a:off x="1217520" y="1755720"/>
            <a:ext cx="1219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0" spc="-1" strike="noStrike">
                <a:solidFill>
                  <a:srgbClr val="a6a6a6"/>
                </a:solidFill>
                <a:latin typeface="Georgia"/>
              </a:rPr>
              <a:t>?</a:t>
            </a:r>
            <a:endParaRPr b="0" lang="en-US" sz="15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71800" y="1991880"/>
            <a:ext cx="5867280" cy="28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262626"/>
                </a:solidFill>
                <a:latin typeface="Calibri"/>
              </a:rPr>
              <a:t>Preise…</a:t>
            </a:r>
            <a:r>
              <a:rPr b="0" lang="de-DE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iPad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USB-Stick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Headsets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Gutscheine</a:t>
            </a:r>
            <a:br>
              <a:rPr sz="3600"/>
            </a:br>
            <a:r>
              <a:rPr b="0" lang="de-DE" sz="3600" spc="-1" strike="noStrike">
                <a:solidFill>
                  <a:srgbClr val="7f7f7f"/>
                </a:solidFill>
                <a:latin typeface="Calibri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510516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404040"/>
                </a:solidFill>
                <a:latin typeface="Calibri"/>
              </a:rPr>
              <a:t>Das gibt es zu gewinnen!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27" name="Textfeld 4"/>
          <p:cNvSpPr/>
          <p:nvPr/>
        </p:nvSpPr>
        <p:spPr>
          <a:xfrm>
            <a:off x="5580000" y="1755720"/>
            <a:ext cx="30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Start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. März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Ende: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6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262626"/>
                </a:solidFill>
                <a:latin typeface="Calibri"/>
              </a:rPr>
              <a:t>Preisverleihung: </a:t>
            </a: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13. Mai 2011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262626"/>
                </a:solidFill>
                <a:latin typeface="Calibri"/>
              </a:rPr>
              <a:t>(Dialogtag)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Box 4"/>
          <p:cNvSpPr/>
          <p:nvPr/>
        </p:nvSpPr>
        <p:spPr>
          <a:xfrm>
            <a:off x="399960" y="1542960"/>
            <a:ext cx="464832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7bcf27"/>
                </a:solidFill>
                <a:latin typeface="Calibri"/>
              </a:rPr>
              <a:t>Zusammenarbeit</a:t>
            </a:r>
            <a:endParaRPr b="0" lang="en-US" sz="44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29" name="Picture 11" descr=""/>
          <p:cNvPicPr/>
          <p:nvPr/>
        </p:nvPicPr>
        <p:blipFill>
          <a:blip r:embed="rId2"/>
          <a:stretch/>
        </p:blipFill>
        <p:spPr>
          <a:xfrm rot="198000">
            <a:off x="8012160" y="2846520"/>
            <a:ext cx="1031760" cy="228276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5" descr=""/>
          <p:cNvPicPr/>
          <p:nvPr/>
        </p:nvPicPr>
        <p:blipFill>
          <a:blip r:embed="rId3"/>
          <a:stretch/>
        </p:blipFill>
        <p:spPr>
          <a:xfrm>
            <a:off x="7416720" y="268200"/>
            <a:ext cx="1584360" cy="2438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7" descr=""/>
          <p:cNvPicPr/>
          <p:nvPr/>
        </p:nvPicPr>
        <p:blipFill>
          <a:blip r:embed="rId4"/>
          <a:stretch/>
        </p:blipFill>
        <p:spPr>
          <a:xfrm>
            <a:off x="6110280" y="357120"/>
            <a:ext cx="828720" cy="2133720"/>
          </a:xfrm>
          <a:prstGeom prst="rect">
            <a:avLst/>
          </a:prstGeom>
          <a:ln w="0">
            <a:noFill/>
          </a:ln>
        </p:spPr>
      </p:pic>
      <p:sp>
        <p:nvSpPr>
          <p:cNvPr id="732" name="Left-Right Arrow 18"/>
          <p:cNvSpPr/>
          <p:nvPr/>
        </p:nvSpPr>
        <p:spPr>
          <a:xfrm rot="5400000">
            <a:off x="6208560" y="254448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3" name="Left-Right Arrow 19"/>
          <p:cNvSpPr/>
          <p:nvPr/>
        </p:nvSpPr>
        <p:spPr>
          <a:xfrm rot="10800000">
            <a:off x="7486200" y="3868560"/>
            <a:ext cx="685800" cy="425520"/>
          </a:xfrm>
          <a:prstGeom prst="leftRightArrow">
            <a:avLst>
              <a:gd name="adj1" fmla="val 50000"/>
              <a:gd name="adj2" fmla="val 49991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4" name="Left-Right Arrow 20"/>
          <p:cNvSpPr/>
          <p:nvPr/>
        </p:nvSpPr>
        <p:spPr>
          <a:xfrm rot="7846800">
            <a:off x="7096680" y="2788200"/>
            <a:ext cx="820440" cy="425160"/>
          </a:xfrm>
          <a:prstGeom prst="leftRightArrow">
            <a:avLst>
              <a:gd name="adj1" fmla="val 50000"/>
              <a:gd name="adj2" fmla="val 50012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5" name="Oval 21"/>
          <p:cNvSpPr/>
          <p:nvPr/>
        </p:nvSpPr>
        <p:spPr>
          <a:xfrm>
            <a:off x="6462720" y="249084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6" name="Oval 22"/>
          <p:cNvSpPr/>
          <p:nvPr/>
        </p:nvSpPr>
        <p:spPr>
          <a:xfrm>
            <a:off x="6488280" y="3994200"/>
            <a:ext cx="182520" cy="18396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7" name="Oval 23"/>
          <p:cNvSpPr/>
          <p:nvPr/>
        </p:nvSpPr>
        <p:spPr>
          <a:xfrm>
            <a:off x="6488280" y="3994200"/>
            <a:ext cx="182520" cy="182520"/>
          </a:xfrm>
          <a:prstGeom prst="ellipse">
            <a:avLst/>
          </a:prstGeom>
          <a:solidFill>
            <a:srgbClr val="f48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8" name="Oval 24"/>
          <p:cNvSpPr/>
          <p:nvPr/>
        </p:nvSpPr>
        <p:spPr>
          <a:xfrm>
            <a:off x="7916760" y="3994200"/>
            <a:ext cx="184320" cy="183960"/>
          </a:xfrm>
          <a:prstGeom prst="ellipse">
            <a:avLst/>
          </a:prstGeom>
          <a:solidFill>
            <a:srgbClr val="7bc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pic>
        <p:nvPicPr>
          <p:cNvPr id="739" name="Grafik 2" descr=""/>
          <p:cNvPicPr/>
          <p:nvPr/>
        </p:nvPicPr>
        <p:blipFill>
          <a:blip r:embed="rId5"/>
          <a:stretch/>
        </p:blipFill>
        <p:spPr>
          <a:xfrm>
            <a:off x="539640" y="4267080"/>
            <a:ext cx="2303640" cy="1106640"/>
          </a:xfrm>
          <a:prstGeom prst="rect">
            <a:avLst/>
          </a:prstGeom>
          <a:ln w="0">
            <a:noFill/>
          </a:ln>
        </p:spPr>
      </p:pic>
      <p:pic>
        <p:nvPicPr>
          <p:cNvPr id="740" name="Grafik 3" descr=""/>
          <p:cNvPicPr/>
          <p:nvPr/>
        </p:nvPicPr>
        <p:blipFill>
          <a:blip r:embed="rId6"/>
          <a:stretch/>
        </p:blipFill>
        <p:spPr>
          <a:xfrm>
            <a:off x="539640" y="5608800"/>
            <a:ext cx="4368960" cy="699840"/>
          </a:xfrm>
          <a:prstGeom prst="rect">
            <a:avLst/>
          </a:prstGeom>
          <a:ln w="0">
            <a:noFill/>
          </a:ln>
        </p:spPr>
      </p:pic>
      <p:pic>
        <p:nvPicPr>
          <p:cNvPr id="741" name="Grafik 5" descr=""/>
          <p:cNvPicPr/>
          <p:nvPr/>
        </p:nvPicPr>
        <p:blipFill>
          <a:blip r:embed="rId7"/>
          <a:stretch/>
        </p:blipFill>
        <p:spPr>
          <a:xfrm>
            <a:off x="3059280" y="4772160"/>
            <a:ext cx="1849320" cy="601560"/>
          </a:xfrm>
          <a:prstGeom prst="rect">
            <a:avLst/>
          </a:prstGeom>
          <a:ln w="0">
            <a:noFill/>
          </a:ln>
        </p:spPr>
      </p:pic>
      <p:pic>
        <p:nvPicPr>
          <p:cNvPr id="742" name="Grafik 27" descr=""/>
          <p:cNvPicPr/>
          <p:nvPr/>
        </p:nvPicPr>
        <p:blipFill>
          <a:blip r:embed="rId8"/>
          <a:stretch/>
        </p:blipFill>
        <p:spPr>
          <a:xfrm>
            <a:off x="6829560" y="5732640"/>
            <a:ext cx="1117440" cy="871200"/>
          </a:xfrm>
          <a:prstGeom prst="rect">
            <a:avLst/>
          </a:prstGeom>
          <a:ln w="0">
            <a:noFill/>
          </a:ln>
        </p:spPr>
      </p:pic>
      <p:pic>
        <p:nvPicPr>
          <p:cNvPr id="743" name="Grafik 28" descr=""/>
          <p:cNvPicPr/>
          <p:nvPr/>
        </p:nvPicPr>
        <p:blipFill>
          <a:blip r:embed="rId9"/>
          <a:stretch/>
        </p:blipFill>
        <p:spPr>
          <a:xfrm>
            <a:off x="5724360" y="3284640"/>
            <a:ext cx="1768680" cy="912600"/>
          </a:xfrm>
          <a:prstGeom prst="rect">
            <a:avLst/>
          </a:prstGeom>
          <a:ln w="0">
            <a:noFill/>
          </a:ln>
        </p:spPr>
      </p:pic>
      <p:sp>
        <p:nvSpPr>
          <p:cNvPr id="744" name="Oval 24"/>
          <p:cNvSpPr/>
          <p:nvPr/>
        </p:nvSpPr>
        <p:spPr>
          <a:xfrm>
            <a:off x="7586640" y="2709720"/>
            <a:ext cx="182520" cy="1828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5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023 L 0.00278 0.22037 E">
                                      <p:cBhvr>
                                        <p:cTn id="36" dur="1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7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3889 -1.11111E-006 E">
                                      <p:cBhvr>
                                        <p:cTn id="47" dur="15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1788 -0.18403 E">
                                      <p:cBhvr>
                                        <p:cTn id="49" dur="1500" fill="hold"/>
                                        <p:tgtEl>
                                          <p:spTgt spid="7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2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5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62" dur="1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7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2786E-006 L -0.13664 0.00046 E">
                                      <p:cBhvr>
                                        <p:cTn id="73" dur="1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4" dur="1" fill="hold">
                                    <p:stCondLst>
                                      <p:cond evt="end">
                                        <p:tn val="72"/>
                                      </p:cond>
                                    </p:stCondLst>
                                  </p:cTn>
                                  <p:tgtEl>
                                    <p:spTgt spid="7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8:08:59Z</dcterms:created>
  <dc:creator/>
  <dc:description/>
  <dc:language>en-US</dc:language>
  <cp:lastModifiedBy/>
  <dcterms:modified xsi:type="dcterms:W3CDTF">2011-02-26T14:07:56Z</dcterms:modified>
  <cp:revision>1</cp:revision>
  <dc:subject/>
  <dc:title/>
</cp:coreProperties>
</file>