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7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31.png" ContentType="image/png"/>
  <Override PartName="/ppt/media/image45.jpeg" ContentType="image/jpeg"/>
  <Override PartName="/ppt/media/image32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48.png" ContentType="image/png"/>
  <Override PartName="/ppt/media/image1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C9D5-7C3A-4B13-82AC-DAE60F47DB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E326-4EEE-4232-9824-528493A1D56D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54B6-4E58-44B4-9977-86BCFA6D31D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4EA0-6B82-4D3C-BBA7-AA009BDCD566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0071-92E0-430E-A7D1-827CE102A68A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2F98-94D9-4EF7-A525-0BB69FE6F4F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E31D-0FDF-4266-B315-AD91BF540B4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2F73-FF2A-4606-A899-A964F8E952B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D376-74C0-4749-943C-3902514517C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95C4-EFB9-45CF-8E0C-0F6E8971026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1F24-AC32-4019-9C5F-E969283460D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37A-8360-4279-9964-9842AC0A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F13-53DB-4061-A726-F875FADB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42989C-DB45-4559-8BEC-11138C48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55BCC5-888E-47A8-B928-CC99FE17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05F8BF-2A0C-4CCD-A06C-F393D23C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E4E282-B2C0-4A34-BE86-A7FE9005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E4957E-5E7C-4F31-805D-BA92EC30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487E0-85A7-4411-A1D8-637124E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089135-F9CE-438F-9227-224E10F2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CD1B7C-5C2F-418B-87A5-3B79C015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5C0877-8C56-4F91-99E5-2FD3FB59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95D0F9-86AC-40FA-80D8-07CC01CE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CDA-DE48-44C2-9F42-EDF4BD8F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8D56A0-121C-4410-A385-68860E64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AA0A21-5B2C-4340-A741-2EB96029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71FC39-CABA-4087-974D-A277CD94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7FB8E2-918A-46E0-8039-3EDB08E3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CF229F-5F51-4818-B82A-67C28D00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3BCDB7-0790-41B2-A7E8-6CCCB75D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FFB46A-9631-4D64-AF1D-79A8B96A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EDF025-2A4B-480D-BA9F-C58F1086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932B17-7E41-40B0-9774-BE02D09E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5F04CF-A72D-45A3-BB34-9FFE1198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552-C7D1-4AC5-A932-9F17A177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795686-1F6D-41FA-A6FB-9C579AB2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FEF308-F681-4B9B-B20F-79E3835D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DBACC9-5D5C-43DA-8847-BB2B01BD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66F7F3-6DBF-47B2-8FAE-5EC512B8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E1A203-C1A2-4E8A-AD06-0D8998E0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2EE41C-C160-47EA-9988-81ED2639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327F95-ED66-4427-9080-28236847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CA7312-0B49-41D9-B648-2B824DF8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9E86F5-08A1-401F-933E-86CB7863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13093F-25D5-44A4-9C02-EC40C941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3818-E3CB-4D6F-A04D-80B827BF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AB9C0D-2491-4A58-949D-C40A938B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75086D-34BA-4BFA-AA73-CC5E936D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5C10E8-2AB4-45E4-B0E4-818330E8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679802-22E5-4F8D-962E-BBFD8ABC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1B61DE-65B9-41F3-BEE1-E727B50B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F90970-3BF3-4F12-B512-9645FDCB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C03174-950E-47C8-81CE-C9180B25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2D6EF7-1CB2-49BC-88C9-85A1A805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741110-7EB1-4D12-AF1D-98E22C97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5A4642-297B-45B0-A0BB-FAF355F5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75CE-1647-4BCD-B208-50CF7CB0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AF5D80-B4DB-4B35-BA99-61354F7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8C1C42-4B23-4A76-A892-18744ADE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EE6ADC-BC36-4610-BBAE-18DDF03D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8DDCFF-02B9-4F9F-BC48-62D5E54B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6E4D40-D561-4929-B938-4230297B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3879A9-C6EB-4357-A01E-186F6D75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508791-235E-432A-9322-EB6B7FDF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3ED2E2-647F-419D-A9F7-246E530C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F779C7-B79C-4C93-8EB3-5BCEC922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74FAAE-CECA-433C-A947-A6CE892E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C178-0C81-4408-9F41-F48C44D4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ACE809-A4CE-4228-A582-33AC4B14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5ED64C-4CE9-48A9-A3E0-97C006D3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60BEC8-D9E1-446E-A360-343330D5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B729C9-5AA4-4D7C-A44C-511DB4EB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8FDE89-BC3F-4E4A-96D8-1E1241AA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1105D5-7541-4505-AA2F-34B15CE5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113151-792F-45CC-A7BB-4FC92EFB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A2E9AF-6BA2-46CA-9258-F2582D00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676E89-21DD-4EFE-BE88-AF5A7D8E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34827E-4700-4CB5-9695-AEB94CCB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B12E-AD65-4A74-A3A4-4F5E6E22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05F4EE-D5C0-47F2-A531-792E1BD6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61449B-6104-4DF8-8A17-F7381B3B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78B179-2784-47D8-AC37-28E6C54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F5945B-7070-450F-BD3B-CAABEF00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E14D9F-8553-4B48-89F4-7B72390C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126A43-B474-43BF-A079-562DA014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03BA2A-B4F9-4E25-B451-51ACF4AD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C2B29F-C486-42B8-AFC3-F3E69C33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157B98-988A-4D7D-A0D2-F13F4EB2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753871-EB91-472A-B1DE-F83F9448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11D8-CE99-4974-8927-C03D3DD6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C8BF8B-BDD2-4FD9-B22A-9350EC6C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9D240C-C9FA-47EF-8C97-C541EAA5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32FB87-5F2D-4EEC-890D-52DC86F4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F37ADD-DD72-4CAB-8C89-91CE767F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E6ECC4-CE8F-4877-8D93-36F0532C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3AE960-4170-421A-A0F7-15ED43B7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E81B36-7254-4048-B619-52BDAA9E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30349C-FA22-4097-8580-AFC4D127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DD39E3-6ACB-4F2D-8B98-6A4A5D3C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FAA08F-1E32-48BD-9010-5EF2C259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4482-E0A4-47DB-92C6-C28E6F57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6610E8-8C0A-482E-8236-1248A544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A553-32CF-4464-803D-8EF0BA5A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3AF-B84C-4403-9F04-4356BA8E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BDDB-75E8-4FAE-B225-9C7B8C5C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6B6E-11F3-44F9-8C18-D7F0FE5C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649C-A814-4797-8076-AE90A5D6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23B3-6BA5-4BB1-98AE-CC72134D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59C7-6DC5-4EB6-A9FE-CCDCBABD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DD95C-1543-49A7-95F7-97830D8D19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3EAA1-BC43-48B2-B3FD-A6C55F3838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830EA-7AF6-418B-AC8C-E9401EA058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85600-BD2B-407B-8F6C-EE67BA3164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04198-0B48-4DEE-8801-63080241F2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7E6-615E-46AC-8B19-E58DDCF6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2AD08-94CA-48F1-945C-2AA53B05A6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77B6F-6677-4EC1-89A7-D115F424E4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CB0A3-490B-46E8-BD8D-221C9670D8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BEE46-91D3-4B89-B75B-742CDB675D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FEA58-1328-4D9B-AB26-A77C58BC3B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ED6CC-0C14-429A-9BC4-7401C8907F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9E641-428E-4EED-9B4A-C72861BEAC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C7CE0-95D4-4578-895A-FA26EA23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ACEFE-E137-4C89-A4F3-7A29F46D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B0E8E-F3AB-4142-9D4A-2F96D5CB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1E3-EF47-4CBE-B72E-A309763E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FEE3A-4252-4E0B-ABAD-6BFEFDAA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9F250-E071-4A22-94A4-1476E9AB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DF1F3-8CA5-4A75-A34E-73BD6EB4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F404B-D572-4E9D-8A4E-D5D8CAA8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63965-F58E-4F9B-8DC1-29CB1430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D95CFA-BA10-4A6D-8A48-01CAC716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F9445-5476-4432-94C3-94267AED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DC7BB-0BAB-4C6C-BD3F-131EB62D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DD1C0-8261-48A4-A1DD-74E23F78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94CFE-0FE9-4CDC-8BE6-6A3A1631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6A4-73F0-4C94-B49D-A5BE4FD0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6BF20-639D-4AF4-9D77-45D8AE68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162D7-1163-421D-8E03-C043B5BA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63036-0431-447E-B55F-0348B77F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9A24D-528B-4F6B-A2A4-2C72B249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CA815-0F8C-4C2F-88E0-41A92C58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236D2-9C7D-40F8-81F2-287C6171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E98A1-ECE3-43A4-B088-E948EBD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375F0-64E3-4A4D-A9AF-78791A38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704A5-67B5-4C3B-A15B-CF80ADC2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622EB-2FDF-45AA-8EF5-F03F6D37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2B0-FDED-4607-BBD3-FFDF9294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1F07B-3E49-41A2-B9E3-90E58C55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377FA-4A97-43C5-AA0D-2A391EFC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85AD63-4427-4EEA-919E-1A683C30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F8D2B-F5DF-479E-895C-6ECA9488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B434F-3C43-408D-8191-C4D6F5BC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BF82C-A27B-47FF-A3D9-657186F2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0DE2B-4D61-4DF1-B505-DB9FA4CC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1521D-B2B2-435C-B244-DB9B8E86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4DE4B-D3F8-4F59-8321-54A4AB35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75706-D8B3-4BB0-90AD-20148894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D58-38C1-4A5D-9F53-6C304194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B9484-D3F5-4012-9B37-F6755323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63CF3-B839-4D6E-AFBA-DC1DE3D7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E5A91-ECC0-4D0D-8680-88ACFE2D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5484F-BD50-45CA-AA0E-CD2F8684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80417C-A73D-4694-913D-9997EA89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22442-A07C-4443-96B1-11E51BCA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21C88-DE61-4B54-A411-D47DB823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87EAF-124D-447D-9399-FD4114A1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1DA627-970C-470C-B5E2-4998D2DD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5FDCD-701B-4D30-90BF-7487BA07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4DD-5080-48F6-B654-5E53D090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76C71-1E6A-4AC6-A2B2-43FB69A7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C3E59-7306-40AF-96B8-899BF21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EB236-1C22-42C5-A832-53AC50FC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469F9-76F1-4D0F-8ED0-82A8A37C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B86904-C1AA-48EA-9570-B6A21BD2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975722-2EA4-4E58-B604-8373A027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4147E1-7E57-466A-913C-0D95211E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88B2C2-FE48-4D9C-BDD3-E7B9A8C5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04724-0C35-4516-81C5-BD09903B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E8C65F-1F5B-4C88-9D72-693EDB24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3F6-8043-4BE5-91A8-F5A08B77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30A911-4DE5-4C13-824D-737CCBF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D91EFF-3483-482F-BE84-114632C7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3ECA6D-3B73-4EEE-A57B-A95FBAAC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250647-08D7-4C4F-9934-8C3688E9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A257B-D581-47E0-A069-6706E7EB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372A1D-6236-4682-A57C-E431316D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E3F3B7-7829-4C3C-BE04-0D3ACA0E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A56111-1369-4E8C-B0F7-162E0B38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E244F5-45B5-4052-AACB-CBF9229D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11136-FDD2-493F-9580-5C00A86E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7037-9271-439F-82F8-7ED2D7E282F7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7104-5C3A-4ADC-8DA7-D5FFC4F74DF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3133-1687-4859-B07D-6DB0207CA3D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B450-C390-4096-91C1-B9E43A101F4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4230-17FF-4A14-B5FE-6E662CB72180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9142-67DF-4165-B946-FF4964B38A1E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938B-8A4A-4E87-9DC9-F400259E131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A1A0-8094-4C58-943F-C5DEB232CD8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4F38-B0AF-4AF3-BEA8-516A9AC727D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968A-E459-41C8-9A5D-19FD290197B9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8D57-9D28-4A3A-92C3-97C6CD5A21E0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977A-4AF8-4AE2-8542-287083E9006F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EF5A-7A61-440E-B4C6-F167503187E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1E3F-C88B-4E52-BB5E-D8F885CAA1CC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A6A5-0508-495D-9F1C-4387F8BB56C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3991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hyperlink" Target="http://www.nms.tsn.at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WebQuest@Home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1896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DANKE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74747"/>
                </a:solidFill>
                <a:latin typeface="Calibri"/>
              </a:rPr>
              <a:t>Informationen zum Wettbewerb „WebQuest@Home“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Abenteuerliche 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n Schulort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4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5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Hinweise für Lehrperson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6" name="Grafik 4" descr=""/>
          <p:cNvPicPr/>
          <p:nvPr/>
        </p:nvPicPr>
        <p:blipFill>
          <a:blip r:embed="rId2"/>
          <a:stretch/>
        </p:blipFill>
        <p:spPr>
          <a:xfrm>
            <a:off x="1511280" y="622440"/>
            <a:ext cx="5021280" cy="259056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5" descr=""/>
          <p:cNvPicPr/>
          <p:nvPr/>
        </p:nvPicPr>
        <p:blipFill>
          <a:blip r:embed="rId3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4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5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Eben a. A.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6270480" y="2565360"/>
            <a:ext cx="2644920" cy="3406680"/>
            <a:chOff x="6270480" y="2565360"/>
            <a:chExt cx="2644920" cy="3406680"/>
          </a:xfrm>
        </p:grpSpPr>
        <p:sp>
          <p:nvSpPr>
            <p:cNvPr id="693" name="Rectangle 14"/>
            <p:cNvSpPr/>
            <p:nvPr/>
          </p:nvSpPr>
          <p:spPr>
            <a:xfrm>
              <a:off x="6597360" y="2565360"/>
              <a:ext cx="2318040" cy="34066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4" name="TextBox 7"/>
            <p:cNvSpPr/>
            <p:nvPr/>
          </p:nvSpPr>
          <p:spPr>
            <a:xfrm>
              <a:off x="6672960" y="2656440"/>
              <a:ext cx="2166120" cy="31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595959"/>
                  </a:solidFill>
                  <a:latin typeface="Calibri"/>
                </a:rPr>
                <a:t>Fertig ausgearbeiteter WebQuest - zu finden auf der Plattform TSN-Moodle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5" name="Straight Connector 18"/>
            <p:cNvSpPr/>
            <p:nvPr/>
          </p:nvSpPr>
          <p:spPr>
            <a:xfrm>
              <a:off x="6270480" y="50655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6" name="Grafik 9" descr=""/>
          <p:cNvPicPr/>
          <p:nvPr/>
        </p:nvPicPr>
        <p:blipFill>
          <a:blip r:embed="rId3"/>
          <a:stretch/>
        </p:blipFill>
        <p:spPr>
          <a:xfrm>
            <a:off x="1552680" y="2565360"/>
            <a:ext cx="454320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698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0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1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03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Sekundarstufe I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Neue Mittelschulen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Tiroler Hauptschulen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Schulinstanz auf TSN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08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0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1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3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hteck 5"/>
          <p:cNvSpPr/>
          <p:nvPr/>
        </p:nvSpPr>
        <p:spPr>
          <a:xfrm>
            <a:off x="5435640" y="1700280"/>
            <a:ext cx="3097080" cy="33130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18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19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1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22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24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iPad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Headset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Gutscheine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7" name="Textfeld 4"/>
          <p:cNvSpPr/>
          <p:nvPr/>
        </p:nvSpPr>
        <p:spPr>
          <a:xfrm>
            <a:off x="5580000" y="1755720"/>
            <a:ext cx="30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3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Dialogtag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4"/>
          <p:cNvSpPr/>
          <p:nvPr/>
        </p:nvSpPr>
        <p:spPr>
          <a:xfrm>
            <a:off x="399960" y="1542960"/>
            <a:ext cx="464832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29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32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6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7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8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9" name="Grafik 2" descr=""/>
          <p:cNvPicPr/>
          <p:nvPr/>
        </p:nvPicPr>
        <p:blipFill>
          <a:blip r:embed="rId5"/>
          <a:stretch/>
        </p:blipFill>
        <p:spPr>
          <a:xfrm>
            <a:off x="539640" y="4267080"/>
            <a:ext cx="2303640" cy="1106640"/>
          </a:xfrm>
          <a:prstGeom prst="rect">
            <a:avLst/>
          </a:prstGeom>
          <a:ln w="0">
            <a:noFill/>
          </a:ln>
        </p:spPr>
      </p:pic>
      <p:pic>
        <p:nvPicPr>
          <p:cNvPr id="740" name="Grafik 3" descr=""/>
          <p:cNvPicPr/>
          <p:nvPr/>
        </p:nvPicPr>
        <p:blipFill>
          <a:blip r:embed="rId6"/>
          <a:stretch/>
        </p:blipFill>
        <p:spPr>
          <a:xfrm>
            <a:off x="539640" y="5608800"/>
            <a:ext cx="4368960" cy="699840"/>
          </a:xfrm>
          <a:prstGeom prst="rect">
            <a:avLst/>
          </a:prstGeom>
          <a:ln w="0">
            <a:noFill/>
          </a:ln>
        </p:spPr>
      </p:pic>
      <p:pic>
        <p:nvPicPr>
          <p:cNvPr id="741" name="Grafik 5" descr=""/>
          <p:cNvPicPr/>
          <p:nvPr/>
        </p:nvPicPr>
        <p:blipFill>
          <a:blip r:embed="rId7"/>
          <a:stretch/>
        </p:blipFill>
        <p:spPr>
          <a:xfrm>
            <a:off x="3059280" y="4772160"/>
            <a:ext cx="1849320" cy="601560"/>
          </a:xfrm>
          <a:prstGeom prst="rect">
            <a:avLst/>
          </a:prstGeom>
          <a:ln w="0">
            <a:noFill/>
          </a:ln>
        </p:spPr>
      </p:pic>
      <p:pic>
        <p:nvPicPr>
          <p:cNvPr id="742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pic>
        <p:nvPicPr>
          <p:cNvPr id="743" name="Grafik 28" descr=""/>
          <p:cNvPicPr/>
          <p:nvPr/>
        </p:nvPicPr>
        <p:blipFill>
          <a:blip r:embed="rId9"/>
          <a:stretch/>
        </p:blipFill>
        <p:spPr>
          <a:xfrm>
            <a:off x="5724360" y="3284640"/>
            <a:ext cx="1768680" cy="912600"/>
          </a:xfrm>
          <a:prstGeom prst="rect">
            <a:avLst/>
          </a:prstGeom>
          <a:ln w="0">
            <a:noFill/>
          </a:ln>
        </p:spPr>
      </p:pic>
      <p:sp>
        <p:nvSpPr>
          <p:cNvPr id="744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1-02-26T14:07:56Z</dcterms:modified>
  <cp:revision>1</cp:revision>
  <dc:subject/>
  <dc:title/>
</cp:coreProperties>
</file>