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47.png" ContentType="image/png"/>
  <Override PartName="/ppt/media/image2.jpeg" ContentType="image/jpeg"/>
  <Override PartName="/ppt/media/image3.jpeg" ContentType="image/jpeg"/>
  <Override PartName="/ppt/media/image30.jpeg" ContentType="image/jpeg"/>
  <Override PartName="/ppt/media/image31.png" ContentType="image/png"/>
  <Override PartName="/ppt/media/image45.jpeg" ContentType="image/jpeg"/>
  <Override PartName="/ppt/media/image32.png" ContentType="image/png"/>
  <Override PartName="/ppt/media/image33.png" ContentType="image/png"/>
  <Override PartName="/ppt/media/image41.jpeg" ContentType="image/jpeg"/>
  <Override PartName="/ppt/media/image14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46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48.png" ContentType="image/png"/>
  <Override PartName="/ppt/media/image12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9.png" ContentType="image/png"/>
  <Override PartName="/ppt/media/image39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4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5764-91EF-4ED4-81D0-9CEB548D2CF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se Präsentation veranschaulicht die neuen Fähigkeiten von PowerPoint. Betrachten Sie sie am besten als Diashow. Diese Folien sollen Ihnen als Anregung zur Gestaltung eigener Präsentationen in PowerPoint 2010 die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itere Beispielvorlagen können Sie anzeigen, indem Sie auf die Registerkarte Datei und dann auf der Registerkarte Neu auf Beispielvorlagen klic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38D4-2571-4AD7-87F1-EDEA974CE4E7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E3C5-243E-41B5-88B7-9B0A29A078E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BA5F-70F6-45B5-ABD5-538CA1639674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635F-921A-4692-83A0-BD332F43B746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CE71-5982-45E2-9054-DD1E8EBF9A8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A9CE-2D72-48E5-B2E5-C1533965C2E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01BF-BE47-4192-9ECC-8E882813A10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B065-36BB-4C32-A6C0-76FA9B2F1C8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00BE-3507-4415-AA25-74684DCFA54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8380-494D-4959-9462-264B79952B2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79C9-35FC-46D4-A725-06473598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614B-DDB9-4BA2-AEAD-8494ED14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C52766-2677-4FB6-9AFC-D03A7F8A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A033A2-F517-4245-9D38-4B00A4B2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2F0E99-F35E-4BD8-9154-E69E18B1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EB9DDA-5EE2-463A-B8F6-5525050D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BBFCED-314B-4893-BF5D-FC1A2239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5F1190-71DC-4147-817F-D5F33FB4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A7E976-A3AB-415F-A1FB-F7A8F6B8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5DF6BD-576C-4C01-888B-DEDC6E3E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3A392B-7507-43EE-9523-5881A446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C56526-A9C7-45B7-B9D9-F52D95CE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6F6B-8EC2-4874-B251-390EF482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56B55B-F297-4D74-9834-7ABC6DD4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37AE73-59AE-4959-947E-AE513AC3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08D74A-C0E6-44E7-B88B-AA228D60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9944F8-D7CD-489A-9D3A-01E036CE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331E5A-828E-4784-9EA7-DB46C5AC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DE7C35-A79E-45F9-917B-FA15C340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CBD062-C7DB-4400-A712-2C7E3CA1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CC5C6B-2E27-41D3-9351-BFFE2F80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807E78-F00F-4890-B572-2A6DBFAA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B7C45E-E2B6-412B-9327-64C6747F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992D-311C-483C-8C55-DB6A1719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1F7402-1D28-4261-84E3-04DF65C1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29EA31-96A4-45C9-A046-C75F815A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19E36E-7E6D-4DEC-9016-905728C6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58DFC2-3E4A-4105-9BB1-2E6E24AE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3D5D54-CD56-4B00-B89E-B71C2AC2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60FAAA-E055-4514-B3DF-B57B3D3F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A11A9E-17EA-4E1A-AFD1-421DBD7F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646AF5-BE3B-49B4-8168-708DD2B6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6F0BE8-6FAA-4B93-9971-516D79D1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0E6C93-1B20-4DA8-A64F-31BE3F21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0618-AFEF-4469-A316-099EFB51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630118-DE6D-4E8A-96B3-05EC0E6C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23D3D7-BA05-4D29-ADBB-AAAF6685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1BC415-0762-45E8-8B2C-12C0D360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7F8E2A-3EA6-484F-BF9A-9A08182A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946513-CE5B-44D1-8D3E-AC9DA83B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5C6617-627A-4C8B-883B-6A1B1B2E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2490B4-1B2C-45F3-A32D-8E9C34BB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C8932D-7E6A-4694-A503-E9E8AC1B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4AE0A2-2879-4297-8667-2DFBA345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B3CC31-B1E8-41A4-A6FB-75711655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4CA7-EE5C-49BF-8D3F-2DA29F57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1D2428-FD59-4895-904A-983061DF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02FE13-9BC3-4FFE-9E75-1683F15D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BD209C-8A15-4A38-AC5E-AD11EF66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752159-2645-4F02-920B-CEC27243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66DAD7-28AD-4B46-81CB-8C4D62E5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7279A6-80A1-4523-A990-86C45DE1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BA05C3-A95C-4459-8D29-980AB7C0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63202E-05B5-4129-8ACD-8115157A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781C66-2ED4-4628-888F-48F2CE07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7316D4-FAE1-4BB0-A7D3-43F7CF44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CAEC-DE57-4F64-B92C-45D64D4E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E52CAB-4C20-4D80-8C86-AF6B9983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E2EE4F-6C67-4C97-9ED7-70A035E9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747322-5391-47B6-B36E-C9C83D46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0DD31A-66C6-45D0-B52F-6AC26A61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CD99E9-AD76-42ED-99FF-C13B80AB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AAB77B-784E-4B31-A9EF-B7F5FD41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E93DE1-0B13-4090-AC25-E3A29F36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7971D50-B42A-4FD8-93BD-307224AC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B01E85C-87C0-40C1-9141-B5A38778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1A8C186-A22C-4D38-8AC8-C31F736D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B274-F93D-4636-9A17-A3E6391E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9814EC3-742F-4E56-9425-2442592A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C1EFD84-BA4B-4FBD-A289-22D4A13C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7F0214B-E61F-452C-984D-B3A7BC7A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4D19436-FABF-4051-AC1C-BEED8D7C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01A9A11-D771-4AB3-AAB6-0BABEF08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0E472F7-E9A2-4CE5-97FB-E2449654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1840896-9C14-47DF-AF16-A37C1B30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3767C8D-DF65-4D4D-B513-904269FC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B8FCA2B-27D6-42D6-9793-96CB144E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3E492A-017C-4613-9F82-6555E140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2CB0-7E2B-46EA-85EE-0A7032F3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5FF3592-45E2-409D-8871-BC7A2E6F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812607-E7AA-43B8-BDC7-50020CAB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344660B-AA19-40A8-A67B-597E982B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65BC618-50F1-4A7C-AFEE-A103523D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A967951-1ED7-425E-A80F-A31AC93B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FDD6E08-9C58-4A3E-B173-E6ACAB98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E0E2B67-FD01-40E7-A93E-C7CD4D8E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C32CEE-6016-4CBE-AF5D-1D9DF48D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357E289-4C42-438E-9B7F-7F629883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1D0A7A4-3885-4B33-B0B3-E1EC05E8D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2A1E-B2FC-4B85-8E4B-4AEFBBFA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CCA2039-E8C6-4C45-A97E-F186A0E9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95E2-50A7-494A-8CC7-37286A41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E91E-1665-4CB9-968F-2E2CAD4E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B8E9-0FF4-4FFD-9349-94EBDC69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32C5-EBC1-495F-B12B-11CBD010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E7CD-9A84-4B61-845D-62F3274D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3109-969A-49F5-858F-BE6CE431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C057-7162-4448-B4C9-8137E9A3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9A41FB-C96A-4C58-9516-16204BC576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E8189-F896-42C2-B54C-61F033F253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A03FC4-4538-45E5-9259-9FB04393FA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2C2E72-ED64-4351-A10F-24EA3B49FF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449590-30F6-48E0-ADA1-32917B83F9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CF91-5E1E-4277-935E-DF1160B4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20495-E127-4959-8341-678A9EB4DB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0F6264-D79E-4F3B-AF91-D8C1FC5ABB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2313FF-36E8-4BFD-BA0C-E9F206CDFA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25F76-62AF-4733-855E-3A26E92B58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DA869D-8C05-48EC-B25C-FA0BCF22FA1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C69CB-7775-4924-BCD2-E97B51D37B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2E80EE-2C4D-482B-9959-1B822A70F9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F24965-48BA-4990-AE22-D6FACF09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BDD415-5A71-4DE8-92CA-A72D66E0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2E3677-37AB-47C5-92BE-876061FA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F6C5-8A81-47A7-A659-3F07C536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F26D61-2249-427C-B6F0-572052AA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EE3D78-BF75-4343-A520-80AB3D51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E7CCEB-5ECF-461F-808B-D5945E2C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37E447-480D-4C5D-BCDC-9EC27C3D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3D4FDC-10DC-4E96-9DB2-D554F191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8C05AE-93B4-439C-AFA6-F4ACCA59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F2A13D-6C9E-43BB-A173-CC539CC1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AA7C7E-D549-4F77-93B1-DB441623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589247-C21A-4E96-8E92-58B8E689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0384E9-48EA-45C6-ADDB-835629A9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623E-A734-483E-BF3C-B5ECF5BF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367B25-73CE-455E-A642-C3D2F149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CAA3C2-0C79-411C-A78C-80BDC90A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09C2DD-239E-4DDF-96EB-A4CD5F6D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8F4BD0-FC0E-4A12-9F34-7E0FE0A6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3024C7-FCDD-4BD6-9952-8E4AB61D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74E2A1-0715-437F-97F2-8B1A993F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F24D99-4519-40AB-BE4B-A37BBE6A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AC2164-0F63-4F1E-AD41-B9C639DF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CFB507-3EB1-4FC2-ACB9-3A5A3E1C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77F562-1104-4A34-9897-1AFBB939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9C7-9F6F-422D-9830-A6ABB415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C6648D-3A27-43C4-937F-30B73FD4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F78EE5-3F76-49B7-8DAD-BF31DED2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A582BA-5B3C-4EF3-A5AA-D414CA9B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D841BB-CB32-49C7-83D8-753BC27B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B08DBE-0723-4EA3-AFE8-4E5B4258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F66F62-4A12-4FF1-B1CC-BA329746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8BD9BB-96CC-49A8-809C-53D3E5F3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68FD9C-2E8A-4B48-80CB-402467DA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E1C2E0-E31E-443C-80D8-04CF9DD6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3895B5-D243-46A9-8EC3-AAFEF189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922B-C20C-4993-A2EF-83D4CF99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B28363-9EE9-4495-900B-46B1A436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177C65-726A-43DD-8D83-09795A36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597E71-EFDA-427C-B115-B02FA3B0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4F4890-6263-4686-9294-4758E585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4C6A3B-2B50-4E88-AABD-F92186B6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CDB497-9631-4F60-9698-799B4E30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87D5BE-52D5-45E3-9F4B-5F266070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A843A3-155D-4D5B-95B0-DCF053CF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94C900-4F3E-4C45-8E4B-0B1117F4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AFDBB1-5CDC-4913-854F-AEC47B0B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43BF-9292-48DA-8F18-D3D8E971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8079C2-DB9C-4781-913D-83CC3219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F4BB25-929D-48BB-8FCA-95F5924B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98ED07-46D9-4DC7-8259-8E372DBD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D34FE5-96A1-486F-9929-913F34CF6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88EF1A-B739-46BF-AC93-FE6F23D1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BBBC9B-C1D4-4157-BDAE-4B9DA610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EA8133-9683-48F5-9145-60737901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1C5C49-10C7-4176-8B0D-EC67BA13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3AFB6F-9DB8-40AB-A929-21CBED23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A36B48-4459-4CB0-89BC-29B1784B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0D79-3966-47A3-9887-7B8B5B0B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48620B-93AB-464E-9B51-E2026DB9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57A284-8C09-421E-A56D-D5417EC8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66188D-C4D0-438F-B6FB-F0422C1A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BB2D31-4C1E-4994-A572-0674C1A6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C42AAD-7B0C-4786-A558-645968A6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8DA1D6-6EC6-4A5D-A373-9B4BD3E2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80AD67-D72C-482A-BEA4-47FF1951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EDA76F-8E97-4B12-9115-9D800AEB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CDA861-6E43-41B8-AC44-8D332358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F4ED8B-871A-40EE-902D-AE684292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8BB3-E8F0-40D6-B04C-F7D1429014D3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A299-D025-41A4-AA45-2D85758DD9EF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A204-306A-4910-B7EE-70E0A3D14D8A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DF25-5A2B-41E7-9D10-0B17EE4C36A2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02A0-7076-4694-9830-3DA9FE258A98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19A5-4257-4106-874C-82D8A5F4239E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F962-3766-4BC1-B897-4D4E607FEE96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1C29-E043-47E4-B711-5D8AAD361E32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ED61-DD01-4C33-97D4-5CD6DF9BD63C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5D94-047F-4690-8FCB-8BB926F9DE9C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17EB-A4B0-497A-91C6-1B4D05E27781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6B82-FFB6-4C10-A414-7D19FEC765DF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238D-9E4F-4AC0-BC03-8F65DF01552E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B917-6FBC-4D00-90DD-D136C5A80933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0" y="2895480"/>
            <a:ext cx="7547040" cy="2133720"/>
            <a:chOff x="0" y="2895480"/>
            <a:chExt cx="7547040" cy="21337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895480"/>
              <a:ext cx="75470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A9C9-D699-471D-B493-C58551F79AB3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2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69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s://portal.tirol.gv.at/moodle/course/view.php?id=3991" TargetMode="External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5.png"/><Relationship Id="rId3" Type="http://schemas.openxmlformats.org/officeDocument/2006/relationships/image" Target="../media/image9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png"/><Relationship Id="rId3" Type="http://schemas.openxmlformats.org/officeDocument/2006/relationships/image" Target="../media/image9.png"/><Relationship Id="rId4" Type="http://schemas.openxmlformats.org/officeDocument/2006/relationships/image" Target="../media/image38.png"/><Relationship Id="rId5" Type="http://schemas.openxmlformats.org/officeDocument/2006/relationships/hyperlink" Target="http://www.nms.tsn.at/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image" Target="../media/image45.jpe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733920" y="1315800"/>
            <a:ext cx="495288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c5c5c"/>
                </a:solidFill>
                <a:latin typeface="Calibri"/>
              </a:rPr>
              <a:t>eLearning-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228240" y="3048120"/>
            <a:ext cx="7512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5600" spc="-1" strike="noStrike">
                <a:solidFill>
                  <a:srgbClr val="ffffff"/>
                </a:solidFill>
                <a:latin typeface="Arial"/>
                <a:ea typeface="Arial"/>
              </a:rPr>
              <a:t>WebQuest@Home</a:t>
            </a:r>
            <a:endParaRPr b="0" lang="en-US" sz="56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6" name="Grafik 1" descr=""/>
          <p:cNvPicPr/>
          <p:nvPr/>
        </p:nvPicPr>
        <p:blipFill>
          <a:blip r:embed="rId1"/>
          <a:stretch/>
        </p:blipFill>
        <p:spPr>
          <a:xfrm>
            <a:off x="3132000" y="5191200"/>
            <a:ext cx="19051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4" descr=""/>
          <p:cNvPicPr/>
          <p:nvPr/>
        </p:nvPicPr>
        <p:blipFill>
          <a:blip r:embed="rId2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218960" y="2670120"/>
            <a:ext cx="7543800" cy="120024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800" spc="-1" strike="noStrike">
                <a:solidFill>
                  <a:srgbClr val="262626"/>
                </a:solidFill>
                <a:latin typeface="Calibri"/>
              </a:rPr>
              <a:t>DANKE</a:t>
            </a:r>
            <a:endParaRPr b="0" lang="en-US" sz="7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609480" y="380880"/>
            <a:ext cx="81154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74747"/>
                </a:solidFill>
                <a:latin typeface="Calibri"/>
              </a:rPr>
              <a:t>Informationen zum Wettbewerb „WebQuest@Home“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8" name="Straight Connector 9"/>
          <p:cNvSpPr/>
          <p:nvPr/>
        </p:nvSpPr>
        <p:spPr>
          <a:xfrm>
            <a:off x="1905120" y="2936880"/>
            <a:ext cx="5257800" cy="1440"/>
          </a:xfrm>
          <a:prstGeom prst="line">
            <a:avLst/>
          </a:prstGeom>
          <a:ln w="4752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750960" y="5127480"/>
            <a:ext cx="797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c5c5c"/>
                </a:solidFill>
                <a:latin typeface="Calibri"/>
              </a:rPr>
              <a:t>Abenteuerliche Spurensuche im Internet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8686800" y="52848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51" name="Group 25"/>
          <p:cNvGrpSpPr/>
          <p:nvPr/>
        </p:nvGrpSpPr>
        <p:grpSpPr>
          <a:xfrm>
            <a:off x="762120" y="1557360"/>
            <a:ext cx="2057400" cy="2708280"/>
            <a:chOff x="762120" y="1557360"/>
            <a:chExt cx="2057400" cy="2708280"/>
          </a:xfrm>
        </p:grpSpPr>
        <p:grpSp>
          <p:nvGrpSpPr>
            <p:cNvPr id="652" name="Oval 5"/>
            <p:cNvGrpSpPr/>
            <p:nvPr/>
          </p:nvGrpSpPr>
          <p:grpSpPr>
            <a:xfrm>
              <a:off x="1204200" y="2150640"/>
              <a:ext cx="1210680" cy="1656360"/>
              <a:chOff x="1204200" y="2150640"/>
              <a:chExt cx="1210680" cy="1656360"/>
            </a:xfrm>
          </p:grpSpPr>
          <p:pic>
            <p:nvPicPr>
              <p:cNvPr id="653" name="Oval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4200" y="2150640"/>
                <a:ext cx="121068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"/>
              <p:cNvSpPr/>
              <p:nvPr/>
            </p:nvSpPr>
            <p:spPr>
              <a:xfrm>
                <a:off x="1402920" y="23313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55" name="TextBox 13" descr=""/>
            <p:cNvPicPr/>
            <p:nvPr/>
          </p:nvPicPr>
          <p:blipFill>
            <a:blip r:embed="rId2"/>
            <a:stretch/>
          </p:blipFill>
          <p:spPr>
            <a:xfrm>
              <a:off x="762120" y="155736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6" name="Oval 18"/>
            <p:cNvGrpSpPr/>
            <p:nvPr/>
          </p:nvGrpSpPr>
          <p:grpSpPr>
            <a:xfrm>
              <a:off x="1367280" y="2165040"/>
              <a:ext cx="884160" cy="775440"/>
              <a:chOff x="1367280" y="2165040"/>
              <a:chExt cx="884160" cy="775440"/>
            </a:xfrm>
          </p:grpSpPr>
          <p:pic>
            <p:nvPicPr>
              <p:cNvPr id="657" name="Oval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1367280" y="216504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1496160" y="227844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59" name="TextBox 12"/>
            <p:cNvSpPr/>
            <p:nvPr/>
          </p:nvSpPr>
          <p:spPr>
            <a:xfrm>
              <a:off x="1269360" y="2581920"/>
              <a:ext cx="10767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as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0" name="Group 22"/>
          <p:cNvGrpSpPr/>
          <p:nvPr/>
        </p:nvGrpSpPr>
        <p:grpSpPr>
          <a:xfrm>
            <a:off x="3602160" y="1592280"/>
            <a:ext cx="2057400" cy="2708280"/>
            <a:chOff x="3602160" y="1592280"/>
            <a:chExt cx="2057400" cy="2708280"/>
          </a:xfrm>
        </p:grpSpPr>
        <p:grpSp>
          <p:nvGrpSpPr>
            <p:cNvPr id="661" name="Oval 3"/>
            <p:cNvGrpSpPr/>
            <p:nvPr/>
          </p:nvGrpSpPr>
          <p:grpSpPr>
            <a:xfrm>
              <a:off x="4044240" y="2163600"/>
              <a:ext cx="1173240" cy="1641600"/>
              <a:chOff x="4044240" y="2163600"/>
              <a:chExt cx="1173240" cy="1641600"/>
            </a:xfrm>
          </p:grpSpPr>
          <p:pic>
            <p:nvPicPr>
              <p:cNvPr id="662" name="Oval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044240" y="2163600"/>
                <a:ext cx="1173240" cy="16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4225320" y="234432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64" name="TextBox 14" descr=""/>
            <p:cNvPicPr/>
            <p:nvPr/>
          </p:nvPicPr>
          <p:blipFill>
            <a:blip r:embed="rId5"/>
            <a:stretch/>
          </p:blipFill>
          <p:spPr>
            <a:xfrm>
              <a:off x="3602160" y="159228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Oval 19"/>
            <p:cNvGrpSpPr/>
            <p:nvPr/>
          </p:nvGrpSpPr>
          <p:grpSpPr>
            <a:xfrm>
              <a:off x="4190400" y="2178360"/>
              <a:ext cx="884160" cy="775440"/>
              <a:chOff x="4190400" y="2178360"/>
              <a:chExt cx="884160" cy="775440"/>
            </a:xfrm>
          </p:grpSpPr>
          <p:pic>
            <p:nvPicPr>
              <p:cNvPr id="666" name="Oval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4190400" y="217836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318920" y="229212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68" name="TextBox 15"/>
            <p:cNvSpPr/>
            <p:nvPr/>
          </p:nvSpPr>
          <p:spPr>
            <a:xfrm>
              <a:off x="4089960" y="261612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er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9" name="Group 23"/>
          <p:cNvGrpSpPr/>
          <p:nvPr/>
        </p:nvGrpSpPr>
        <p:grpSpPr>
          <a:xfrm>
            <a:off x="6324480" y="1587600"/>
            <a:ext cx="2057400" cy="2708280"/>
            <a:chOff x="6324480" y="1587600"/>
            <a:chExt cx="2057400" cy="2708280"/>
          </a:xfrm>
        </p:grpSpPr>
        <p:grpSp>
          <p:nvGrpSpPr>
            <p:cNvPr id="670" name="Oval 4"/>
            <p:cNvGrpSpPr/>
            <p:nvPr/>
          </p:nvGrpSpPr>
          <p:grpSpPr>
            <a:xfrm>
              <a:off x="6746040" y="2166120"/>
              <a:ext cx="1207440" cy="1656360"/>
              <a:chOff x="6746040" y="2166120"/>
              <a:chExt cx="1207440" cy="1656360"/>
            </a:xfrm>
          </p:grpSpPr>
          <p:pic>
            <p:nvPicPr>
              <p:cNvPr id="671" name="Oval 4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6040" y="2166120"/>
                <a:ext cx="120744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6942960" y="23475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73" name="TextBox 16" descr=""/>
            <p:cNvPicPr/>
            <p:nvPr/>
          </p:nvPicPr>
          <p:blipFill>
            <a:blip r:embed="rId8"/>
            <a:stretch/>
          </p:blipFill>
          <p:spPr>
            <a:xfrm>
              <a:off x="6324480" y="158760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4" name="Oval 20"/>
            <p:cNvGrpSpPr/>
            <p:nvPr/>
          </p:nvGrpSpPr>
          <p:grpSpPr>
            <a:xfrm>
              <a:off x="6922800" y="2188080"/>
              <a:ext cx="884160" cy="775440"/>
              <a:chOff x="6922800" y="2188080"/>
              <a:chExt cx="884160" cy="775440"/>
            </a:xfrm>
          </p:grpSpPr>
          <p:pic>
            <p:nvPicPr>
              <p:cNvPr id="675" name="Oval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2800" y="218808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7051680" y="230256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77" name="TextBox 17"/>
            <p:cNvSpPr/>
            <p:nvPr/>
          </p:nvSpPr>
          <p:spPr>
            <a:xfrm>
              <a:off x="6823800" y="259884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ie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71800" y="1992240"/>
            <a:ext cx="5867280" cy="302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chülerInnen begeben sich mit dem Computer und dem Internet auf Spurensuche.</a:t>
            </a:r>
            <a:br>
              <a:rPr sz="2800"/>
            </a:b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ie erforschen gemeinsam ihren Schulort und präsentieren die Ergebnisse auf der Lernplattform Moodle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gaben auf der Lernplattform 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0" name="TextBox 5" descr=""/>
          <p:cNvPicPr/>
          <p:nvPr/>
        </p:nvPicPr>
        <p:blipFill>
          <a:blip r:embed="rId1"/>
          <a:stretch/>
        </p:blipFill>
        <p:spPr>
          <a:xfrm>
            <a:off x="-85680" y="95076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2"/>
          <p:cNvSpPr/>
          <p:nvPr/>
        </p:nvSpPr>
        <p:spPr>
          <a:xfrm>
            <a:off x="824040" y="2666880"/>
            <a:ext cx="19303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as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WebQuest-Method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83" name="Group 3"/>
          <p:cNvGrpSpPr/>
          <p:nvPr/>
        </p:nvGrpSpPr>
        <p:grpSpPr>
          <a:xfrm>
            <a:off x="1511280" y="3405240"/>
            <a:ext cx="4978440" cy="2832120"/>
            <a:chOff x="1511280" y="3405240"/>
            <a:chExt cx="4978440" cy="2832120"/>
          </a:xfrm>
        </p:grpSpPr>
        <p:sp>
          <p:nvSpPr>
            <p:cNvPr id="684" name="Rectangle 14"/>
            <p:cNvSpPr/>
            <p:nvPr/>
          </p:nvSpPr>
          <p:spPr>
            <a:xfrm>
              <a:off x="1511280" y="3405240"/>
              <a:ext cx="4978440" cy="2832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85" name="TextBox 7"/>
            <p:cNvSpPr/>
            <p:nvPr/>
          </p:nvSpPr>
          <p:spPr>
            <a:xfrm>
              <a:off x="1628640" y="3477960"/>
              <a:ext cx="4696200" cy="26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Einlei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blauf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fgab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Quell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Bewer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sblick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Hinweise für Lehrperson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86" name="Grafik 4" descr=""/>
          <p:cNvPicPr/>
          <p:nvPr/>
        </p:nvPicPr>
        <p:blipFill>
          <a:blip r:embed="rId2"/>
          <a:stretch/>
        </p:blipFill>
        <p:spPr>
          <a:xfrm>
            <a:off x="1511280" y="622440"/>
            <a:ext cx="5021280" cy="2590560"/>
          </a:xfrm>
          <a:prstGeom prst="rect">
            <a:avLst/>
          </a:prstGeom>
          <a:ln w="0">
            <a:noFill/>
          </a:ln>
        </p:spPr>
      </p:pic>
      <p:pic>
        <p:nvPicPr>
          <p:cNvPr id="687" name="Grafik 5" descr=""/>
          <p:cNvPicPr/>
          <p:nvPr/>
        </p:nvPicPr>
        <p:blipFill>
          <a:blip r:embed="rId3"/>
          <a:stretch/>
        </p:blipFill>
        <p:spPr>
          <a:xfrm>
            <a:off x="6732720" y="475128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688" name="Grafik 12" descr=""/>
          <p:cNvPicPr/>
          <p:nvPr/>
        </p:nvPicPr>
        <p:blipFill>
          <a:blip r:embed="rId4"/>
          <a:stretch/>
        </p:blipFill>
        <p:spPr>
          <a:xfrm>
            <a:off x="7526160" y="3492360"/>
            <a:ext cx="1231920" cy="960480"/>
          </a:xfrm>
          <a:prstGeom prst="rect">
            <a:avLst/>
          </a:prstGeom>
          <a:ln w="0">
            <a:noFill/>
          </a:ln>
        </p:spPr>
      </p:pic>
      <p:pic>
        <p:nvPicPr>
          <p:cNvPr id="689" name="Grafik 13" descr=""/>
          <p:cNvPicPr/>
          <p:nvPr/>
        </p:nvPicPr>
        <p:blipFill>
          <a:blip r:embed="rId5"/>
          <a:stretch/>
        </p:blipFill>
        <p:spPr>
          <a:xfrm>
            <a:off x="7161120" y="2470320"/>
            <a:ext cx="952560" cy="742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Beispiel-Kurs auf Moodl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1" name="TextBox 2"/>
          <p:cNvSpPr/>
          <p:nvPr/>
        </p:nvSpPr>
        <p:spPr>
          <a:xfrm>
            <a:off x="1523880" y="685800"/>
            <a:ext cx="7391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Beispi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2"/>
              </a:rPr>
              <a:t>WebQuest@Eben a. A.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92" name="Group 3"/>
          <p:cNvGrpSpPr/>
          <p:nvPr/>
        </p:nvGrpSpPr>
        <p:grpSpPr>
          <a:xfrm>
            <a:off x="6270480" y="2565360"/>
            <a:ext cx="2644920" cy="3406680"/>
            <a:chOff x="6270480" y="2565360"/>
            <a:chExt cx="2644920" cy="3406680"/>
          </a:xfrm>
        </p:grpSpPr>
        <p:sp>
          <p:nvSpPr>
            <p:cNvPr id="693" name="Rectangle 14"/>
            <p:cNvSpPr/>
            <p:nvPr/>
          </p:nvSpPr>
          <p:spPr>
            <a:xfrm>
              <a:off x="6597360" y="2565360"/>
              <a:ext cx="2318040" cy="340668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4" name="TextBox 7"/>
            <p:cNvSpPr/>
            <p:nvPr/>
          </p:nvSpPr>
          <p:spPr>
            <a:xfrm>
              <a:off x="6672960" y="2656440"/>
              <a:ext cx="2166120" cy="31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595959"/>
                  </a:solidFill>
                  <a:latin typeface="Calibri"/>
                </a:rPr>
                <a:t>Fertig ausgearbeiteter WebQuest - zu finden auf der Plattform TSN-Moodle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5" name="Straight Connector 18"/>
            <p:cNvSpPr/>
            <p:nvPr/>
          </p:nvSpPr>
          <p:spPr>
            <a:xfrm>
              <a:off x="6270480" y="5065560"/>
              <a:ext cx="274680" cy="0"/>
            </a:xfrm>
            <a:prstGeom prst="line">
              <a:avLst/>
            </a:prstGeom>
            <a:ln cap="rnd" w="25560">
              <a:solidFill>
                <a:srgbClr val="a6a6a6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96" name="Grafik 9" descr=""/>
          <p:cNvPicPr/>
          <p:nvPr/>
        </p:nvPicPr>
        <p:blipFill>
          <a:blip r:embed="rId3"/>
          <a:stretch/>
        </p:blipFill>
        <p:spPr>
          <a:xfrm>
            <a:off x="1552680" y="2565360"/>
            <a:ext cx="4543200" cy="340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Oval 3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698" name="Oval 3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00" name="Oval 7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01" name="Oval 7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03" name="TextBox 16" descr=""/>
          <p:cNvPicPr/>
          <p:nvPr/>
        </p:nvPicPr>
        <p:blipFill>
          <a:blip r:embed="rId4"/>
          <a:stretch/>
        </p:blipFill>
        <p:spPr>
          <a:xfrm>
            <a:off x="-42840" y="92700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4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Sekundarstufe I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Neue Mittelschulen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Tiroler Hauptschulen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aussetzung: Schulinstanz auf TSN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6" name="TextBox 15"/>
          <p:cNvSpPr/>
          <p:nvPr/>
        </p:nvSpPr>
        <p:spPr>
          <a:xfrm>
            <a:off x="833400" y="2630520"/>
            <a:ext cx="1932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er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Oval 2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708" name="Oval 2" descr=""/>
            <p:cNvPicPr/>
            <p:nvPr/>
          </p:nvPicPr>
          <p:blipFill>
            <a:blip r:embed="rId2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10" name="Oval 5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11" name="Oval 5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13" name="TextBox 12" descr=""/>
          <p:cNvPicPr/>
          <p:nvPr/>
        </p:nvPicPr>
        <p:blipFill>
          <a:blip r:embed="rId4"/>
          <a:stretch/>
        </p:blipFill>
        <p:spPr>
          <a:xfrm>
            <a:off x="-49320" y="987480"/>
            <a:ext cx="3687840" cy="4535280"/>
          </a:xfrm>
          <a:prstGeom prst="rect">
            <a:avLst/>
          </a:prstGeom>
          <a:ln w="0">
            <a:noFill/>
          </a:ln>
        </p:spPr>
      </p:pic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Online-Anmeldung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Homepage der NMS</a:t>
            </a:r>
            <a:br>
              <a:rPr sz="4000"/>
            </a:br>
            <a:r>
              <a:rPr b="1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5"/>
              </a:rPr>
              <a:t>www.nms.tsn.at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Informationen und Anmeldung auf der NMS-Homepag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6" name="TextBox 17"/>
          <p:cNvSpPr/>
          <p:nvPr/>
        </p:nvSpPr>
        <p:spPr>
          <a:xfrm>
            <a:off x="825480" y="2635200"/>
            <a:ext cx="1930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ie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hteck 5"/>
          <p:cNvSpPr/>
          <p:nvPr/>
        </p:nvSpPr>
        <p:spPr>
          <a:xfrm>
            <a:off x="5435640" y="1700280"/>
            <a:ext cx="3097080" cy="3313080"/>
          </a:xfrm>
          <a:prstGeom prst="rect">
            <a:avLst/>
          </a:prstGeom>
          <a:solidFill>
            <a:srgbClr val="f4891e"/>
          </a:solidFill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718" name="Oval 1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19" name="Oval 1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21" name="Oval 2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22" name="Oval 2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724" name="TextBox 3"/>
          <p:cNvSpPr/>
          <p:nvPr/>
        </p:nvSpPr>
        <p:spPr>
          <a:xfrm>
            <a:off x="1217520" y="17557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0" spc="-1" strike="noStrike">
                <a:solidFill>
                  <a:srgbClr val="a6a6a6"/>
                </a:solidFill>
                <a:latin typeface="Georgia"/>
              </a:rPr>
              <a:t>?</a:t>
            </a:r>
            <a:endParaRPr b="0" lang="en-US" sz="15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8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262626"/>
                </a:solidFill>
                <a:latin typeface="Calibri"/>
              </a:rPr>
              <a:t>Preise…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iPad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USB-Stick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Headset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Gutscheine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Das gibt es zu gewinnen!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7" name="Textfeld 4"/>
          <p:cNvSpPr/>
          <p:nvPr/>
        </p:nvSpPr>
        <p:spPr>
          <a:xfrm>
            <a:off x="5580000" y="1755720"/>
            <a:ext cx="302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Start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. März 2011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Ende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6. Mai 2011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Preisverleihung: </a:t>
            </a: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3. Mai 2011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(Dialogtag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Box 4"/>
          <p:cNvSpPr/>
          <p:nvPr/>
        </p:nvSpPr>
        <p:spPr>
          <a:xfrm>
            <a:off x="399960" y="1542960"/>
            <a:ext cx="4648320" cy="23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bcf27"/>
                </a:solidFill>
                <a:latin typeface="Calibri"/>
              </a:rPr>
              <a:t>Zusammenarbei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29" name="Picture 11" descr=""/>
          <p:cNvPicPr/>
          <p:nvPr/>
        </p:nvPicPr>
        <p:blipFill>
          <a:blip r:embed="rId2"/>
          <a:stretch/>
        </p:blipFill>
        <p:spPr>
          <a:xfrm rot="198000">
            <a:off x="8012160" y="2846520"/>
            <a:ext cx="1031760" cy="228276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5" descr=""/>
          <p:cNvPicPr/>
          <p:nvPr/>
        </p:nvPicPr>
        <p:blipFill>
          <a:blip r:embed="rId3"/>
          <a:stretch/>
        </p:blipFill>
        <p:spPr>
          <a:xfrm>
            <a:off x="7416720" y="268200"/>
            <a:ext cx="1584360" cy="24386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7" descr=""/>
          <p:cNvPicPr/>
          <p:nvPr/>
        </p:nvPicPr>
        <p:blipFill>
          <a:blip r:embed="rId4"/>
          <a:stretch/>
        </p:blipFill>
        <p:spPr>
          <a:xfrm>
            <a:off x="6110280" y="357120"/>
            <a:ext cx="828720" cy="2133720"/>
          </a:xfrm>
          <a:prstGeom prst="rect">
            <a:avLst/>
          </a:prstGeom>
          <a:ln w="0">
            <a:noFill/>
          </a:ln>
        </p:spPr>
      </p:pic>
      <p:sp>
        <p:nvSpPr>
          <p:cNvPr id="732" name="Left-Right Arrow 18"/>
          <p:cNvSpPr/>
          <p:nvPr/>
        </p:nvSpPr>
        <p:spPr>
          <a:xfrm rot="5400000">
            <a:off x="6208560" y="254448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3" name="Left-Right Arrow 19"/>
          <p:cNvSpPr/>
          <p:nvPr/>
        </p:nvSpPr>
        <p:spPr>
          <a:xfrm rot="10800000">
            <a:off x="7486200" y="386856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4" name="Left-Right Arrow 20"/>
          <p:cNvSpPr/>
          <p:nvPr/>
        </p:nvSpPr>
        <p:spPr>
          <a:xfrm rot="7846800">
            <a:off x="7096680" y="2788200"/>
            <a:ext cx="820440" cy="42516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5" name="Oval 21"/>
          <p:cNvSpPr/>
          <p:nvPr/>
        </p:nvSpPr>
        <p:spPr>
          <a:xfrm>
            <a:off x="6462720" y="249084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6" name="Oval 22"/>
          <p:cNvSpPr/>
          <p:nvPr/>
        </p:nvSpPr>
        <p:spPr>
          <a:xfrm>
            <a:off x="6488280" y="3994200"/>
            <a:ext cx="182520" cy="18396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7" name="Oval 23"/>
          <p:cNvSpPr/>
          <p:nvPr/>
        </p:nvSpPr>
        <p:spPr>
          <a:xfrm>
            <a:off x="6488280" y="399420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8" name="Oval 24"/>
          <p:cNvSpPr/>
          <p:nvPr/>
        </p:nvSpPr>
        <p:spPr>
          <a:xfrm>
            <a:off x="7916760" y="3994200"/>
            <a:ext cx="184320" cy="183960"/>
          </a:xfrm>
          <a:prstGeom prst="ellipse">
            <a:avLst/>
          </a:prstGeom>
          <a:solidFill>
            <a:srgbClr val="7bc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39" name="Grafik 2" descr=""/>
          <p:cNvPicPr/>
          <p:nvPr/>
        </p:nvPicPr>
        <p:blipFill>
          <a:blip r:embed="rId5"/>
          <a:stretch/>
        </p:blipFill>
        <p:spPr>
          <a:xfrm>
            <a:off x="539640" y="4267080"/>
            <a:ext cx="2303640" cy="1106640"/>
          </a:xfrm>
          <a:prstGeom prst="rect">
            <a:avLst/>
          </a:prstGeom>
          <a:ln w="0">
            <a:noFill/>
          </a:ln>
        </p:spPr>
      </p:pic>
      <p:pic>
        <p:nvPicPr>
          <p:cNvPr id="740" name="Grafik 3" descr=""/>
          <p:cNvPicPr/>
          <p:nvPr/>
        </p:nvPicPr>
        <p:blipFill>
          <a:blip r:embed="rId6"/>
          <a:stretch/>
        </p:blipFill>
        <p:spPr>
          <a:xfrm>
            <a:off x="539640" y="5608800"/>
            <a:ext cx="4368960" cy="699840"/>
          </a:xfrm>
          <a:prstGeom prst="rect">
            <a:avLst/>
          </a:prstGeom>
          <a:ln w="0">
            <a:noFill/>
          </a:ln>
        </p:spPr>
      </p:pic>
      <p:pic>
        <p:nvPicPr>
          <p:cNvPr id="741" name="Grafik 5" descr=""/>
          <p:cNvPicPr/>
          <p:nvPr/>
        </p:nvPicPr>
        <p:blipFill>
          <a:blip r:embed="rId7"/>
          <a:stretch/>
        </p:blipFill>
        <p:spPr>
          <a:xfrm>
            <a:off x="3059280" y="4772160"/>
            <a:ext cx="1849320" cy="601560"/>
          </a:xfrm>
          <a:prstGeom prst="rect">
            <a:avLst/>
          </a:prstGeom>
          <a:ln w="0">
            <a:noFill/>
          </a:ln>
        </p:spPr>
      </p:pic>
      <p:pic>
        <p:nvPicPr>
          <p:cNvPr id="742" name="Grafik 27" descr=""/>
          <p:cNvPicPr/>
          <p:nvPr/>
        </p:nvPicPr>
        <p:blipFill>
          <a:blip r:embed="rId8"/>
          <a:stretch/>
        </p:blipFill>
        <p:spPr>
          <a:xfrm>
            <a:off x="6829560" y="5732640"/>
            <a:ext cx="1117440" cy="871200"/>
          </a:xfrm>
          <a:prstGeom prst="rect">
            <a:avLst/>
          </a:prstGeom>
          <a:ln w="0">
            <a:noFill/>
          </a:ln>
        </p:spPr>
      </p:pic>
      <p:pic>
        <p:nvPicPr>
          <p:cNvPr id="743" name="Grafik 28" descr=""/>
          <p:cNvPicPr/>
          <p:nvPr/>
        </p:nvPicPr>
        <p:blipFill>
          <a:blip r:embed="rId9"/>
          <a:stretch/>
        </p:blipFill>
        <p:spPr>
          <a:xfrm>
            <a:off x="5724360" y="3284640"/>
            <a:ext cx="1768680" cy="912600"/>
          </a:xfrm>
          <a:prstGeom prst="rect">
            <a:avLst/>
          </a:prstGeom>
          <a:ln w="0">
            <a:noFill/>
          </a:ln>
        </p:spPr>
      </p:pic>
      <p:sp>
        <p:nvSpPr>
          <p:cNvPr id="744" name="Oval 24"/>
          <p:cNvSpPr/>
          <p:nvPr/>
        </p:nvSpPr>
        <p:spPr>
          <a:xfrm>
            <a:off x="7586640" y="2709720"/>
            <a:ext cx="182520" cy="182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5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0.00278 0.22037 E">
                                      <p:cBhvr>
                                        <p:cTn id="36" dur="15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7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3889 -1.11111E-006 E">
                                      <p:cBhvr>
                                        <p:cTn id="47" dur="15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1788 -0.18403 E">
                                      <p:cBhvr>
                                        <p:cTn id="49" dur="15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5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62" dur="15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7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73" dur="1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7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08:59Z</dcterms:created>
  <dc:creator/>
  <dc:description/>
  <dc:language>en-US</dc:language>
  <cp:lastModifiedBy/>
  <dcterms:modified xsi:type="dcterms:W3CDTF">2011-02-26T14:07:56Z</dcterms:modified>
  <cp:revision>1</cp:revision>
  <dc:subject/>
  <dc:title/>
</cp:coreProperties>
</file>