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31.png" ContentType="image/png"/>
  <Override PartName="/ppt/media/image45.jpeg" ContentType="image/jpeg"/>
  <Override PartName="/ppt/media/image32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8.png" ContentType="image/pn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F892-576E-461D-838B-FE4F9594B5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A717-4704-4D43-A0F7-74FE406BE3B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C11F-D7F3-4A1F-BCB7-D50AE16A8EC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F45C-3F81-4B27-A3CC-EC951FA65670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5D2E-3F5C-4665-B464-04C3986D217A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8311-4785-4EC0-824F-DD531500428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699E-F19C-40B2-BE3A-0C9C3FACF56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81F9-C06B-4AC2-A9E2-72BEE042C55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9EB8-788E-4F63-8CE4-328C45B709A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DBB9-584D-4FBE-9385-33A112379D8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4251-A053-4C76-8DF9-22BEFAF3FA7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9B2-2CF8-453D-B0AA-CBD1B0E1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B67-7D8D-48F2-A0E3-11D13B99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4DF361-4D55-4074-8EAF-10E57784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3291D7-E80F-45D5-A4DA-78B1BD2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72837-1978-4A51-BCB8-AECA5238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5F82F6-F3A3-45CF-9331-C29D92C2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8A47A-028B-4172-873F-1B9DAD72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82211-2D13-4A2F-883B-0A497CA0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16678-ED19-4434-9439-E68963E4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748C01-1B09-4B91-81CE-6089D1B2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2C57F4-63C0-4E9A-8518-8281C001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E677C0-3D64-4B13-8687-EFABA238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D97-F416-4669-822C-C0B79DE7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D99B73-94C2-4781-8A31-1C0C8E6E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8F7EDE-18F1-45CC-BF90-A851CB66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BF48D9-643B-44A1-A8F1-0AEA48A7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25630F-4235-4EDF-9BBB-E2244F6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DB575F-26C1-4F3E-A65F-1DB3D0DB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52D17F-0246-49EB-A94B-64D7A822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FD2FB7-66A3-4D96-8B9B-20DD0FE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2CE1D5-8E97-4F4F-8675-EDF74765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024E8-1684-4126-B2A3-63A4FB1A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D7A5B2-02EE-4C6A-921F-721E13C9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EB5-70EE-4140-9471-46387996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1E7A91-C720-4466-B987-D1916DD1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986BD9-F5BA-41FC-AD50-4C325654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204055-A99F-45FD-819C-85E8648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E9A585-E3FA-4407-964E-7D2C6313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4D75B1-A98D-488E-9C18-AE2C7A10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60DE2E-BFC0-449E-A4FD-D9745F29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E0C818-6666-4A98-BA18-235D5C58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2147EA-53A9-4D43-9637-BCCC509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7CF6A5-DAAA-4C05-9030-55D0A8D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907D52-D44A-4649-B253-616F294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0F8D-656E-424E-9FDA-261AC3D2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AB90A9-578C-429F-A49E-0196A318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706F7F-4C90-4574-B6CF-34DE1086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71F9BA-4FA6-4EC1-BB71-259425D3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213087-BEEB-43AD-A8AD-B0D9E66E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475C49-E17E-4D5B-9FC7-5CEE32F8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A2E061-43D3-40F1-B43F-368E121F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8078CA-C9C7-4EED-9B6A-CE88E462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D31D30-456E-4E1F-B1D4-85D3C2AC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D748DC-B469-408F-A9F4-A6B68978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432547-5D86-4EC6-B176-DEEFFB9A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138D-2F3F-4851-BC26-04366098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1A31A1-7B8A-4F87-BC67-C816F6DF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3BB1EB-B34F-4DF9-A195-9346A991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33B1E8-009D-4F02-B2C8-FD45C8E0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C62DCC-558F-44E0-8A90-E0C7BF06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AC794B-B5D3-4D91-917A-CA699A7F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DBE436-5DBD-4D59-984E-BC7D47BB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CACBF4-F6B7-48A2-9D92-A74CB276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D64A67-6A18-45C1-8F43-23F150E8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6BC07B-940B-4C2A-AAA8-0EDFC921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38422C-6A62-49D8-9937-AC490318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91FC-3AAB-4366-BD34-9C6BF9B6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662CA8-C6DA-44D8-A925-A938D52F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B25414-ACBA-4A79-A948-B040BB0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F098EF-7456-48E0-BBD7-E250AF9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79EA21-4626-434B-90B2-482CE299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D7869B-968E-4A9B-B3FF-85A82B16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DD1E79-2DCB-4877-BD9C-89F6C5E4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0F9D94-31F6-4993-B333-8CD22F9A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06C263-5727-475E-814A-0FB05C81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E97ED8-A729-480D-9EB4-A1F3C8E7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EDC4E7-D609-47B7-A41B-BC748ED6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E046-2F55-498C-A38A-65CBDF6C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F22F23-2428-4023-B912-74259A80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B0FFC1-DE24-4979-9D33-9FFE1106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6AB95D-BA0A-48EE-B628-6BB6A002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C1734A-E7FB-4670-BD5F-38BA7C75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F6230E-BD96-413E-B041-FD867F9F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B191E7-09BC-48FD-A626-76BB5512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CF0F87-6056-481B-9DFF-D382A447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D17E7F-E8DD-4EB5-B308-2185EE19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CC9763-E06F-4B8C-9DF5-CBF76692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F9247A-80B6-411F-8A55-0863CB43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9AE7-8C1B-4501-A675-CED7B36E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0F002D-549A-474B-8519-F55C2CF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3FA819-4FBB-4834-A500-220348BB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C89A3A-1B93-4F36-9190-2446E7A0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CD5373-1493-4760-8489-48B23B09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BB6BD9-AEF8-427D-B19B-1FB81F8A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00B820-915E-4C67-9E4C-7DAC4C11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360725-4589-4418-9A05-5D24A9A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A539DF-9B4A-4B28-A30F-1E3674D7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76D6DA-AD0A-47AB-A56E-A823F784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A64F4E-ECDF-4EC0-82BF-C4A8FB09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2DCF-A98A-45CC-96F4-7D3E0594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B033FB-5A2D-4327-9DCE-AC75F4A7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AF4A-549C-44EA-A9FF-9BA20A4D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E57-B467-4F67-808F-100BD591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9153-89EA-4594-9901-D8D9CBDE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26A1-A980-440D-B61C-E75F123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3720-C61F-49AB-87EE-494458F1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49E7-13F2-4916-BD84-CEE4CDEB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C9EB-F787-42E0-BB6B-3566811F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0B09B-737D-43EE-BF37-9125BC2C2E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B4BD8-6F14-47D8-8FFB-C8E534569E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40363-CEAD-4DAC-8962-CFA57AB011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D2A22-865A-47AB-89AD-1B215535BA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824EA-6B12-4188-A03B-F84AF6E4B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97A-990E-48B6-8F0C-65FF4A9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3B4A1-7E0D-4CC9-88AB-D115577EFB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A7CE7-AC32-42C1-AC29-EFBB57DA4D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D6807-397F-4F5B-8BF7-9D2BCF8C74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3CE5B-B7EA-4B8C-977B-086B9870FB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6D6B1-681E-4732-898D-4B987340F4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E3234-4644-4F18-B937-6EE8F68D36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A3B57-F9AD-4D03-ADB1-2EDE11E854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E8B69-B21F-4A8D-8A5A-10CADF50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BF1C9-46D0-48B5-8703-D779037B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64E1B-FAA9-4318-9984-FAB52C66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E53-1EFA-4339-93B1-35DF4C17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1C21B-E3D0-4634-BDE4-763CA878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927E7-357B-4FBB-ACCF-194A6A7A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984AA-FFE5-4759-B436-B8A0A2A7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C9D2C-575F-49BB-AED7-2F1A3515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91464-3943-4B27-8758-EA45BD70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15A65-0461-48D7-BFDA-DAC96B37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2B775-8018-4921-8C70-A1C91686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4D105-D370-4B9F-9B94-62727ECE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4E059-71F5-4BF1-BEC0-E02B0D61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84046-20A8-4B7C-8188-76FD2EB6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5ED-60FB-4B8F-B82B-5FFF096A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D4602-6649-445C-A7B1-BBC05938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8B4A3-F03D-43BE-B01A-CC7A30CE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CB4D1-86BA-4895-85B8-D686B8D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14B6A-6140-4FCF-9D21-1092A7EA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2CFF1-97AA-46BF-932A-ACF22E1B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4FE90-D852-44BE-A527-3561B8A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C8A66-03DC-4A23-9570-165C695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7B781-7B68-467D-82E8-C0526C9F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5AC1F-1A6C-497C-AC8C-4D6FFA7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934CF-795C-49D9-8ABF-3AF516EC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1D3-6FA1-478D-95B0-ACB555FA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1C157-A246-4667-804D-2E040945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F929D-06BC-4C51-ABFD-3BB56D75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5F189-0024-42E8-99EE-1E229181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43AEA-341A-4989-97DE-AF0A5298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DDA79-E853-4D87-B859-E7A7B921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AA57A-4C06-4B21-9A0E-AA5A33C3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8BAA8-F861-44F2-B1EA-8EE507A2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1D9DF-66F3-4ABE-8881-0412659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C552D-2C08-4D07-AB8B-C5BA83D7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5B19C-829F-41CE-BE8A-2278155C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6B4-FB14-4EEA-88CA-09D8E77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DD444-8601-4455-ACB3-541F08BD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367EF-A893-44E1-98CE-24CC0C91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259AA-D357-4C57-9E96-CC2AB7EB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CC25A-7D42-443A-AFA1-E2C44E12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76577-EE89-4EF9-BBB1-EC1A2C78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425DC-43F2-42EE-AC0C-3FABE165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D5E36-62E1-48B8-83A7-A40BB639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01987-6677-4E23-9608-E86A0BD5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09A03-8768-40BB-B600-AFCEE4CD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015D2-1CA0-425A-87BA-D54DDC5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1FD-8211-49AD-AA1E-6CC9510F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301C17-5CE8-464B-9A1A-9DF7DD2F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9B829-57A5-40A7-A264-02C27BC4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E25C1-7B17-4736-A84F-BB20D620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7AF4A-5346-40BE-9211-3AF0D088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3B911-94DE-4E1F-AFC4-0DD1D2FF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C12BFA-565A-49CB-9B35-050944EA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1C9AA9-5AD4-4B87-A10C-A0E44CF2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8EFBDD-489D-400C-BF54-8ABBCB05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9C4CB-4AD0-442B-A49D-CA327781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226219-76A5-41B8-9F81-9D3738A1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9DF-0902-418F-A152-10E6F87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CE394B-F957-469A-9F94-D356245B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C5C67-B497-4910-A214-B44FDF22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E32B4F-6DA0-4285-9A62-1828CF08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8F26A-0BBD-4B23-9520-62AABC7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8EF992-E7C4-4802-8E54-2B564C60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A0A5E-7AAD-4904-9541-FD81D0A3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6EB462-36C0-4556-AD98-5ADA253A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65FBF-6DDF-40E9-9454-AADB054E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8D72D5-F1CA-4FCC-95CB-E689DF5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78939C-8532-4970-A424-F6E93D45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5BDB-44CF-4DE3-B95F-D7ACDE6339C9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67DB-974A-4755-8BBB-CF7DDAC325A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2AAE-5B59-4255-98D3-C47B542ACF9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83F3-1A70-4804-AD5D-C47DE1B7561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36DD-9D62-43EB-99F0-FEF71539698C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D04-5377-4F8D-A97F-9C320673EE83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B5D8-9F8F-4C12-B6DB-EA08DF5886FF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A0E2-005A-4D68-AC39-199C9C9EDC7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8517-21B8-4EE5-806C-1BD39972AB2E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BDD2-A796-4AD5-BBAE-9143BC2596D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FADC-17E6-46A9-ACA6-BBF8F16A924C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7CDB-CBB7-44F1-8CCB-15E3CB590F6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23E-3ADE-4F82-B0E5-7183D4F5B7A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CE8-D44F-4E7C-A4A7-906663B0F25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CDDF-1B9E-47F9-ABFF-8FC6961317D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3991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hyperlink" Target="http://www.nms.tsn.at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WebQuest@Home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DANKE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74747"/>
                </a:solidFill>
                <a:latin typeface="Calibri"/>
              </a:rPr>
              <a:t>Informationen zum Wettbewerb „WebQuest@Home“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Abenteuerliche 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n Schulort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4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5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Hinweise für Lehrperson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6" name="Grafik 4" descr=""/>
          <p:cNvPicPr/>
          <p:nvPr/>
        </p:nvPicPr>
        <p:blipFill>
          <a:blip r:embed="rId2"/>
          <a:stretch/>
        </p:blipFill>
        <p:spPr>
          <a:xfrm>
            <a:off x="1511280" y="622440"/>
            <a:ext cx="5021280" cy="259056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5" descr=""/>
          <p:cNvPicPr/>
          <p:nvPr/>
        </p:nvPicPr>
        <p:blipFill>
          <a:blip r:embed="rId3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4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5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Eben a. A.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6270480" y="2565360"/>
            <a:ext cx="2644920" cy="3406680"/>
            <a:chOff x="6270480" y="2565360"/>
            <a:chExt cx="2644920" cy="3406680"/>
          </a:xfrm>
        </p:grpSpPr>
        <p:sp>
          <p:nvSpPr>
            <p:cNvPr id="693" name="Rectangle 14"/>
            <p:cNvSpPr/>
            <p:nvPr/>
          </p:nvSpPr>
          <p:spPr>
            <a:xfrm>
              <a:off x="6597360" y="2565360"/>
              <a:ext cx="2318040" cy="34066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4" name="TextBox 7"/>
            <p:cNvSpPr/>
            <p:nvPr/>
          </p:nvSpPr>
          <p:spPr>
            <a:xfrm>
              <a:off x="6672960" y="2656440"/>
              <a:ext cx="216612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595959"/>
                  </a:solidFill>
                  <a:latin typeface="Calibri"/>
                </a:rPr>
                <a:t>Fertig ausgearbeiteter WebQuest - zu finden auf der Plattform TSN-Moodle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5" name="Straight Connector 18"/>
            <p:cNvSpPr/>
            <p:nvPr/>
          </p:nvSpPr>
          <p:spPr>
            <a:xfrm>
              <a:off x="6270480" y="50655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6" name="Grafik 9" descr=""/>
          <p:cNvPicPr/>
          <p:nvPr/>
        </p:nvPicPr>
        <p:blipFill>
          <a:blip r:embed="rId3"/>
          <a:stretch/>
        </p:blipFill>
        <p:spPr>
          <a:xfrm>
            <a:off x="1552680" y="2565360"/>
            <a:ext cx="45432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698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0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1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03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Sekundarstufe I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Neue Mittelschulen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Tiroler Hauptschulen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Schulinstanz auf TSN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08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0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1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3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5"/>
          <p:cNvSpPr/>
          <p:nvPr/>
        </p:nvSpPr>
        <p:spPr>
          <a:xfrm>
            <a:off x="5435640" y="1700280"/>
            <a:ext cx="3097080" cy="33130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18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19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1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22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24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iPad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Headset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Gutscheine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7" name="Textfeld 4"/>
          <p:cNvSpPr/>
          <p:nvPr/>
        </p:nvSpPr>
        <p:spPr>
          <a:xfrm>
            <a:off x="5580000" y="1755720"/>
            <a:ext cx="30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3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Dialogta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4"/>
          <p:cNvSpPr/>
          <p:nvPr/>
        </p:nvSpPr>
        <p:spPr>
          <a:xfrm>
            <a:off x="399960" y="1542960"/>
            <a:ext cx="4648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29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32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7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8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9" name="Grafik 2" descr=""/>
          <p:cNvPicPr/>
          <p:nvPr/>
        </p:nvPicPr>
        <p:blipFill>
          <a:blip r:embed="rId5"/>
          <a:stretch/>
        </p:blipFill>
        <p:spPr>
          <a:xfrm>
            <a:off x="539640" y="4267080"/>
            <a:ext cx="2303640" cy="1106640"/>
          </a:xfrm>
          <a:prstGeom prst="rect">
            <a:avLst/>
          </a:prstGeom>
          <a:ln w="0">
            <a:noFill/>
          </a:ln>
        </p:spPr>
      </p:pic>
      <p:pic>
        <p:nvPicPr>
          <p:cNvPr id="740" name="Grafik 3" descr=""/>
          <p:cNvPicPr/>
          <p:nvPr/>
        </p:nvPicPr>
        <p:blipFill>
          <a:blip r:embed="rId6"/>
          <a:stretch/>
        </p:blipFill>
        <p:spPr>
          <a:xfrm>
            <a:off x="539640" y="5608800"/>
            <a:ext cx="4368960" cy="699840"/>
          </a:xfrm>
          <a:prstGeom prst="rect">
            <a:avLst/>
          </a:prstGeom>
          <a:ln w="0">
            <a:noFill/>
          </a:ln>
        </p:spPr>
      </p:pic>
      <p:pic>
        <p:nvPicPr>
          <p:cNvPr id="741" name="Grafik 5" descr=""/>
          <p:cNvPicPr/>
          <p:nvPr/>
        </p:nvPicPr>
        <p:blipFill>
          <a:blip r:embed="rId7"/>
          <a:stretch/>
        </p:blipFill>
        <p:spPr>
          <a:xfrm>
            <a:off x="3059280" y="4772160"/>
            <a:ext cx="1849320" cy="601560"/>
          </a:xfrm>
          <a:prstGeom prst="rect">
            <a:avLst/>
          </a:prstGeom>
          <a:ln w="0">
            <a:noFill/>
          </a:ln>
        </p:spPr>
      </p:pic>
      <p:pic>
        <p:nvPicPr>
          <p:cNvPr id="742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pic>
        <p:nvPicPr>
          <p:cNvPr id="743" name="Grafik 28" descr=""/>
          <p:cNvPicPr/>
          <p:nvPr/>
        </p:nvPicPr>
        <p:blipFill>
          <a:blip r:embed="rId9"/>
          <a:stretch/>
        </p:blipFill>
        <p:spPr>
          <a:xfrm>
            <a:off x="5724360" y="3284640"/>
            <a:ext cx="1768680" cy="912600"/>
          </a:xfrm>
          <a:prstGeom prst="rect">
            <a:avLst/>
          </a:prstGeom>
          <a:ln w="0">
            <a:noFill/>
          </a:ln>
        </p:spPr>
      </p:pic>
      <p:sp>
        <p:nvSpPr>
          <p:cNvPr id="744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1-02-26T14:07:56Z</dcterms:modified>
  <cp:revision>1</cp:revision>
  <dc:subject/>
  <dc:title/>
</cp:coreProperties>
</file>