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40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41.png" ContentType="image/png"/>
  <Override PartName="/ppt/media/image43.jpeg" ContentType="image/jpeg"/>
  <Override PartName="/ppt/media/image45.jpeg" ContentType="image/jpeg"/>
  <Override PartName="/ppt/media/image46.png" ContentType="image/png"/>
  <Override PartName="/ppt/media/image31.png" ContentType="image/png"/>
  <Override PartName="/ppt/media/image47.jpeg" ContentType="image/jpeg"/>
  <Override PartName="/ppt/media/image36.png" ContentType="image/png"/>
  <Override PartName="/ppt/media/image48.png" ContentType="image/png"/>
  <Override PartName="/ppt/media/image37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9.png" ContentType="image/png"/>
  <Override PartName="/ppt/media/image30.jpeg" ContentType="image/jpeg"/>
  <Override PartName="/ppt/media/image13.jpeg" ContentType="image/jpeg"/>
  <Override PartName="/ppt/media/image2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50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7B45-DF84-48CA-87A4-C4CB42A7F3C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AA1B-C22E-40ED-8C99-8CF96CE01032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CAE2-1AAC-45FE-BB08-863935C92C5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828B-033E-4FA3-8A83-C216DB019FD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5CC2-96F7-4E39-B754-AE68452F97C4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8857-6906-487F-ACFF-FAFEE4688CA7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AA2B-DB86-4B4A-A46C-1DDBAA582CE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CF25-1513-4DE0-96AC-B492F9DFC43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A16C-5EB8-4DFE-8172-3953B370205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449C-0F8F-4C41-AE6B-E7C0660AC85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B6A5-07FB-4026-935E-52D8C759EF8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B08A-C571-49C5-A9D0-1653C2C0A4A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BA2-AB89-4F26-98CF-AB7039CF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30A-D9D1-404F-B985-0BC21ACC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3F1741-5389-47FC-A8F1-FB864E27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282D27-2AB8-4DEC-8767-D8D7486C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6B1B56-59C3-4A79-8FB2-96A2339F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741E3A-9864-4AC1-9230-8284817E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16D300-757D-43CF-B413-B1538998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B8366F-5422-4484-BB94-F367F8E1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C6EF3A-3603-404C-85E6-1467F495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260329-CF52-4FBC-A626-1B0282C1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28BB1E-AE4B-46FE-8C78-1538407B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01D07A-9386-4E1E-AA62-A6799EFB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E207-5E33-4462-9E4D-AB6257A7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EDCA3B-00F1-4C5B-A140-98647625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7C5144-8047-4421-9486-7C4CF7C8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DA8368-5386-4E89-BACB-3AE8AABA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0EBB6C-1320-40C0-8F1A-A8350267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1FD2F7-6FFF-44F8-826C-B049D422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9A8448-A0BB-46CC-91BD-2E8AC24A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479941-4EF2-4774-9462-093FDEB8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9FCF9B-E070-4CDA-95BA-AD596323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85E7B2-7791-4187-861D-88B044A9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724806-DF73-48A0-9D5F-23A51E35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B0D9-7D72-4935-952A-5F930959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82E209-7EC4-4E90-BF0C-70B0C233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462495-4703-456B-BEF5-4218438B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FDDE14-8854-4FFE-AA40-25D5913D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5B6F20-AE06-442B-A307-52AB13E6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05E4A1-8EA7-4C45-A8A8-3BE7B933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3A12C0-813E-467C-8F29-51FEF0BA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8B4B0B-A26C-4DE6-906A-DB03212A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BE0965-9C33-46EC-9262-58614BDC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9662D1-C9D0-4E09-90F0-37902FB4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D1597D-9FB8-439A-919F-533504EF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FB27-6829-4C84-BF00-D0364AF9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DE0DE9-BEA5-4B4D-9705-9D984F81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F7139B-4703-4D3A-B519-D2D79270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51E3F4-F555-480B-B477-A8289FB1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C19257-AC6B-4D1E-ACBC-FB927B44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FE827F-93AB-4EA7-B5BF-1DFE7824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9B5421-BDC9-45CD-944C-36DF55B5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774906-FF0D-4E9F-B89D-8B2565A9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507D24-3EC0-499B-8498-DBC729C1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D273AD-EC56-4DB3-ABE7-CDC6D13D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2F1E33-5F88-4F81-B401-78334FAB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AA81-70A1-41B9-930E-84879BAF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93CB00-2486-4D6F-BD75-D22E68E8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372F05-37CA-49B9-8A4D-DDB8490A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3DBE27-DAD2-49E4-B848-DDF4256D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DDD6E3-074E-4CDE-A9E1-68ABC308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032786-0942-4101-A8E4-E30F0849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E65ACD-203C-4A7C-A068-4C85B2D5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64263E-0490-4C8D-81B2-E566EF59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D38C62-1B49-4875-B0D6-211AE41A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80D269-1A68-48EF-962D-6EFDFCF2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9BBA5F-B8F9-4633-9BC9-87614607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C21E-D1A1-4C99-A881-33555D43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E2510B-94CD-4E89-9E23-AF8A0293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CF4566-A104-47CD-8AC0-2ACAD5F8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742DFD-31BC-4ABD-9DC7-42F175C7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73768C-22D0-421E-AF17-4FD00CEE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A5CCBC-EE05-4966-88E5-7A5B4447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736C85-10F9-4D1D-B9B8-A6B9682E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120DAB-5396-4404-BBB1-2C048154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98A889-47DB-4DEE-BC2D-DA831EE7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CF8828-89A7-4570-88AC-BB71EFBB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7FD9B7-F960-41ED-A14F-C5377F26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D66D-270E-4932-8FB8-6F487186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016F395-21B8-456F-8F4D-14AA6E34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0D6EFB-C93E-463D-B8B8-0B8E422D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9F0F35-C9CE-4431-8790-E322DCC0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DC470B-6904-47CD-AFB4-8231D2B0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C04168-0D93-40B9-96BA-EE54CEDC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158F66-27ED-4792-86BC-BDDC3EBA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0FB3BAA-A441-4EBF-BC80-A7A779C9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5DE937-4894-4F4A-8916-DD3A432D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40B8985-91DF-4680-B26F-3738D224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29E349-C2AD-416B-A62A-298F3928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D09E-84F1-45C7-9F62-7160D71B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5F437B-C0BD-4575-9317-277DFC45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6009C5-89C9-413F-A24F-C609A6FE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3A16AC-DEC7-4F9D-81C2-F0B5E460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01E258-FCD9-4915-A5BE-97CB3600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BD34AAB-EACE-46F8-8A5F-9B09B1F7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224FDD-3F32-4E0B-ADF4-2DF9DCEC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11637E-161D-4590-81DE-F5259BA5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BFE565-CE1F-41A6-86B2-A1ADF591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480562-783E-4C22-9410-8F0CD218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B0761DF-EDE4-4B5B-B29E-583B6022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442C-D814-4B1F-9AF7-8414188F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FE98D4F-1A61-4B15-9EAF-AE4119D1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4B69-36F5-402A-A3AE-4A344615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805C-5E23-4904-9511-DE75D116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22F8-DB09-43AE-BB01-E5018E79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36BF-4B40-42DD-805E-8D4E73A0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D019-092A-4874-B179-F7BB7706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338B-4BDB-4F8D-9DF9-732275F0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6663-CE4F-4874-80A5-06DBCCBC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47B21-C6A3-406E-AD6E-253960FCE4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587EB-4FE8-4C17-B19A-7A0A89A503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FB4D8-BAB7-475C-9DD9-739503C5C4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B2C04-C375-4352-B3A6-B5240861A2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BAEED-F4B4-4DC1-9A96-91A67EBC60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9AA8-EA33-459D-A590-21A99595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22DC4-309C-4434-AE12-8875BADD43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8D710-21F3-416E-87EE-460485F90E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E0D4C-F6E3-49D8-A8B3-9533C19A97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68674-EA8E-437B-B5CA-8342944085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54D1C-97E2-482F-9A6C-1F026CE40D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1D503-3589-425F-8DFE-891E9E17B2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4CABB-E508-4CDB-81B9-1E0C9E8223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2A2B67-6A21-4BAD-A59E-B1BD5069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F7244F-96A0-4B89-87A2-F01573DF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A358F0-FEDD-4899-9C5B-6A6AF998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737-4433-4BEA-82F8-8ADA0209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03DFAF-60C7-4727-B760-69B1A3A6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BADE93-A790-439E-8E8E-217EC0FD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A35E00-227D-4FC4-AA72-EA608F69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130B2-D864-4C61-ADB8-B84194DA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1CAA6C-0A8B-4249-B180-D5370855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37961B-1EE3-44E4-8C03-08B6C28A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86E163-D477-4E64-B2F1-573012E4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593568-1256-4713-A497-B249E16F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843E08-2DA9-42E1-92C4-FDCE8D63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CEEC4F-7079-44ED-8F97-461E12B0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A8CA-C346-4F53-A8B4-4CB6562E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4D490A-E50E-4EAA-B4C0-2601486D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51761-4CBB-498E-9372-93737B18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730A09-0751-4AAA-805F-C4E868D4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6E39EB-E108-4103-BD38-67E6F3E5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F6BE5A-B42C-4155-8175-B5DE35C9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E70E1-DCD5-4D6D-8983-A5BCA280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A80C36-060D-45C3-BA74-1F8E6721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45A50-DF5D-41D7-A318-3D292E59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11DE23-4EB6-4712-B4E5-F91F93DE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92F152-750D-4FFB-857E-93190E82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44DB-5996-45C2-82BB-5F095B97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C6588B-DB7F-48DD-9406-0C899CF4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90FC83-E413-45A1-9F97-C25C9FC2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77B628-95F7-4D32-AC7F-967AE4A6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3077DA-2ED7-4047-8F57-B085EDE5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F5A7B6-6EEB-46E5-8E33-317D6BBA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E0418-C886-437A-80F2-DD2F2E1A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35ED3-1E1A-4E00-961F-16A1883B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E350A9-6E75-4583-9324-43934BF0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4D1A97-3A73-42E4-88BD-A9858FC2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4DBD8C-5B72-44D8-99D6-3AA0509D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202-0248-4826-B075-3330E998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CBF9E5-45D7-4D6B-8FD8-C75BB097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20E0CF-1F0B-480F-BC98-D5848064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2ECD2-E7E8-4B82-8017-4D4C4B85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1A314F-6B41-4C90-875C-47DF29D0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43CD0B-41C3-49C3-AA99-CBB2D72F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278D81-126B-4D9F-8DDF-C67AA702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A360A4-FBA3-44A8-A6EE-9FAD2110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756BCB-2404-410B-9395-BCDEB757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4DC1DD-6E10-471B-86EE-2B055216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D5F415-2970-4281-9EDD-1A339676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613-0665-46B1-AA45-7773DA0F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869D5B-6FFC-46EB-9029-EB9C9113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D2C445-B5DF-4FE9-9B2A-0BB060C1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03C137-676D-4E6D-9CC9-15E72EDD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B02EC-9111-4E2B-9D67-9312BDAF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B575D-6CF0-43FC-AA44-EF08812C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6DDC39-AA71-470D-82AB-539EB607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C197D9-A736-494D-A1C2-88360F6E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200030-5218-4E39-B68D-1E825132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493EEF-CC9F-4D25-9A3F-7C06567D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B76B46-CACD-4904-AFBB-360C725F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A7D-96EA-4BAE-861E-2F9EC60C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F039A6-E04F-4EF7-B903-A59D326D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BB14AC-BDC4-4127-B670-7C2B4975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46901E-CEE8-4FE5-A2F5-0B9E1F85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2982C5-2EA9-4EC3-9F73-D44186F9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80E215-5866-4B6C-B84C-E6A64455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E7AF0D-E9C3-4A99-AE37-9853BF3C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862F02-A152-4A9E-8162-F5611E7A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08ACC1-B79A-4EE0-AA08-0C9ADC0E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960DC0-2BF6-4B02-BCAC-B7209D5B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F31A27-E6FC-422A-ADFA-7D1D6450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DF5F-4289-43BF-AFEF-7CC466A7D248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58D8-3593-423B-A1C7-2D2B14229685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C65D-C9F8-4203-8863-1A6A6CC7720B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59E7-2FFC-40D3-92C7-26887D5AAF5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98FC-936E-4164-8705-FA140B8CD5FF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22BC-BE58-4A6F-B11F-BC7083E3821F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A069-A73F-40E5-8279-5009FA41F212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16FA-C39F-4EF2-BD17-4A319C53059C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AC67-2BD0-4912-8484-CE445516F31D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7C97-4539-4C40-B307-D3FA850A7761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8707-F16F-4F3F-8BCE-78A14CFB4C53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A6E6-7463-40C1-A170-7456B3600AE4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DF38-7BC6-40FA-A708-050F940460C9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E22A-D33C-4903-AD67-D80727DDD7CA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6ACD-5193-4040-B782-1E1E1F7E9058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2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6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4198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image" Target="../media/image40.png"/><Relationship Id="rId5" Type="http://schemas.openxmlformats.org/officeDocument/2006/relationships/hyperlink" Target="http://www.nms.tsn.at/wettbewerb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NMS-Quest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4"/>
          <p:cNvSpPr/>
          <p:nvPr/>
        </p:nvSpPr>
        <p:spPr>
          <a:xfrm>
            <a:off x="399960" y="449280"/>
            <a:ext cx="46483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40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1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2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3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4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5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6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47" name="Grafik 2" descr=""/>
          <p:cNvPicPr/>
          <p:nvPr/>
        </p:nvPicPr>
        <p:blipFill>
          <a:blip r:embed="rId5"/>
          <a:stretch/>
        </p:blipFill>
        <p:spPr>
          <a:xfrm>
            <a:off x="512640" y="3284640"/>
            <a:ext cx="2303640" cy="1106280"/>
          </a:xfrm>
          <a:prstGeom prst="rect">
            <a:avLst/>
          </a:prstGeom>
          <a:ln w="0">
            <a:noFill/>
          </a:ln>
        </p:spPr>
      </p:pic>
      <p:pic>
        <p:nvPicPr>
          <p:cNvPr id="748" name="Grafik 3" descr=""/>
          <p:cNvPicPr/>
          <p:nvPr/>
        </p:nvPicPr>
        <p:blipFill>
          <a:blip r:embed="rId6"/>
          <a:stretch/>
        </p:blipFill>
        <p:spPr>
          <a:xfrm>
            <a:off x="539640" y="4689360"/>
            <a:ext cx="4368960" cy="700200"/>
          </a:xfrm>
          <a:prstGeom prst="rect">
            <a:avLst/>
          </a:prstGeom>
          <a:ln w="0">
            <a:noFill/>
          </a:ln>
        </p:spPr>
      </p:pic>
      <p:pic>
        <p:nvPicPr>
          <p:cNvPr id="749" name="Grafik 5" descr=""/>
          <p:cNvPicPr/>
          <p:nvPr/>
        </p:nvPicPr>
        <p:blipFill>
          <a:blip r:embed="rId7"/>
          <a:stretch/>
        </p:blipFill>
        <p:spPr>
          <a:xfrm>
            <a:off x="512640" y="5726160"/>
            <a:ext cx="1849680" cy="601560"/>
          </a:xfrm>
          <a:prstGeom prst="rect">
            <a:avLst/>
          </a:prstGeom>
          <a:ln w="0">
            <a:noFill/>
          </a:ln>
        </p:spPr>
      </p:pic>
      <p:pic>
        <p:nvPicPr>
          <p:cNvPr id="750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sp>
        <p:nvSpPr>
          <p:cNvPr id="751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52" name="Picture 19" descr=""/>
          <p:cNvPicPr/>
          <p:nvPr/>
        </p:nvPicPr>
        <p:blipFill>
          <a:blip r:embed="rId9"/>
          <a:stretch/>
        </p:blipFill>
        <p:spPr>
          <a:xfrm>
            <a:off x="539640" y="2233440"/>
            <a:ext cx="2247840" cy="76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9964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Viel Erfolg!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474747"/>
                </a:solidFill>
                <a:latin typeface="Calibri"/>
              </a:rPr>
              <a:t>Informationen zum Wettbewerb „NMS-Quest“</a:t>
            </a:r>
            <a:endParaRPr b="0" lang="en-US" sz="31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 Schule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2" name="Grafik 5" descr=""/>
          <p:cNvPicPr/>
          <p:nvPr/>
        </p:nvPicPr>
        <p:blipFill>
          <a:blip r:embed="rId2"/>
          <a:stretch/>
        </p:blipFill>
        <p:spPr>
          <a:xfrm rot="2223000">
            <a:off x="1098720" y="4437000"/>
            <a:ext cx="190476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5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6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/Thema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7" name="Grafik 5" descr=""/>
          <p:cNvPicPr/>
          <p:nvPr/>
        </p:nvPicPr>
        <p:blipFill>
          <a:blip r:embed="rId2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3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4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690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91" name="Rechteck 2" descr=""/>
          <p:cNvPicPr/>
          <p:nvPr/>
        </p:nvPicPr>
        <p:blipFill>
          <a:blip r:embed="rId5"/>
          <a:stretch/>
        </p:blipFill>
        <p:spPr>
          <a:xfrm>
            <a:off x="1420920" y="1365120"/>
            <a:ext cx="4383000" cy="1365480"/>
          </a:xfrm>
          <a:prstGeom prst="rect">
            <a:avLst/>
          </a:prstGeom>
          <a:ln w="0">
            <a:noFill/>
          </a:ln>
        </p:spPr>
      </p:pic>
      <p:pic>
        <p:nvPicPr>
          <p:cNvPr id="692" name="Grafik 4" descr=""/>
          <p:cNvPicPr/>
          <p:nvPr/>
        </p:nvPicPr>
        <p:blipFill>
          <a:blip r:embed="rId6"/>
          <a:stretch/>
        </p:blipFill>
        <p:spPr>
          <a:xfrm>
            <a:off x="6489720" y="736560"/>
            <a:ext cx="175248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Telfs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5" name="Group 3"/>
          <p:cNvGrpSpPr/>
          <p:nvPr/>
        </p:nvGrpSpPr>
        <p:grpSpPr>
          <a:xfrm>
            <a:off x="6270480" y="2565360"/>
            <a:ext cx="2644920" cy="3264120"/>
            <a:chOff x="6270480" y="2565360"/>
            <a:chExt cx="2644920" cy="3264120"/>
          </a:xfrm>
        </p:grpSpPr>
        <p:sp>
          <p:nvSpPr>
            <p:cNvPr id="696" name="Rectangle 14"/>
            <p:cNvSpPr/>
            <p:nvPr/>
          </p:nvSpPr>
          <p:spPr>
            <a:xfrm>
              <a:off x="6597360" y="2565360"/>
              <a:ext cx="2318040" cy="3264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7" name="TextBox 7"/>
            <p:cNvSpPr/>
            <p:nvPr/>
          </p:nvSpPr>
          <p:spPr>
            <a:xfrm>
              <a:off x="6672960" y="2652480"/>
              <a:ext cx="2166120" cy="30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595959"/>
                  </a:solidFill>
                  <a:latin typeface="Calibri"/>
                </a:rPr>
                <a:t>Siegerklasse 1F des Wettbewerbs WebQuest@Home 2011</a:t>
              </a:r>
              <a:endParaRPr b="0" lang="en-US" sz="20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8" name="Straight Connector 18"/>
            <p:cNvSpPr/>
            <p:nvPr/>
          </p:nvSpPr>
          <p:spPr>
            <a:xfrm>
              <a:off x="6270480" y="49611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9" name="Picture 11" descr="siegerfoto_telfs_weissenbach_1"/>
          <p:cNvPicPr/>
          <p:nvPr/>
        </p:nvPicPr>
        <p:blipFill>
          <a:blip r:embed="rId3"/>
          <a:stretch/>
        </p:blipFill>
        <p:spPr>
          <a:xfrm>
            <a:off x="1531800" y="19890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Umsetzung/Präsentati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1" name="Grafik 13" descr=""/>
          <p:cNvPicPr/>
          <p:nvPr/>
        </p:nvPicPr>
        <p:blipFill>
          <a:blip r:embed="rId2"/>
          <a:stretch/>
        </p:blipFill>
        <p:spPr>
          <a:xfrm rot="20013000">
            <a:off x="7615080" y="8600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702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Rechteck 4"/>
          <p:cNvSpPr/>
          <p:nvPr/>
        </p:nvSpPr>
        <p:spPr>
          <a:xfrm>
            <a:off x="1619280" y="2706840"/>
            <a:ext cx="691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räsentation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der Schule (Bilder und Tex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Diashow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über die Schule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Videoclip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Kurzfilm, max. 3 Minuten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odcas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Jingle, Interview, Lied, Hörspie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Tex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Geschichte, Ereignis …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Fotostory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Bildgeschich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Schul-Quiz 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(Quiz über eigene Schul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Zeichnung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laka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4" name="Rechteck 6" descr=""/>
          <p:cNvPicPr/>
          <p:nvPr/>
        </p:nvPicPr>
        <p:blipFill>
          <a:blip r:embed="rId3"/>
          <a:stretch/>
        </p:blipFill>
        <p:spPr>
          <a:xfrm>
            <a:off x="1274760" y="1365120"/>
            <a:ext cx="663732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06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8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9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1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71800" y="169992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Klassen der </a:t>
            </a:r>
            <a:br>
              <a:rPr sz="4000"/>
            </a:b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Neuen Mittelschule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Moodle-Instanz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4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16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8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9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21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36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/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hteck 5"/>
          <p:cNvSpPr/>
          <p:nvPr/>
        </p:nvSpPr>
        <p:spPr>
          <a:xfrm>
            <a:off x="5435640" y="1562040"/>
            <a:ext cx="3097080" cy="35956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26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27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9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30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32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Tablet-PC</a:t>
            </a:r>
            <a:br>
              <a:rPr sz="3600"/>
            </a:br>
            <a:r>
              <a:rPr b="0" lang="de-AT" sz="3600" spc="-1" strike="noStrike">
                <a:solidFill>
                  <a:srgbClr val="7f7f7f"/>
                </a:solidFill>
                <a:latin typeface="Calibri"/>
              </a:rPr>
              <a:t>Kamera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Textfeld 4"/>
          <p:cNvSpPr/>
          <p:nvPr/>
        </p:nvSpPr>
        <p:spPr>
          <a:xfrm>
            <a:off x="5580000" y="1557360"/>
            <a:ext cx="30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22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NMS eLearning Symposium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2-01-22T19:25:18Z</dcterms:modified>
  <cp:revision>1</cp:revision>
  <dc:subject/>
  <dc:title/>
</cp:coreProperties>
</file>