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40.png" ContentType="image/png"/>
  <Override PartName="/ppt/media/image32.png" ContentType="image/png"/>
  <Override PartName="/ppt/media/image33.png" ContentType="image/png"/>
  <Override PartName="/ppt/media/image14.jpeg" ContentType="image/jpeg"/>
  <Override PartName="/ppt/media/image41.png" ContentType="image/png"/>
  <Override PartName="/ppt/media/image43.jpeg" ContentType="image/jpeg"/>
  <Override PartName="/ppt/media/image45.jpeg" ContentType="image/jpeg"/>
  <Override PartName="/ppt/media/image46.png" ContentType="image/png"/>
  <Override PartName="/ppt/media/image31.png" ContentType="image/png"/>
  <Override PartName="/ppt/media/image47.jpeg" ContentType="image/jpeg"/>
  <Override PartName="/ppt/media/image36.png" ContentType="image/png"/>
  <Override PartName="/ppt/media/image48.png" ContentType="image/png"/>
  <Override PartName="/ppt/media/image37.png" ContentType="image/png"/>
  <Override PartName="/ppt/media/image44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49.png" ContentType="image/png"/>
  <Override PartName="/ppt/media/image30.jpeg" ContentType="image/jpeg"/>
  <Override PartName="/ppt/media/image13.jpeg" ContentType="image/jpeg"/>
  <Override PartName="/ppt/media/image23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50.png" ContentType="image/png"/>
  <Override PartName="/ppt/media/image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F9A4-31AD-41AB-A21B-3030C8FEC3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2AB7-2CDA-4007-A3E0-5FD1E6498DAD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930E-D0A6-4E30-ACA2-352803D31E2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94B4-87BE-4DAC-8C28-669B950088CC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2EF-009F-47AC-81CE-0C779D7407CB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B6AF-48CE-4A10-AE73-E53AC7D792C9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4C1-0EAD-4D87-93D7-07AC49797E2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F87-D163-4803-89CB-2033BF335FB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8913-CEA0-44BE-87F5-854182B4B29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CE4-983B-4CA4-A449-05C5935EA61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BAD4-7870-429F-BFA7-1165CDEA8D8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3B25-4562-45A8-A615-23D3A489997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0575-928E-45D1-999F-4EFFAF8A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4A6-0F82-4CC0-886A-C697B751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BD1D08-00D5-453A-ADEC-0C465147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8D5CF3-9257-4FFC-8F3C-AA6ABF91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DCD9D-947C-475A-A5BC-7A4366CB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B9D07-7C84-4D89-B2DD-51C9669F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70CAA8-4403-4417-8E7C-5FE6B72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891D91-AF42-4641-8A78-32259226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796596-9D7A-4BA3-BCD6-39FF61A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605682-3497-4FB8-B4C4-CE5FA931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6FBFC7-0D09-4C05-961C-241270BA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B5AF5F-74B0-431F-99F8-DED982A4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3CD-D62B-46F2-98C8-079A48BA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96543A-ADD3-46E5-A201-0146D8EE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589FC3-6AF2-4D78-8C15-C557AEE4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8A1502-A23D-4896-BC22-E2589F04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E7269D-25B1-4AD8-ADE1-6CB2EDD1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E69386-44F1-47B2-A3F1-99ABECE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F77EB-1CB7-44F1-84E2-B1A707F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241D9E-EC71-4118-8C06-7E9462D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F7BEA-6378-4839-ACC2-1F398058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BC9E2A-A3E9-4EB7-9DD2-638B28A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A649C-3AD5-485E-8FF3-CCEFD93F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DAB-897D-40AD-A4B7-3072E7AB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2E401F-06AC-4D9C-8F30-207C8A5D7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A6E9F3-6C70-498F-A6ED-E63DAC8A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B13FAE-B5EC-4A80-9B83-52DE8C1A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D3916F-0F10-4960-8FB9-D2A4CB20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F7089E-B32F-4A32-A49C-3377F208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9FCD10-B6EB-48A0-9E7F-69A846D6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E39AB8-0EEC-4A41-B2E0-A9CE357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41BBF7-E8C6-4C40-9AA2-3721D37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87AB20-C004-416E-896F-82D2B616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E60EBC-3524-4736-BA00-C9D2EDC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5955-C7F8-4C7C-AFEE-E719EC7B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A9DD6A-B75B-4701-AA3A-7D9F74A3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66D90F-9430-477D-A795-061141DC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A2074C-F0D7-4224-8947-1F079A55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39BD43-2C24-441C-A77D-4EE7939F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51C71C-0DEA-4377-B5C7-2CADBB5F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7043D2-EC21-4714-ACEC-96E7EA4D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CC0E2A-F055-4950-BC78-12B6C6D1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0211FB-3779-4631-8D27-7B9AE4B0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F3CB2A-C54B-4B9B-9207-68C937B9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12ADF1-2E0B-4FD5-81CD-FBDE42D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2614-AFAD-4F89-A09F-4273E0A8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F05815-E97A-4909-8A7C-CCC17C7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B83AF0-1651-4868-8BEF-259CFED0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2FD73E-1850-454B-B328-82B4224B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495076-F226-4632-A295-0CB3E557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B0372D-CD85-46CF-879E-84662530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FF3C59-D11B-42EF-8DBA-56A27F9C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E03B7A-6F35-4E54-B9B6-BE3A8A8F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3508DC-A942-46F6-947B-18CE63E6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01AE1E-C153-405B-8CAF-C567F36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F0A57C-85D0-4782-B7FB-2503D8A2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CD8-2188-4F72-9B1B-271F3C5D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46024F-5EE1-4A14-867F-5E2256EE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BDD2DD-352D-4A48-A8D2-BE727FA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AA05A0-616C-4B82-A50B-A0F642F6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CB3858-BBBC-41ED-9228-611E77BB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79E982-7A1E-4424-A7B3-96E70DFC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A27D39-6A37-4918-9767-7B256599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6994D6-76C5-4CCD-AE89-C49D96C4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C400C2-1590-4A2A-9B81-4DF30971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E1421F2-B1F2-4CDE-828C-4F811C4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E66C09-CCE7-41B4-9C6C-A6737C6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06DD-D8A7-4A7A-8923-68E7E4E6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58CDA5-6327-4CD8-8D40-24FFB95D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AA6E70-40AD-436E-A963-FA4FC3ED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FD9F7F-90E9-42C4-A05E-886ACE0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9329F9-CAD7-40EC-9E83-52A24185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CA21B9-F0D8-459D-A6A7-560BDBA2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C05DF90-FF01-4CB1-AA94-5538B7AC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A5108E-8BCE-45B5-91FD-DAC7E946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E4ADD0-850A-4639-A648-86D845CF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1846E3-FB8C-450E-8204-61C8D291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B2B274-350C-46A2-923F-9DC94A2E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BA75-3827-465D-B67C-44840375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C35DF7-2260-44A7-8C96-ACBD3C7C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E0E4EF7-30F4-43F4-B5CF-C375B2B5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C5C960E-8189-4267-95EB-0D2B1A45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B366DF-AAD8-471D-8711-1C9CCC18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7F400DF-7EEB-4C72-B7F3-DEAD9F6E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0AFC18-82C3-4364-B19C-7E681085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4066E7-ED76-4292-9673-07ABDA1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737F5F-4871-4E9A-8A0D-C8B509FD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E3695B-DE73-4587-905F-7319BA80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8354E3-7DD9-4E81-BCFF-00794825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9FE6-3B48-4069-838F-9693514E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7AFB0C-3B1D-4374-9A6A-8A3AFAEC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A04F-9D9A-4687-AC96-97E13DBD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1B5-62D7-457A-A870-372B7D3F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00A3-D2E8-47BC-82B9-E0C9CF80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397-4A51-40F0-9950-6738C4EA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28E7-7BA9-45BD-8634-BA63E35F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047C-E469-465D-8EFB-E28C1CE5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024E-2B86-4211-9FDC-50349BFA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195A3-81C2-4DEB-B73D-90BA11542A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74436E-8CE9-48DB-9557-05C31F17AF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B84494-CC77-4EB5-912C-409B617305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210D28-1609-4213-8F26-7A0E950157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00FCE-3898-4422-8907-64891D4A4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B44-818C-4BFC-BE20-C0C43E07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252A4-24DD-4596-A2EA-48062EC3A3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DCCA2-F7F9-471F-BF2F-DE51771908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BB066-34C3-4907-9A96-CDE43116EE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897CEB-AFAD-4381-B1A9-9D6F190EC4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C410F-0D46-485E-AE0B-AE8C58787B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69D3B-EE52-4037-99C1-3EEC4FF56C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BBA0C-AEE9-4F24-8831-FE964E6EAED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2D6338-2A7E-4170-B4E3-5E9E6DA0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BA7A74-EFA0-45C3-A4DF-184A76E6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50C8C-3C21-4603-B94C-03FF377A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5EB7-D33E-44E5-B167-9C492D91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17744F-2442-4819-8BBA-7B8DFDCF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CCB05C-B122-40A2-B95F-E0F98C18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9D1B0-C637-4897-9C8B-F0B36D15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37A547-5F4A-4158-AD37-9B19C444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7F6C5-6B05-4FD5-8F0A-9EB9AA5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CB689-7EC8-4303-9B0B-CB3A097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92AC8-D6BB-41BD-B59B-CB3FC08D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FBEB53-28A2-4602-AFEA-FB473318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89EA0-ABF0-421E-A8A0-0AFAFC09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8316D-C822-4FD8-BEFE-F216D8CE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06D-1DED-4BC3-9714-8CF9DFE8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1264E-D086-4738-8D85-E3D4B943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03C06E-391A-4EC0-82F7-4D160E9B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835C0-9EF4-4236-9718-627F7822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EBB33-F044-4C8B-ABA1-D0CE4971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3ABC0-9142-4FA6-8895-D231E23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12B57D-AF70-474A-9BE0-EF7A4140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596D8-CAE4-4D6C-9DB3-8F527B5E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450FF-E4A2-459D-949C-D85E5F9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A99AC-F124-42CE-A4E6-13942310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67111-CE7E-4424-A412-D237ABC0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0BC0-21F1-4986-8198-3559D7DE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199B9-8E9C-4D3F-BDA6-0A93512D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694B6-556C-44DC-9326-99AD0498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2D4CD-72C0-4E07-902C-085CBE1A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87715-6F62-436C-8D4B-8ACA4BBD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E21CD-300D-47FB-89DC-F542DD40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785C9-FE4A-40C2-82E5-7F7B286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3D616-7F67-424B-ABA3-1624C7E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6AE56-2454-4E07-90F8-E0986423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AF271-3997-4447-9938-10A283B4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6464EE-FB46-4792-AE62-3AEFE735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05A-D953-4F68-981E-FC534D69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022CD-8E8B-4D71-8F60-A679969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804656-FF2E-46FC-855D-2B6AC543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8A513-6675-4521-9157-7595237CA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27CAF8-F37E-4FDF-8953-EC241328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5BD19-63D5-4A17-AF21-D492824D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F97AE6-6158-4F6B-BE30-A0FFB871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E34308-02D2-4386-AFA4-C9541E40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8D5461-8BDC-4D4A-A45A-A96058B4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92CE89-4EA9-4065-8D52-0EBC6425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098DD-FB72-48BB-AFAE-D7AA9162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D75-AA35-4053-BEA2-4E0748D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5337A6-33F5-4AB4-95DF-C9F81A4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F63E3-5F4C-4D9C-ACB9-47405EA4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88C81F-48BC-44B0-BC62-D8C58075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7E975-5A28-44B8-9AB0-0078BB26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08004-CF31-4219-92A5-969368FE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E2EA50-EF91-4550-A3F4-837775A9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93B1E7-410E-4FBE-9F04-814504C3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27D8F-25C8-43C7-8C42-D8B7A3F2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8454D2-1DB3-4A7C-81F4-F9B67F18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59371A-9C91-478A-A085-EA69776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FA6-3317-4DE9-9138-30CBC55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57B19-98F9-4C2F-B266-A4E130AD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F957DC-F650-44FD-AD36-9C8D2369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5856B-9FC9-429B-803B-21627B56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5FEAFB-0E8B-43C4-BEA4-555767BD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0A0E6E-3B51-4579-811E-67844A38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737DDB-B8A7-4D91-B120-BC89FD51C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D9149D-4E36-43C0-BC33-E2E72DBD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90CBFA-E056-439E-B607-D4E21B89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B60A65-8F69-41A0-867B-2E420DD4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7F4F8-F71E-472B-8318-475CEC42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FE33-620E-45F6-949C-BCD764F43A5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85B2-A1DA-466B-8FB2-E37159807B4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B160-18A3-4E33-8BD1-E844ADC718DE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DAD9-DB36-41B5-A179-B892E5F061A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DB2C-9AA6-4486-9D65-34060857C2E0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430C-4D91-41C4-96AD-C92C6D607384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694-5675-46F2-95F1-0E4DEDDFDC1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40F-C939-435C-8534-D46C6E30E7C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98B-2AEF-423F-ACA6-EA5BF012CB0C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96D-074F-48DB-8366-B3F7CCB4BE22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2C66-187C-435B-A25A-284517C1BF6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7BB-D963-4A12-A16C-857226BC6C2F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82E9-2967-4350-A50F-98DCB43C9ED3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15D9-BB13-42FE-BFC6-FABDC4A84F34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2C0E-C481-4294-B839-A59BFCCA2FB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2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6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4198" TargetMode="External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image" Target="../media/image40.png"/><Relationship Id="rId5" Type="http://schemas.openxmlformats.org/officeDocument/2006/relationships/hyperlink" Target="http://www.nms.tsn.at/wettbewerb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NMS-Quest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4"/>
          <p:cNvSpPr/>
          <p:nvPr/>
        </p:nvSpPr>
        <p:spPr>
          <a:xfrm>
            <a:off x="399960" y="449280"/>
            <a:ext cx="46483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40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1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2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3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4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5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6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47" name="Grafik 2" descr=""/>
          <p:cNvPicPr/>
          <p:nvPr/>
        </p:nvPicPr>
        <p:blipFill>
          <a:blip r:embed="rId5"/>
          <a:stretch/>
        </p:blipFill>
        <p:spPr>
          <a:xfrm>
            <a:off x="512640" y="3284640"/>
            <a:ext cx="2303640" cy="1106280"/>
          </a:xfrm>
          <a:prstGeom prst="rect">
            <a:avLst/>
          </a:prstGeom>
          <a:ln w="0">
            <a:noFill/>
          </a:ln>
        </p:spPr>
      </p:pic>
      <p:pic>
        <p:nvPicPr>
          <p:cNvPr id="748" name="Grafik 3" descr=""/>
          <p:cNvPicPr/>
          <p:nvPr/>
        </p:nvPicPr>
        <p:blipFill>
          <a:blip r:embed="rId6"/>
          <a:stretch/>
        </p:blipFill>
        <p:spPr>
          <a:xfrm>
            <a:off x="539640" y="4689360"/>
            <a:ext cx="4368960" cy="700200"/>
          </a:xfrm>
          <a:prstGeom prst="rect">
            <a:avLst/>
          </a:prstGeom>
          <a:ln w="0">
            <a:noFill/>
          </a:ln>
        </p:spPr>
      </p:pic>
      <p:pic>
        <p:nvPicPr>
          <p:cNvPr id="749" name="Grafik 5" descr=""/>
          <p:cNvPicPr/>
          <p:nvPr/>
        </p:nvPicPr>
        <p:blipFill>
          <a:blip r:embed="rId7"/>
          <a:stretch/>
        </p:blipFill>
        <p:spPr>
          <a:xfrm>
            <a:off x="512640" y="5726160"/>
            <a:ext cx="1849680" cy="601560"/>
          </a:xfrm>
          <a:prstGeom prst="rect">
            <a:avLst/>
          </a:prstGeom>
          <a:ln w="0">
            <a:noFill/>
          </a:ln>
        </p:spPr>
      </p:pic>
      <p:pic>
        <p:nvPicPr>
          <p:cNvPr id="750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sp>
        <p:nvSpPr>
          <p:cNvPr id="751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52" name="Picture 19" descr=""/>
          <p:cNvPicPr/>
          <p:nvPr/>
        </p:nvPicPr>
        <p:blipFill>
          <a:blip r:embed="rId9"/>
          <a:stretch/>
        </p:blipFill>
        <p:spPr>
          <a:xfrm>
            <a:off x="539640" y="2233440"/>
            <a:ext cx="2247840" cy="76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9964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Viel Erfolg!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474747"/>
                </a:solidFill>
                <a:latin typeface="Calibri"/>
              </a:rPr>
              <a:t>Informationen zum Wettbewerb „NMS-Quest“</a:t>
            </a:r>
            <a:endParaRPr b="0" lang="en-US" sz="31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 Schule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2" name="Grafik 5" descr=""/>
          <p:cNvPicPr/>
          <p:nvPr/>
        </p:nvPicPr>
        <p:blipFill>
          <a:blip r:embed="rId2"/>
          <a:stretch/>
        </p:blipFill>
        <p:spPr>
          <a:xfrm rot="2223000">
            <a:off x="1098720" y="4437000"/>
            <a:ext cx="1904760" cy="14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5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6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/Thema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7" name="Grafik 5" descr=""/>
          <p:cNvPicPr/>
          <p:nvPr/>
        </p:nvPicPr>
        <p:blipFill>
          <a:blip r:embed="rId2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3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4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  <p:sp>
        <p:nvSpPr>
          <p:cNvPr id="690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91" name="Rechteck 2" descr=""/>
          <p:cNvPicPr/>
          <p:nvPr/>
        </p:nvPicPr>
        <p:blipFill>
          <a:blip r:embed="rId5"/>
          <a:stretch/>
        </p:blipFill>
        <p:spPr>
          <a:xfrm>
            <a:off x="1420920" y="1365120"/>
            <a:ext cx="4383000" cy="1365480"/>
          </a:xfrm>
          <a:prstGeom prst="rect">
            <a:avLst/>
          </a:prstGeom>
          <a:ln w="0">
            <a:noFill/>
          </a:ln>
        </p:spPr>
      </p:pic>
      <p:pic>
        <p:nvPicPr>
          <p:cNvPr id="692" name="Grafik 4" descr=""/>
          <p:cNvPicPr/>
          <p:nvPr/>
        </p:nvPicPr>
        <p:blipFill>
          <a:blip r:embed="rId6"/>
          <a:stretch/>
        </p:blipFill>
        <p:spPr>
          <a:xfrm>
            <a:off x="6489720" y="736560"/>
            <a:ext cx="1752480" cy="16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Telfs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5" name="Group 3"/>
          <p:cNvGrpSpPr/>
          <p:nvPr/>
        </p:nvGrpSpPr>
        <p:grpSpPr>
          <a:xfrm>
            <a:off x="6270480" y="2565360"/>
            <a:ext cx="2644920" cy="3264120"/>
            <a:chOff x="6270480" y="2565360"/>
            <a:chExt cx="2644920" cy="3264120"/>
          </a:xfrm>
        </p:grpSpPr>
        <p:sp>
          <p:nvSpPr>
            <p:cNvPr id="696" name="Rectangle 14"/>
            <p:cNvSpPr/>
            <p:nvPr/>
          </p:nvSpPr>
          <p:spPr>
            <a:xfrm>
              <a:off x="6597360" y="2565360"/>
              <a:ext cx="2318040" cy="3264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7" name="TextBox 7"/>
            <p:cNvSpPr/>
            <p:nvPr/>
          </p:nvSpPr>
          <p:spPr>
            <a:xfrm>
              <a:off x="6672960" y="2652480"/>
              <a:ext cx="2166120" cy="30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595959"/>
                  </a:solidFill>
                  <a:latin typeface="Calibri"/>
                </a:rPr>
                <a:t>Siegerklasse 1F des Wettbewerbs WebQuest@Home 2011</a:t>
              </a:r>
              <a:endParaRPr b="0" lang="en-US" sz="20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8" name="Straight Connector 18"/>
            <p:cNvSpPr/>
            <p:nvPr/>
          </p:nvSpPr>
          <p:spPr>
            <a:xfrm>
              <a:off x="6270480" y="49611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9" name="Picture 11" descr="siegerfoto_telfs_weissenbach_1"/>
          <p:cNvPicPr/>
          <p:nvPr/>
        </p:nvPicPr>
        <p:blipFill>
          <a:blip r:embed="rId3"/>
          <a:stretch/>
        </p:blipFill>
        <p:spPr>
          <a:xfrm>
            <a:off x="1531800" y="19890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Umsetzung/Präsentation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1" name="Grafik 13" descr=""/>
          <p:cNvPicPr/>
          <p:nvPr/>
        </p:nvPicPr>
        <p:blipFill>
          <a:blip r:embed="rId2"/>
          <a:stretch/>
        </p:blipFill>
        <p:spPr>
          <a:xfrm rot="20013000">
            <a:off x="7615080" y="860040"/>
            <a:ext cx="952560" cy="743040"/>
          </a:xfrm>
          <a:prstGeom prst="rect">
            <a:avLst/>
          </a:prstGeom>
          <a:ln w="0">
            <a:noFill/>
          </a:ln>
        </p:spPr>
      </p:pic>
      <p:sp>
        <p:nvSpPr>
          <p:cNvPr id="702" name="Rechteck 1"/>
          <p:cNvSpPr/>
          <p:nvPr/>
        </p:nvSpPr>
        <p:spPr>
          <a:xfrm>
            <a:off x="2200680" y="119700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alibri"/>
              </a:rPr>
              <a:t>NMS-Quest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3" name="Rechteck 4"/>
          <p:cNvSpPr/>
          <p:nvPr/>
        </p:nvSpPr>
        <p:spPr>
          <a:xfrm>
            <a:off x="1619280" y="2706840"/>
            <a:ext cx="69199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räsentation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der Schule (Bilder und Tex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Diashow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über die Schule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Videoclip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Kurzfilm, max. 3 Minuten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odcas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Jingle, Interview, Lied, Hörspie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Text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Geschichte, Ereignis …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Fotostory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 (Bildgeschicht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Schul-Quiz </a:t>
            </a: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(Quiz über eigene Schule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Zeichnung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262626"/>
                </a:solidFill>
                <a:latin typeface="Calibri"/>
              </a:rPr>
              <a:t>Plaka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262626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04" name="Rechteck 6" descr=""/>
          <p:cNvPicPr/>
          <p:nvPr/>
        </p:nvPicPr>
        <p:blipFill>
          <a:blip r:embed="rId3"/>
          <a:stretch/>
        </p:blipFill>
        <p:spPr>
          <a:xfrm>
            <a:off x="1274760" y="1365120"/>
            <a:ext cx="6637320" cy="1365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06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8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9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1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971800" y="169992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Klassen der </a:t>
            </a:r>
            <a:br>
              <a:rPr sz="4000"/>
            </a:b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Neuen Mittelschule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Moodle-Instanz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4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16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8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9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21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36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/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4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hteck 5"/>
          <p:cNvSpPr/>
          <p:nvPr/>
        </p:nvSpPr>
        <p:spPr>
          <a:xfrm>
            <a:off x="5435640" y="1562040"/>
            <a:ext cx="3097080" cy="35956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26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27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9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30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32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Tablet-PC</a:t>
            </a:r>
            <a:br>
              <a:rPr sz="3600"/>
            </a:br>
            <a:r>
              <a:rPr b="0" lang="de-AT" sz="3600" spc="-1" strike="noStrike">
                <a:solidFill>
                  <a:srgbClr val="7f7f7f"/>
                </a:solidFill>
                <a:latin typeface="Calibri"/>
              </a:rPr>
              <a:t>Kamera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Textfeld 4"/>
          <p:cNvSpPr/>
          <p:nvPr/>
        </p:nvSpPr>
        <p:spPr>
          <a:xfrm>
            <a:off x="5580000" y="1557360"/>
            <a:ext cx="302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22. Mai 2012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NMS eLearning Symposium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2-01-22T19:25:18Z</dcterms:modified>
  <cp:revision>1</cp:revision>
  <dc:subject/>
  <dc:title/>
</cp:coreProperties>
</file>