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26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40.png" ContentType="image/png"/>
  <Override PartName="/ppt/media/image32.png" ContentType="image/png"/>
  <Override PartName="/ppt/media/image33.png" ContentType="image/png"/>
  <Override PartName="/ppt/media/image14.jpeg" ContentType="image/jpeg"/>
  <Override PartName="/ppt/media/image41.png" ContentType="image/png"/>
  <Override PartName="/ppt/media/image43.jpeg" ContentType="image/jpeg"/>
  <Override PartName="/ppt/media/image45.jpeg" ContentType="image/jpeg"/>
  <Override PartName="/ppt/media/image46.png" ContentType="image/png"/>
  <Override PartName="/ppt/media/image31.png" ContentType="image/png"/>
  <Override PartName="/ppt/media/image47.jpeg" ContentType="image/jpeg"/>
  <Override PartName="/ppt/media/image36.png" ContentType="image/png"/>
  <Override PartName="/ppt/media/image48.png" ContentType="image/png"/>
  <Override PartName="/ppt/media/image37.png" ContentType="image/png"/>
  <Override PartName="/ppt/media/image44.jpeg" ContentType="image/jpeg"/>
  <Override PartName="/ppt/media/image39.png" ContentType="image/png"/>
  <Override PartName="/ppt/media/image9.png" ContentType="image/png"/>
  <Override PartName="/ppt/media/image12.jpeg" ContentType="image/jpeg"/>
  <Override PartName="/ppt/media/image34.png" ContentType="image/png"/>
  <Override PartName="/ppt/media/image49.png" ContentType="image/png"/>
  <Override PartName="/ppt/media/image30.jpeg" ContentType="image/jpeg"/>
  <Override PartName="/ppt/media/image13.jpeg" ContentType="image/jpeg"/>
  <Override PartName="/ppt/media/image23.png" ContentType="image/png"/>
  <Override PartName="/ppt/media/image8.png" ContentType="image/png"/>
  <Override PartName="/ppt/media/image38.png" ContentType="image/png"/>
  <Override PartName="/ppt/media/image6.jpeg" ContentType="image/jpeg"/>
  <Override PartName="/ppt/media/image10.jpeg" ContentType="image/jpeg"/>
  <Override PartName="/ppt/media/image28.png" ContentType="image/png"/>
  <Override PartName="/ppt/media/image7.jpeg" ContentType="image/jpeg"/>
  <Override PartName="/ppt/media/image50.png" ContentType="image/png"/>
  <Override PartName="/ppt/media/image5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dt" idx="4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 type="ftr" idx="4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 type="sldNum" idx="4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05DD7-5F1C-4BE2-9DD1-53F405F8291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iese Präsentation veranschaulicht die neuen Fähigkeiten von PowerPoint. Betrachten Sie sie am besten als Diashow. Diese Folien sollen Ihnen als Anregung zur Gestaltung eigener Präsentationen in PowerPoint 2010 dien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Weitere Beispielvorlagen können Sie anzeigen, indem Sie auf die Registerkarte Datei und dann auf der Registerkarte Neu auf Beispielvorlagen klick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AEB30-DE76-4C9D-827F-C7A13C967613}" type="slidenum">
              <a:rPr b="0" lang="de-DE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E72AF-2D31-4474-9A22-5DB004608835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498A8-0E2D-4C55-BA8C-E21224AB25C8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346CB-94AB-48FC-9469-AC3B84EE7017}" type="slidenum">
              <a:rPr b="0" lang="de-DE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51087-50CB-489A-8500-E70EDDBD56F8}" type="slidenum">
              <a:rPr b="0" lang="de-DE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E3770-DDED-4D7A-A20E-FEB136D8FBB1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FAC3E-6A54-4878-80D6-DA1626337D5C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7B00A-6D3D-49E9-A422-45A40EB9B9E2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17FE4-1B2E-46C7-9B56-D708987A3607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5ED15-5EC0-4106-BA1D-3248AF2BFAF1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9C6CF-C2A2-4813-8F9F-EB3A025039FE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D4E9-1AC6-4CF3-8016-5658B96F2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69EA-F58A-46C2-9B2B-453749753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B1C717-BFA0-4D30-BFDB-84F0B6741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5A6E31-2F2F-4182-A1D6-CFAD0E49A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C2B068-2B5D-4A86-BD56-E8A133E20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9F9665-EA36-4B55-A336-97F91136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D23297-D5F1-497E-A0AC-98DF1EE2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5A5D45-58BA-4CA0-91B2-820D6F2B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828C98-8B4F-4C80-8CAA-F553F5B13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5D8ECF-E3BF-41BA-A3CE-A345B866C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89A30E3-BBC8-4F74-A16C-ACE47C8AF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31FCB9B-4D6F-42F8-B0B5-B5BB3E218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026A-C31F-44FE-8229-4818506A1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A697FC1-D658-4B5A-AF2A-A37D06BD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7B97CEC-1CE0-464D-92A2-655703E16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FB74F75-C086-4A91-8505-95B21339B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AE968AE-6C74-4218-B9EC-AA5FF3026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79694C9-FE06-4E43-A3CD-6103F59E8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CF85E05-E80A-4F44-8BA0-FCCBBA35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03611DD-B954-46AD-B9FF-4FDE836E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F1E30E8-F7C1-4277-8260-80C70E66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8EF6BE1-5EC1-4088-B4F6-1FF4BDDD6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5013CC9-463C-474E-9553-280868CE2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26B9-110A-48F4-BE04-74E139B04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9BCD239-1A1A-4F53-A2F0-831224BD8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1ECC695-ECB5-4A03-9AAF-F11202A59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8C9F1AB-BC19-4DE8-BB85-C4EBF84E8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1050E0C-26E6-4983-9448-034541900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3E8B4C1-3497-4593-B55F-D3AEE0CC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2A11101-0544-4360-ADBD-C45A2C0FA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E1CB674-839E-45F9-B40B-7BA3DF7EA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5570DF7-6101-465F-9B68-EBF734CA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F34C8DF-EB72-484E-B821-1BA7764E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7FDFBE6-D74C-49BB-9AE0-256AF9C7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0A819-79F4-4483-B9D0-FAB62C162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53B910B-1269-4609-9678-AB86926DD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E5D3203-9A1C-4B91-AF4B-7E628D3AC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3473969-AA67-4B87-80CA-B57349390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0D8C736-7E56-4B5D-8106-3B856B6CA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70CB02C-CC31-45A4-A12C-DD772E58F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798E0F9-F7CC-40DB-AFF4-EF3C76663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499EF48-74C5-41EB-BC14-A7DFC836E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0CCC82C-F34C-46E4-A9AA-920D3B619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6E4DB62-3A84-4DA6-8AF9-1D28A7899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512378F-1D11-4AEF-916E-55A2956E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7529B-B553-4DBA-AC4A-D1A409200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C6EE0C5-AF34-4EBB-B058-4C616F6D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945C761-B0FB-4AE5-AD27-99E9153E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872348E-39E9-47F1-B325-BE4FBFCB3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B0F686A-0F84-4816-B114-E90E9086C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9DF39AD-74E5-4AAB-8050-03702BC88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CE27BEE-8078-475E-8B51-A7FC0B693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FD55200-6748-411B-B922-C01559BF0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9E9DC88-CBE8-4D0B-870B-8B10D8273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5C1FEA6-2766-4472-BE88-7AFE19F0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8ACD065-3EA3-4F9B-BBCF-F45043BCF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FE211-6A08-4FD5-9FF8-3AF3722B9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509A6D8-B897-4ACC-8EA8-64E4A2F05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1E8114C-5B6C-418D-81D8-BD5AB09F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650EF13-C4A8-4219-9A87-6927683C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B912CF4-A7DB-4FC0-A1B7-21B92B80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BB7F6A5-0726-4CEA-9B86-5792F9BC7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FEE4F14-8650-44C0-B855-727163A88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24405D7-145D-466F-B85F-FD1608713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D9E27AF-B4A8-4175-B18F-E201191F5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B11E2B5-9249-4442-8148-BEDBA0CEF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D84EABC-D7A9-4EAF-BF3A-C54EDAA0A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38CE7-A6C1-4C66-990D-B6BF195C4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CA7BE75-C3DB-420C-82CB-F4714BB97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69082D7-8B91-4B75-95B7-FDECF5691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AFB2FA9-0359-4989-A16F-DD616D82B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70FEF3D-E968-4202-9CCD-C9C6DDA3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E7DB284-B9EA-45E7-84C7-31829C7A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171C590-C3E6-4943-B807-830E8C06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62220DC-51C8-4284-9E0B-098B100EF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5777671-F5E4-45E5-BF10-A2239C74F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AB6B048-FBEF-4612-9B56-C0C3CA5C5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1BCA452-EE4A-4C69-A32F-1CC065503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855B7-40BD-4D45-9457-1FD2826A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F015DD0-95C2-4C51-81F7-D9B9D3663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2ADCBA2-FBF3-4414-9D40-7E166C991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85C6A76-1810-4F1E-8121-D3BA2D27F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C0C455B-6BD0-45A3-B87A-CBC4DBC8A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09AA31A-4002-4F6E-B951-F3AB89EC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8F007EE-D08D-4335-A6B8-F61F59D9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22EC2B9-5D69-437F-A1D1-97C2128A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6C88285-6548-4D10-AF16-54162763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3ECC19E-A7E3-4BB7-8171-FAD8142F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F698251-78F9-4A0B-ACCE-A2FB027E0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48EBD-57E4-4F25-A2B2-5FB215D8F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1F72DD8-EF2E-46F4-B6A8-FEDDA2FCB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28273-C0CD-42EC-8932-33EC8123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3F86-9A8D-491B-A4BF-D15FE9527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9DE63-E835-4227-BF16-143D6DA8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D35E2-9C89-48BB-A054-D14E9245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5C6D8-6AF0-4EE1-AE97-D08C24146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54021-3A10-435C-A8A9-80100F6C7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446C2-8854-4640-A9F0-0229DCD3D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380B51-0D58-47DA-AE6A-D8E732555EB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128620-9CC3-4F13-A15E-E4BCEB5366B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C02184-CC90-43CC-8260-A453E33BF67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BCB612-B44A-43FF-8A1A-07DDCB691CD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530972-C289-4FC5-9353-7E66DCC3B6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DEF5-B77A-4AFC-8223-EC38C067A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EACE00-F9DD-499A-A032-EE1D71888AD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93A209-6D99-4931-AEF5-2D3ACE39867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00A47F-ADBE-4D9D-8493-AF69D3B298A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8434AC-67FA-44EB-B8C7-D6228043C2E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0A59E8-4075-4BD0-AFCC-5FBD507EE59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55B0BF-C34A-4006-B923-C63C3D6BD21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7271CE-3C39-48C1-B3D2-46EADCEA9EE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5C8AD9-D5A8-4DD1-A7D7-53F016DC6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39964D-8EAE-4C69-882C-C5ECEE03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2F4797-5C01-4329-9050-C014B9918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75D4-CEFA-42C8-953E-EE0CFDB5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2E3185-00F0-462C-9817-C8DE73D99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B4AFF2-3CAE-490A-82CB-3081E87F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EF51D5-18E3-4991-8EA4-2C2CB645B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F00905-FBF1-4A22-95D4-B2668FB5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772E31-4B25-4638-81E0-633F658C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8334C2-B6B2-4980-B7AC-218E53AF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419A56-9A75-42D5-9D15-D044785BE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104AD6-6B95-412A-B436-250ABBEF8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7C86F8-F8FA-4199-AEED-91C384C6E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504BF6-93DA-4AC0-97A6-3C285B277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5BFD-F9BD-4FEC-8194-C7E58C992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AE1A3D-32AC-46D0-A367-4B5A4595E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864E6E-9426-4EBD-BF5B-6A23BC11A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655806-0CCC-4783-AB0B-CB3BDADCD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6DE7D5-CE53-4E04-828A-D1B930D38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FFDA9E-0F10-4CE3-B3AF-2347A86FE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83C433-3044-4B37-9BD9-E4810687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8E7F67-F1D3-4AE1-9F59-0E33AEE9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73AEE4-62C1-408B-BA09-514B12BB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4570F8-ABC8-4463-9933-5ADE6AA8E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643A56-4050-4B9F-BB7C-046B8DF4A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1FD6-6277-4693-B784-32DBDF8CA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63C75C-F7C8-4DF0-9CF5-A625904D5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F7F5BE-F17D-4A0E-8818-5A1B1C37C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A4B11F-E9C5-47EF-8A93-90E52D385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508623-AC36-4FD4-8259-8D367FA3F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065380-3936-4F6B-A6AF-BD1C40B9E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279A34-6AA6-4B2A-AF8F-E793F44AA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7A6554-5407-4D6E-BD22-15D93EC60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B1A391-28C0-4560-BF10-376765CF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3C6DDA-5AC7-4F26-8D26-1D106B4F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06E309-005D-4666-AD4D-BB2DB4CA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2723-8E00-47D4-9BD3-D6663957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A5920F-AE46-47CB-B183-64846ED74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826F47-8073-48FC-8591-AC38AD446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129392-07CA-4C3C-BE35-84F05A67F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B514CC-FEC4-45A7-A314-9F3169438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0961F6-075D-44A7-89E4-372BBEB7D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DC8AFE-77D8-40E8-944C-F8D9EE239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BB3226-14D9-420C-BE29-35872703A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5F4315-DF12-4DF0-8EA4-99F200845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05F010-481C-42FF-B043-FBF5CA22E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13B53E-B546-41E2-9443-2E962F5A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52AD-79DC-4577-A0EE-5D099E31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7FCBD0-D350-40DC-B358-7E7A23EE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BB17BD-402A-4BDD-A05F-6B7802FD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22FFE5-45B4-4515-A2CA-3A52C397B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B67D75-780E-4A37-A5DC-C7F28A583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59D0B6-361B-468E-9FF1-7F7E245AB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D8A538-2348-44D5-BC5D-2AF730B50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BE8646-B782-4C51-AD81-7EC46CD24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9DC02F-DF33-4CCB-A66F-C55ED8629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544508-697F-4786-9C51-5AB70D0D2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8B828D-8608-4CDD-9487-BFC2C736F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2B0F-401B-4776-A282-8754958E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C222E4-ABA0-4016-9430-D8ABDAD0F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366E84-1636-4D7E-A703-66F65FAD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8C9138-AFF9-4969-9C71-04C0B628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FE43C5-043F-4B31-AD8E-FF3D136A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95FB51-320F-4B5B-923F-6BD1EBFB7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0779EC-5BD7-4383-9327-E6655F12E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ADF55E-540E-4312-A34A-9596F8285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C2AFB2-DC65-4C5D-B70E-1059B5B61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8F7A48-22E8-40BD-B6DC-AD8B6941A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36ACA5-D92A-4C2F-9362-ED03D9B31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0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D38B9-AB38-4488-B279-08F4874C385B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59E3C-17A6-43C1-93B7-895723CC8561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5"/>
          <p:cNvSpPr/>
          <p:nvPr/>
        </p:nvSpPr>
        <p:spPr>
          <a:xfrm>
            <a:off x="595440" y="4800600"/>
            <a:ext cx="4873320" cy="685800"/>
          </a:xfrm>
          <a:prstGeom prst="rect">
            <a:avLst/>
          </a:prstGeom>
          <a:solidFill>
            <a:srgbClr val="313131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4B7AA-B06A-4C6B-B271-03868965CEF5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1792440" y="4800600"/>
            <a:ext cx="5500440" cy="685800"/>
          </a:xfrm>
          <a:prstGeom prst="rect">
            <a:avLst/>
          </a:prstGeom>
          <a:solidFill>
            <a:srgbClr val="313131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D3F9F-04A1-48D8-925B-FBF20B54A238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BFF38-901B-4570-BC54-7513A7685DA1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1B140-392A-4F5A-BAE9-4714594961C6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4" descr=""/>
          <p:cNvPicPr/>
          <p:nvPr/>
        </p:nvPicPr>
        <p:blipFill>
          <a:blip r:embed="rId2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dt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sldNum" idx="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6E690-613B-4991-87C3-18E3E84B712D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20520" y="20520"/>
            <a:ext cx="3498840" cy="2826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3503520" y="20520"/>
            <a:ext cx="5624640" cy="2826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4"/>
          <a:stretch/>
        </p:blipFill>
        <p:spPr>
          <a:xfrm>
            <a:off x="20520" y="2817720"/>
            <a:ext cx="7669440" cy="2297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"/>
          <p:cNvPicPr/>
          <p:nvPr/>
        </p:nvPicPr>
        <p:blipFill>
          <a:blip r:embed="rId5"/>
          <a:stretch/>
        </p:blipFill>
        <p:spPr>
          <a:xfrm>
            <a:off x="7662960" y="2819520"/>
            <a:ext cx="1460520" cy="2293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"/>
          <p:cNvPicPr/>
          <p:nvPr/>
        </p:nvPicPr>
        <p:blipFill>
          <a:blip r:embed="rId6"/>
          <a:stretch/>
        </p:blipFill>
        <p:spPr>
          <a:xfrm>
            <a:off x="20520" y="5089680"/>
            <a:ext cx="9097920" cy="17380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3"/>
          <p:cNvSpPr/>
          <p:nvPr/>
        </p:nvSpPr>
        <p:spPr>
          <a:xfrm>
            <a:off x="8755200" y="2470320"/>
            <a:ext cx="304560" cy="152280"/>
          </a:xfrm>
          <a:prstGeom prst="rect">
            <a:avLst/>
          </a:prstGeom>
          <a:solidFill>
            <a:srgbClr val="f27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5E78-AA9B-444B-A911-5083087FE3AF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Oval 6"/>
          <p:cNvGrpSpPr/>
          <p:nvPr/>
        </p:nvGrpSpPr>
        <p:grpSpPr>
          <a:xfrm>
            <a:off x="706320" y="1944720"/>
            <a:ext cx="2170080" cy="2773440"/>
            <a:chOff x="706320" y="1944720"/>
            <a:chExt cx="2170080" cy="2773440"/>
          </a:xfrm>
        </p:grpSpPr>
        <p:pic>
          <p:nvPicPr>
            <p:cNvPr id="90" name="Oval 6" descr=""/>
            <p:cNvPicPr/>
            <p:nvPr/>
          </p:nvPicPr>
          <p:blipFill>
            <a:blip r:embed="rId3"/>
            <a:stretch/>
          </p:blipFill>
          <p:spPr>
            <a:xfrm>
              <a:off x="706320" y="1944720"/>
              <a:ext cx="2170080" cy="277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92" name="Rectangle 7"/>
          <p:cNvSpPr/>
          <p:nvPr/>
        </p:nvSpPr>
        <p:spPr>
          <a:xfrm>
            <a:off x="8686800" y="5265720"/>
            <a:ext cx="457200" cy="96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93" name="Oval 8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94" name="Oval 8" descr=""/>
            <p:cNvPicPr/>
            <p:nvPr/>
          </p:nvPicPr>
          <p:blipFill>
            <a:blip r:embed="rId4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049AA-8F78-4284-96B0-F55D8DE8608E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6" descr=""/>
          <p:cNvPicPr/>
          <p:nvPr/>
        </p:nvPicPr>
        <p:blipFill>
          <a:blip r:embed="rId3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8E276-7262-4E4A-A5D9-483DD062366A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6" descr=""/>
          <p:cNvPicPr/>
          <p:nvPr/>
        </p:nvPicPr>
        <p:blipFill>
          <a:blip r:embed="rId3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01A81-7775-4D73-A148-7B85B82595FA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579C6-77D8-4C67-A7F2-7F3D396981CC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5" descr=""/>
          <p:cNvPicPr/>
          <p:nvPr/>
        </p:nvPicPr>
        <p:blipFill>
          <a:blip r:embed="rId3"/>
          <a:stretch/>
        </p:blipFill>
        <p:spPr>
          <a:xfrm>
            <a:off x="0" y="762120"/>
            <a:ext cx="2444760" cy="228600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60D12-0562-48F4-96FE-8AB8810CB3E1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C973A-C90F-4532-B879-8AEBE574F62B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Rectangle 6"/>
          <p:cNvGrpSpPr/>
          <p:nvPr/>
        </p:nvGrpSpPr>
        <p:grpSpPr>
          <a:xfrm>
            <a:off x="0" y="2895480"/>
            <a:ext cx="7547040" cy="2133720"/>
            <a:chOff x="0" y="2895480"/>
            <a:chExt cx="7547040" cy="2133720"/>
          </a:xfrm>
        </p:grpSpPr>
        <p:pic>
          <p:nvPicPr>
            <p:cNvPr id="34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2895480"/>
              <a:ext cx="754704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0" y="2895480"/>
              <a:ext cx="754380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AEA30-AD9B-4FB4-B159-03145494D406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png"/><Relationship Id="rId6" Type="http://schemas.openxmlformats.org/officeDocument/2006/relationships/image" Target="../media/image47.jpe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slideLayout" Target="../slideLayouts/slideLayout169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4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169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2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69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s://portal.tirol.gv.at/moodle/course/view.php?id=4198" TargetMode="External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2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7.png"/><Relationship Id="rId3" Type="http://schemas.openxmlformats.org/officeDocument/2006/relationships/image" Target="../media/image9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9.png"/><Relationship Id="rId3" Type="http://schemas.openxmlformats.org/officeDocument/2006/relationships/image" Target="../media/image9.png"/><Relationship Id="rId4" Type="http://schemas.openxmlformats.org/officeDocument/2006/relationships/image" Target="../media/image40.png"/><Relationship Id="rId5" Type="http://schemas.openxmlformats.org/officeDocument/2006/relationships/hyperlink" Target="http://www.nms.tsn.at/wettbewerb" TargetMode="External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/>
          </p:nvPr>
        </p:nvSpPr>
        <p:spPr>
          <a:xfrm>
            <a:off x="3733920" y="1315800"/>
            <a:ext cx="4952880" cy="141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c5c5c"/>
                </a:solidFill>
                <a:latin typeface="Calibri"/>
              </a:rPr>
              <a:t>eLearning-Wettbewerb</a:t>
            </a: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title"/>
          </p:nvPr>
        </p:nvSpPr>
        <p:spPr>
          <a:xfrm>
            <a:off x="228240" y="3048120"/>
            <a:ext cx="751212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de-DE" sz="5600" spc="-1" strike="noStrike">
                <a:solidFill>
                  <a:srgbClr val="ffffff"/>
                </a:solidFill>
                <a:latin typeface="Arial"/>
                <a:ea typeface="Arial"/>
              </a:rPr>
              <a:t>NMS-Quest</a:t>
            </a:r>
            <a:endParaRPr b="0" lang="en-US" sz="56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46" name="Grafik 1" descr=""/>
          <p:cNvPicPr/>
          <p:nvPr/>
        </p:nvPicPr>
        <p:blipFill>
          <a:blip r:embed="rId1"/>
          <a:stretch/>
        </p:blipFill>
        <p:spPr>
          <a:xfrm>
            <a:off x="3132000" y="5191200"/>
            <a:ext cx="1905120" cy="148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TextBox 4"/>
          <p:cNvSpPr/>
          <p:nvPr/>
        </p:nvSpPr>
        <p:spPr>
          <a:xfrm>
            <a:off x="399960" y="449280"/>
            <a:ext cx="4648320" cy="16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7bcf27"/>
                </a:solidFill>
                <a:latin typeface="Calibri"/>
              </a:rPr>
              <a:t>Zusammenarbei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37" name="Picture 11" descr=""/>
          <p:cNvPicPr/>
          <p:nvPr/>
        </p:nvPicPr>
        <p:blipFill>
          <a:blip r:embed="rId2"/>
          <a:stretch/>
        </p:blipFill>
        <p:spPr>
          <a:xfrm rot="198000">
            <a:off x="8012160" y="2846520"/>
            <a:ext cx="1031760" cy="228276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15" descr=""/>
          <p:cNvPicPr/>
          <p:nvPr/>
        </p:nvPicPr>
        <p:blipFill>
          <a:blip r:embed="rId3"/>
          <a:stretch/>
        </p:blipFill>
        <p:spPr>
          <a:xfrm>
            <a:off x="7416720" y="268200"/>
            <a:ext cx="1584360" cy="243864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17" descr=""/>
          <p:cNvPicPr/>
          <p:nvPr/>
        </p:nvPicPr>
        <p:blipFill>
          <a:blip r:embed="rId4"/>
          <a:stretch/>
        </p:blipFill>
        <p:spPr>
          <a:xfrm>
            <a:off x="6110280" y="357120"/>
            <a:ext cx="828720" cy="2133720"/>
          </a:xfrm>
          <a:prstGeom prst="rect">
            <a:avLst/>
          </a:prstGeom>
          <a:ln w="0">
            <a:noFill/>
          </a:ln>
        </p:spPr>
      </p:pic>
      <p:sp>
        <p:nvSpPr>
          <p:cNvPr id="740" name="Left-Right Arrow 18"/>
          <p:cNvSpPr/>
          <p:nvPr/>
        </p:nvSpPr>
        <p:spPr>
          <a:xfrm rot="5400000">
            <a:off x="6208560" y="2544480"/>
            <a:ext cx="685800" cy="425520"/>
          </a:xfrm>
          <a:prstGeom prst="leftRightArrow">
            <a:avLst>
              <a:gd name="adj1" fmla="val 50000"/>
              <a:gd name="adj2" fmla="val 49991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1" name="Left-Right Arrow 19"/>
          <p:cNvSpPr/>
          <p:nvPr/>
        </p:nvSpPr>
        <p:spPr>
          <a:xfrm rot="10800000">
            <a:off x="7486200" y="3868560"/>
            <a:ext cx="685800" cy="425520"/>
          </a:xfrm>
          <a:prstGeom prst="leftRightArrow">
            <a:avLst>
              <a:gd name="adj1" fmla="val 50000"/>
              <a:gd name="adj2" fmla="val 49991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2" name="Left-Right Arrow 20"/>
          <p:cNvSpPr/>
          <p:nvPr/>
        </p:nvSpPr>
        <p:spPr>
          <a:xfrm rot="7846800">
            <a:off x="7096680" y="2788200"/>
            <a:ext cx="820440" cy="425160"/>
          </a:xfrm>
          <a:prstGeom prst="leftRightArrow">
            <a:avLst>
              <a:gd name="adj1" fmla="val 50000"/>
              <a:gd name="adj2" fmla="val 50012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3" name="Oval 21"/>
          <p:cNvSpPr/>
          <p:nvPr/>
        </p:nvSpPr>
        <p:spPr>
          <a:xfrm>
            <a:off x="6462720" y="2490840"/>
            <a:ext cx="182520" cy="182520"/>
          </a:xfrm>
          <a:prstGeom prst="ellipse">
            <a:avLst/>
          </a:prstGeom>
          <a:solidFill>
            <a:srgbClr val="f48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4" name="Oval 22"/>
          <p:cNvSpPr/>
          <p:nvPr/>
        </p:nvSpPr>
        <p:spPr>
          <a:xfrm>
            <a:off x="6488280" y="3994200"/>
            <a:ext cx="182520" cy="183960"/>
          </a:xfrm>
          <a:prstGeom prst="ellipse">
            <a:avLst/>
          </a:prstGeom>
          <a:solidFill>
            <a:srgbClr val="f48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5" name="Oval 23"/>
          <p:cNvSpPr/>
          <p:nvPr/>
        </p:nvSpPr>
        <p:spPr>
          <a:xfrm>
            <a:off x="6488280" y="3994200"/>
            <a:ext cx="182520" cy="182520"/>
          </a:xfrm>
          <a:prstGeom prst="ellipse">
            <a:avLst/>
          </a:prstGeom>
          <a:solidFill>
            <a:srgbClr val="f48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6" name="Oval 24"/>
          <p:cNvSpPr/>
          <p:nvPr/>
        </p:nvSpPr>
        <p:spPr>
          <a:xfrm>
            <a:off x="7916760" y="3994200"/>
            <a:ext cx="184320" cy="183960"/>
          </a:xfrm>
          <a:prstGeom prst="ellipse">
            <a:avLst/>
          </a:prstGeom>
          <a:solidFill>
            <a:srgbClr val="7bc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47" name="Grafik 2" descr=""/>
          <p:cNvPicPr/>
          <p:nvPr/>
        </p:nvPicPr>
        <p:blipFill>
          <a:blip r:embed="rId5"/>
          <a:stretch/>
        </p:blipFill>
        <p:spPr>
          <a:xfrm>
            <a:off x="512640" y="3284640"/>
            <a:ext cx="2303640" cy="1106280"/>
          </a:xfrm>
          <a:prstGeom prst="rect">
            <a:avLst/>
          </a:prstGeom>
          <a:ln w="0">
            <a:noFill/>
          </a:ln>
        </p:spPr>
      </p:pic>
      <p:pic>
        <p:nvPicPr>
          <p:cNvPr id="748" name="Grafik 3" descr=""/>
          <p:cNvPicPr/>
          <p:nvPr/>
        </p:nvPicPr>
        <p:blipFill>
          <a:blip r:embed="rId6"/>
          <a:stretch/>
        </p:blipFill>
        <p:spPr>
          <a:xfrm>
            <a:off x="539640" y="4689360"/>
            <a:ext cx="4368960" cy="700200"/>
          </a:xfrm>
          <a:prstGeom prst="rect">
            <a:avLst/>
          </a:prstGeom>
          <a:ln w="0">
            <a:noFill/>
          </a:ln>
        </p:spPr>
      </p:pic>
      <p:pic>
        <p:nvPicPr>
          <p:cNvPr id="749" name="Grafik 5" descr=""/>
          <p:cNvPicPr/>
          <p:nvPr/>
        </p:nvPicPr>
        <p:blipFill>
          <a:blip r:embed="rId7"/>
          <a:stretch/>
        </p:blipFill>
        <p:spPr>
          <a:xfrm>
            <a:off x="512640" y="5726160"/>
            <a:ext cx="1849680" cy="601560"/>
          </a:xfrm>
          <a:prstGeom prst="rect">
            <a:avLst/>
          </a:prstGeom>
          <a:ln w="0">
            <a:noFill/>
          </a:ln>
        </p:spPr>
      </p:pic>
      <p:pic>
        <p:nvPicPr>
          <p:cNvPr id="750" name="Grafik 27" descr=""/>
          <p:cNvPicPr/>
          <p:nvPr/>
        </p:nvPicPr>
        <p:blipFill>
          <a:blip r:embed="rId8"/>
          <a:stretch/>
        </p:blipFill>
        <p:spPr>
          <a:xfrm>
            <a:off x="6829560" y="5732640"/>
            <a:ext cx="1117440" cy="871200"/>
          </a:xfrm>
          <a:prstGeom prst="rect">
            <a:avLst/>
          </a:prstGeom>
          <a:ln w="0">
            <a:noFill/>
          </a:ln>
        </p:spPr>
      </p:pic>
      <p:sp>
        <p:nvSpPr>
          <p:cNvPr id="751" name="Oval 24"/>
          <p:cNvSpPr/>
          <p:nvPr/>
        </p:nvSpPr>
        <p:spPr>
          <a:xfrm>
            <a:off x="7586640" y="2709720"/>
            <a:ext cx="182520" cy="1828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52" name="Picture 19" descr=""/>
          <p:cNvPicPr/>
          <p:nvPr/>
        </p:nvPicPr>
        <p:blipFill>
          <a:blip r:embed="rId9"/>
          <a:stretch/>
        </p:blipFill>
        <p:spPr>
          <a:xfrm>
            <a:off x="539640" y="2233440"/>
            <a:ext cx="2247840" cy="768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5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5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023 L 0.00278 0.22037 E">
                                      <p:cBhvr>
                                        <p:cTn id="36" dur="1500" fill="hold"/>
                                        <p:tgtEl>
                                          <p:spTgt spid="7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evt="end">
                                        <p:tn val="35"/>
                                      </p:cond>
                                    </p:stCondLst>
                                  </p:cTn>
                                  <p:tgtEl>
                                    <p:spTgt spid="7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13889 -1.11111E-006 E">
                                      <p:cBhvr>
                                        <p:cTn id="47" dur="1500" fill="hold"/>
                                        <p:tgtEl>
                                          <p:spTgt spid="7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11788 -0.18403 E">
                                      <p:cBhvr>
                                        <p:cTn id="49" dur="1500" fill="hold"/>
                                        <p:tgtEl>
                                          <p:spTgt spid="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25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5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82786E-006 L -0.13664 0.00046 E">
                                      <p:cBhvr>
                                        <p:cTn id="62" dur="1500" fill="hold"/>
                                        <p:tgtEl>
                                          <p:spTgt spid="7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evt="end">
                                        <p:tn val="61"/>
                                      </p:cond>
                                    </p:stCondLst>
                                  </p:cTn>
                                  <p:tgtEl>
                                    <p:spTgt spid="7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5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82786E-006 L -0.13664 0.00046 E">
                                      <p:cBhvr>
                                        <p:cTn id="73" dur="1500" fill="hold"/>
                                        <p:tgtEl>
                                          <p:spTgt spid="7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74" dur="1" fill="hold">
                                    <p:stCondLst>
                                      <p:cond evt="end">
                                        <p:tn val="72"/>
                                      </p:cond>
                                    </p:stCondLst>
                                  </p:cTn>
                                  <p:tgtEl>
                                    <p:spTgt spid="7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Picture 4" descr=""/>
          <p:cNvPicPr/>
          <p:nvPr/>
        </p:nvPicPr>
        <p:blipFill>
          <a:blip r:embed="rId2"/>
          <a:stretch/>
        </p:blipFill>
        <p:spPr>
          <a:xfrm>
            <a:off x="0" y="762120"/>
            <a:ext cx="2444760" cy="2286000"/>
          </a:xfrm>
          <a:prstGeom prst="rect">
            <a:avLst/>
          </a:prstGeom>
          <a:ln w="0">
            <a:noFill/>
          </a:ln>
        </p:spPr>
      </p:pic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899640" y="2670120"/>
            <a:ext cx="7543800" cy="120024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800" spc="-1" strike="noStrike">
                <a:solidFill>
                  <a:srgbClr val="262626"/>
                </a:solidFill>
                <a:latin typeface="Calibri"/>
              </a:rPr>
              <a:t>Viel Erfolg!</a:t>
            </a:r>
            <a:endParaRPr b="0" lang="en-US" sz="7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blinds dir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Box 1"/>
          <p:cNvSpPr/>
          <p:nvPr/>
        </p:nvSpPr>
        <p:spPr>
          <a:xfrm>
            <a:off x="609480" y="380880"/>
            <a:ext cx="811548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100" spc="-1" strike="noStrike">
                <a:solidFill>
                  <a:srgbClr val="474747"/>
                </a:solidFill>
                <a:latin typeface="Calibri"/>
              </a:rPr>
              <a:t>Informationen zum Wettbewerb „NMS-Quest“</a:t>
            </a:r>
            <a:endParaRPr b="0" lang="en-US" sz="31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8" name="Straight Connector 9"/>
          <p:cNvSpPr/>
          <p:nvPr/>
        </p:nvSpPr>
        <p:spPr>
          <a:xfrm>
            <a:off x="1905120" y="2936880"/>
            <a:ext cx="5257800" cy="1440"/>
          </a:xfrm>
          <a:prstGeom prst="line">
            <a:avLst/>
          </a:prstGeom>
          <a:ln w="47520">
            <a:solidFill>
              <a:srgbClr val="e4e4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9" name="TextBox 10"/>
          <p:cNvSpPr/>
          <p:nvPr/>
        </p:nvSpPr>
        <p:spPr>
          <a:xfrm>
            <a:off x="750960" y="5127480"/>
            <a:ext cx="79740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5c5c5c"/>
                </a:solidFill>
                <a:latin typeface="Calibri"/>
              </a:rPr>
              <a:t>Spurensuche im Internet 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0" name="Rectangle 11"/>
          <p:cNvSpPr/>
          <p:nvPr/>
        </p:nvSpPr>
        <p:spPr>
          <a:xfrm>
            <a:off x="8686800" y="5284800"/>
            <a:ext cx="457200" cy="96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651" name="Group 25"/>
          <p:cNvGrpSpPr/>
          <p:nvPr/>
        </p:nvGrpSpPr>
        <p:grpSpPr>
          <a:xfrm>
            <a:off x="762120" y="1557360"/>
            <a:ext cx="2057400" cy="2708280"/>
            <a:chOff x="762120" y="1557360"/>
            <a:chExt cx="2057400" cy="2708280"/>
          </a:xfrm>
        </p:grpSpPr>
        <p:grpSp>
          <p:nvGrpSpPr>
            <p:cNvPr id="652" name="Oval 5"/>
            <p:cNvGrpSpPr/>
            <p:nvPr/>
          </p:nvGrpSpPr>
          <p:grpSpPr>
            <a:xfrm>
              <a:off x="1204200" y="2150640"/>
              <a:ext cx="1210680" cy="1656360"/>
              <a:chOff x="1204200" y="2150640"/>
              <a:chExt cx="1210680" cy="1656360"/>
            </a:xfrm>
          </p:grpSpPr>
          <p:pic>
            <p:nvPicPr>
              <p:cNvPr id="653" name="Oval 5" descr=""/>
              <p:cNvPicPr/>
              <p:nvPr/>
            </p:nvPicPr>
            <p:blipFill>
              <a:blip r:embed="rId1"/>
              <a:stretch/>
            </p:blipFill>
            <p:spPr>
              <a:xfrm>
                <a:off x="1204200" y="2150640"/>
                <a:ext cx="1210680" cy="165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4" name=""/>
              <p:cNvSpPr/>
              <p:nvPr/>
            </p:nvSpPr>
            <p:spPr>
              <a:xfrm>
                <a:off x="1402920" y="2331360"/>
                <a:ext cx="811800" cy="86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pic>
          <p:nvPicPr>
            <p:cNvPr id="655" name="TextBox 13" descr=""/>
            <p:cNvPicPr/>
            <p:nvPr/>
          </p:nvPicPr>
          <p:blipFill>
            <a:blip r:embed="rId2"/>
            <a:stretch/>
          </p:blipFill>
          <p:spPr>
            <a:xfrm>
              <a:off x="762120" y="1557360"/>
              <a:ext cx="2057400" cy="270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6" name="Oval 18"/>
            <p:cNvGrpSpPr/>
            <p:nvPr/>
          </p:nvGrpSpPr>
          <p:grpSpPr>
            <a:xfrm>
              <a:off x="1367280" y="2165040"/>
              <a:ext cx="884160" cy="775440"/>
              <a:chOff x="1367280" y="2165040"/>
              <a:chExt cx="884160" cy="775440"/>
            </a:xfrm>
          </p:grpSpPr>
          <p:pic>
            <p:nvPicPr>
              <p:cNvPr id="657" name="Oval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1367280" y="2165040"/>
                <a:ext cx="884160" cy="77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8" name=""/>
              <p:cNvSpPr/>
              <p:nvPr/>
            </p:nvSpPr>
            <p:spPr>
              <a:xfrm>
                <a:off x="1496160" y="2278440"/>
                <a:ext cx="624600" cy="54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sp>
          <p:nvSpPr>
            <p:cNvPr id="659" name="TextBox 12"/>
            <p:cNvSpPr/>
            <p:nvPr/>
          </p:nvSpPr>
          <p:spPr>
            <a:xfrm>
              <a:off x="1269360" y="2581920"/>
              <a:ext cx="1076760" cy="40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000" spc="-1" strike="noStrike">
                  <a:solidFill>
                    <a:srgbClr val="ffffff"/>
                  </a:solidFill>
                  <a:latin typeface="Calibri"/>
                </a:rPr>
                <a:t>Was?</a:t>
              </a:r>
              <a:endParaRPr b="0" lang="en-US" sz="40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660" name="Group 22"/>
          <p:cNvGrpSpPr/>
          <p:nvPr/>
        </p:nvGrpSpPr>
        <p:grpSpPr>
          <a:xfrm>
            <a:off x="3602160" y="1592280"/>
            <a:ext cx="2057400" cy="2708280"/>
            <a:chOff x="3602160" y="1592280"/>
            <a:chExt cx="2057400" cy="2708280"/>
          </a:xfrm>
        </p:grpSpPr>
        <p:grpSp>
          <p:nvGrpSpPr>
            <p:cNvPr id="661" name="Oval 3"/>
            <p:cNvGrpSpPr/>
            <p:nvPr/>
          </p:nvGrpSpPr>
          <p:grpSpPr>
            <a:xfrm>
              <a:off x="4044240" y="2163600"/>
              <a:ext cx="1173240" cy="1641600"/>
              <a:chOff x="4044240" y="2163600"/>
              <a:chExt cx="1173240" cy="1641600"/>
            </a:xfrm>
          </p:grpSpPr>
          <p:pic>
            <p:nvPicPr>
              <p:cNvPr id="662" name="Oval 3" descr=""/>
              <p:cNvPicPr/>
              <p:nvPr/>
            </p:nvPicPr>
            <p:blipFill>
              <a:blip r:embed="rId4"/>
              <a:stretch/>
            </p:blipFill>
            <p:spPr>
              <a:xfrm>
                <a:off x="4044240" y="2163600"/>
                <a:ext cx="1173240" cy="164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3" name=""/>
              <p:cNvSpPr/>
              <p:nvPr/>
            </p:nvSpPr>
            <p:spPr>
              <a:xfrm>
                <a:off x="4225320" y="2344320"/>
                <a:ext cx="811800" cy="86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pic>
          <p:nvPicPr>
            <p:cNvPr id="664" name="TextBox 14" descr=""/>
            <p:cNvPicPr/>
            <p:nvPr/>
          </p:nvPicPr>
          <p:blipFill>
            <a:blip r:embed="rId5"/>
            <a:stretch/>
          </p:blipFill>
          <p:spPr>
            <a:xfrm>
              <a:off x="3602160" y="1592280"/>
              <a:ext cx="2057400" cy="270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5" name="Oval 19"/>
            <p:cNvGrpSpPr/>
            <p:nvPr/>
          </p:nvGrpSpPr>
          <p:grpSpPr>
            <a:xfrm>
              <a:off x="4190400" y="2178360"/>
              <a:ext cx="884160" cy="775440"/>
              <a:chOff x="4190400" y="2178360"/>
              <a:chExt cx="884160" cy="775440"/>
            </a:xfrm>
          </p:grpSpPr>
          <p:pic>
            <p:nvPicPr>
              <p:cNvPr id="666" name="Oval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4190400" y="2178360"/>
                <a:ext cx="884160" cy="77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>
                <a:off x="4318920" y="2292120"/>
                <a:ext cx="624600" cy="54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sp>
          <p:nvSpPr>
            <p:cNvPr id="668" name="TextBox 15"/>
            <p:cNvSpPr/>
            <p:nvPr/>
          </p:nvSpPr>
          <p:spPr>
            <a:xfrm>
              <a:off x="4089960" y="2616120"/>
              <a:ext cx="10767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000" spc="-1" strike="noStrike">
                  <a:solidFill>
                    <a:srgbClr val="ffffff"/>
                  </a:solidFill>
                  <a:latin typeface="Calibri"/>
                </a:rPr>
                <a:t>Wer?</a:t>
              </a:r>
              <a:endParaRPr b="0" lang="en-US" sz="40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669" name="Group 23"/>
          <p:cNvGrpSpPr/>
          <p:nvPr/>
        </p:nvGrpSpPr>
        <p:grpSpPr>
          <a:xfrm>
            <a:off x="6324480" y="1587600"/>
            <a:ext cx="2057400" cy="2708280"/>
            <a:chOff x="6324480" y="1587600"/>
            <a:chExt cx="2057400" cy="2708280"/>
          </a:xfrm>
        </p:grpSpPr>
        <p:grpSp>
          <p:nvGrpSpPr>
            <p:cNvPr id="670" name="Oval 4"/>
            <p:cNvGrpSpPr/>
            <p:nvPr/>
          </p:nvGrpSpPr>
          <p:grpSpPr>
            <a:xfrm>
              <a:off x="6746040" y="2166120"/>
              <a:ext cx="1207440" cy="1656360"/>
              <a:chOff x="6746040" y="2166120"/>
              <a:chExt cx="1207440" cy="1656360"/>
            </a:xfrm>
          </p:grpSpPr>
          <p:pic>
            <p:nvPicPr>
              <p:cNvPr id="671" name="Oval 4" descr=""/>
              <p:cNvPicPr/>
              <p:nvPr/>
            </p:nvPicPr>
            <p:blipFill>
              <a:blip r:embed="rId7"/>
              <a:stretch/>
            </p:blipFill>
            <p:spPr>
              <a:xfrm>
                <a:off x="6746040" y="2166120"/>
                <a:ext cx="1207440" cy="165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2" name=""/>
              <p:cNvSpPr/>
              <p:nvPr/>
            </p:nvSpPr>
            <p:spPr>
              <a:xfrm>
                <a:off x="6942960" y="2347560"/>
                <a:ext cx="811800" cy="86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pic>
          <p:nvPicPr>
            <p:cNvPr id="673" name="TextBox 16" descr=""/>
            <p:cNvPicPr/>
            <p:nvPr/>
          </p:nvPicPr>
          <p:blipFill>
            <a:blip r:embed="rId8"/>
            <a:stretch/>
          </p:blipFill>
          <p:spPr>
            <a:xfrm>
              <a:off x="6324480" y="1587600"/>
              <a:ext cx="2057400" cy="270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4" name="Oval 20"/>
            <p:cNvGrpSpPr/>
            <p:nvPr/>
          </p:nvGrpSpPr>
          <p:grpSpPr>
            <a:xfrm>
              <a:off x="6922800" y="2188080"/>
              <a:ext cx="884160" cy="775440"/>
              <a:chOff x="6922800" y="2188080"/>
              <a:chExt cx="884160" cy="775440"/>
            </a:xfrm>
          </p:grpSpPr>
          <p:pic>
            <p:nvPicPr>
              <p:cNvPr id="675" name="Oval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6922800" y="2188080"/>
                <a:ext cx="884160" cy="77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6" name=""/>
              <p:cNvSpPr/>
              <p:nvPr/>
            </p:nvSpPr>
            <p:spPr>
              <a:xfrm>
                <a:off x="7051680" y="2302560"/>
                <a:ext cx="624600" cy="54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sp>
          <p:nvSpPr>
            <p:cNvPr id="677" name="TextBox 17"/>
            <p:cNvSpPr/>
            <p:nvPr/>
          </p:nvSpPr>
          <p:spPr>
            <a:xfrm>
              <a:off x="6823800" y="2598840"/>
              <a:ext cx="10767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000" spc="-1" strike="noStrike">
                  <a:solidFill>
                    <a:srgbClr val="ffffff"/>
                  </a:solidFill>
                  <a:latin typeface="Calibri"/>
                </a:rPr>
                <a:t>Wie?</a:t>
              </a:r>
              <a:endParaRPr b="0" lang="en-US" sz="40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2971800" y="1992240"/>
            <a:ext cx="5867280" cy="302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262626"/>
                </a:solidFill>
                <a:latin typeface="Calibri"/>
              </a:rPr>
              <a:t>SchülerInnen begeben sich mit dem Computer und dem Internet auf Spurensuche.</a:t>
            </a:r>
            <a:br>
              <a:rPr sz="2800"/>
            </a:br>
            <a:r>
              <a:rPr b="1" lang="de-DE" sz="2800" spc="-1" strike="noStrike">
                <a:solidFill>
                  <a:srgbClr val="262626"/>
                </a:solidFill>
                <a:latin typeface="Calibri"/>
              </a:rPr>
              <a:t>Sie erforschen gemeinsam ihre Schule und präsentieren die Ergebnisse auf der Lernplattform Moodle.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Vorgaben auf der Lernplattform Moodle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80" name="TextBox 5" descr=""/>
          <p:cNvPicPr/>
          <p:nvPr/>
        </p:nvPicPr>
        <p:blipFill>
          <a:blip r:embed="rId1"/>
          <a:stretch/>
        </p:blipFill>
        <p:spPr>
          <a:xfrm>
            <a:off x="-85680" y="950760"/>
            <a:ext cx="3687840" cy="4535640"/>
          </a:xfrm>
          <a:prstGeom prst="rect">
            <a:avLst/>
          </a:prstGeom>
          <a:ln w="0">
            <a:noFill/>
          </a:ln>
        </p:spPr>
      </p:pic>
      <p:sp>
        <p:nvSpPr>
          <p:cNvPr id="681" name="TextBox 12"/>
          <p:cNvSpPr/>
          <p:nvPr/>
        </p:nvSpPr>
        <p:spPr>
          <a:xfrm>
            <a:off x="824040" y="2666880"/>
            <a:ext cx="193032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Calibri"/>
              </a:rPr>
              <a:t>Was?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82" name="Grafik 5" descr=""/>
          <p:cNvPicPr/>
          <p:nvPr/>
        </p:nvPicPr>
        <p:blipFill>
          <a:blip r:embed="rId2"/>
          <a:stretch/>
        </p:blipFill>
        <p:spPr>
          <a:xfrm rot="2223000">
            <a:off x="1098720" y="4437000"/>
            <a:ext cx="1904760" cy="1486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TextBox 1"/>
          <p:cNvSpPr/>
          <p:nvPr/>
        </p:nvSpPr>
        <p:spPr>
          <a:xfrm rot="16200000">
            <a:off x="-2145960" y="2451240"/>
            <a:ext cx="54864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alibri"/>
              </a:rPr>
              <a:t>WebQuest-Methode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684" name="Group 3"/>
          <p:cNvGrpSpPr/>
          <p:nvPr/>
        </p:nvGrpSpPr>
        <p:grpSpPr>
          <a:xfrm>
            <a:off x="1511280" y="3405240"/>
            <a:ext cx="4978440" cy="2832120"/>
            <a:chOff x="1511280" y="3405240"/>
            <a:chExt cx="4978440" cy="2832120"/>
          </a:xfrm>
        </p:grpSpPr>
        <p:sp>
          <p:nvSpPr>
            <p:cNvPr id="685" name="Rectangle 14"/>
            <p:cNvSpPr/>
            <p:nvPr/>
          </p:nvSpPr>
          <p:spPr>
            <a:xfrm>
              <a:off x="1511280" y="3405240"/>
              <a:ext cx="4978440" cy="283212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686" name="TextBox 7"/>
            <p:cNvSpPr/>
            <p:nvPr/>
          </p:nvSpPr>
          <p:spPr>
            <a:xfrm>
              <a:off x="1628640" y="3477960"/>
              <a:ext cx="4696200" cy="264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Einleitung/Thema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Ablauf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Aufgaben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Quellen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Bewertung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Ausblick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687" name="Grafik 5" descr=""/>
          <p:cNvPicPr/>
          <p:nvPr/>
        </p:nvPicPr>
        <p:blipFill>
          <a:blip r:embed="rId2"/>
          <a:stretch/>
        </p:blipFill>
        <p:spPr>
          <a:xfrm>
            <a:off x="6732720" y="4751280"/>
            <a:ext cx="1904760" cy="1486080"/>
          </a:xfrm>
          <a:prstGeom prst="rect">
            <a:avLst/>
          </a:prstGeom>
          <a:ln w="0">
            <a:noFill/>
          </a:ln>
        </p:spPr>
      </p:pic>
      <p:pic>
        <p:nvPicPr>
          <p:cNvPr id="688" name="Grafik 12" descr=""/>
          <p:cNvPicPr/>
          <p:nvPr/>
        </p:nvPicPr>
        <p:blipFill>
          <a:blip r:embed="rId3"/>
          <a:stretch/>
        </p:blipFill>
        <p:spPr>
          <a:xfrm>
            <a:off x="7526160" y="3492360"/>
            <a:ext cx="1231920" cy="960480"/>
          </a:xfrm>
          <a:prstGeom prst="rect">
            <a:avLst/>
          </a:prstGeom>
          <a:ln w="0">
            <a:noFill/>
          </a:ln>
        </p:spPr>
      </p:pic>
      <p:pic>
        <p:nvPicPr>
          <p:cNvPr id="689" name="Grafik 13" descr=""/>
          <p:cNvPicPr/>
          <p:nvPr/>
        </p:nvPicPr>
        <p:blipFill>
          <a:blip r:embed="rId4"/>
          <a:stretch/>
        </p:blipFill>
        <p:spPr>
          <a:xfrm>
            <a:off x="7161120" y="2470320"/>
            <a:ext cx="952560" cy="742680"/>
          </a:xfrm>
          <a:prstGeom prst="rect">
            <a:avLst/>
          </a:prstGeom>
          <a:ln w="0">
            <a:noFill/>
          </a:ln>
        </p:spPr>
      </p:pic>
      <p:sp>
        <p:nvSpPr>
          <p:cNvPr id="690" name="Rechteck 1"/>
          <p:cNvSpPr/>
          <p:nvPr/>
        </p:nvSpPr>
        <p:spPr>
          <a:xfrm>
            <a:off x="2200680" y="1197000"/>
            <a:ext cx="12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alibri"/>
              </a:rPr>
              <a:t>NMS-Quest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91" name="Rechteck 2" descr=""/>
          <p:cNvPicPr/>
          <p:nvPr/>
        </p:nvPicPr>
        <p:blipFill>
          <a:blip r:embed="rId5"/>
          <a:stretch/>
        </p:blipFill>
        <p:spPr>
          <a:xfrm>
            <a:off x="1420920" y="1365120"/>
            <a:ext cx="4383000" cy="1365480"/>
          </a:xfrm>
          <a:prstGeom prst="rect">
            <a:avLst/>
          </a:prstGeom>
          <a:ln w="0">
            <a:noFill/>
          </a:ln>
        </p:spPr>
      </p:pic>
      <p:pic>
        <p:nvPicPr>
          <p:cNvPr id="692" name="Grafik 4" descr=""/>
          <p:cNvPicPr/>
          <p:nvPr/>
        </p:nvPicPr>
        <p:blipFill>
          <a:blip r:embed="rId6"/>
          <a:stretch/>
        </p:blipFill>
        <p:spPr>
          <a:xfrm>
            <a:off x="6489720" y="736560"/>
            <a:ext cx="1752480" cy="1658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TextBox 1"/>
          <p:cNvSpPr/>
          <p:nvPr/>
        </p:nvSpPr>
        <p:spPr>
          <a:xfrm rot="16200000">
            <a:off x="-2145960" y="2451240"/>
            <a:ext cx="54864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alibri"/>
              </a:rPr>
              <a:t>Beispiel-Kurs auf Moodle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4" name="TextBox 2"/>
          <p:cNvSpPr/>
          <p:nvPr/>
        </p:nvSpPr>
        <p:spPr>
          <a:xfrm>
            <a:off x="1523880" y="685800"/>
            <a:ext cx="7391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7f7f7f"/>
                </a:solidFill>
                <a:latin typeface="Calibri"/>
              </a:rPr>
              <a:t>Beispi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 u="sng">
                <a:solidFill>
                  <a:srgbClr val="00b0f0"/>
                </a:solidFill>
                <a:uFillTx/>
                <a:latin typeface="Calibri"/>
                <a:hlinkClick r:id="rId2"/>
              </a:rPr>
              <a:t>WebQuest@Telfs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695" name="Group 3"/>
          <p:cNvGrpSpPr/>
          <p:nvPr/>
        </p:nvGrpSpPr>
        <p:grpSpPr>
          <a:xfrm>
            <a:off x="6270480" y="2565360"/>
            <a:ext cx="2644920" cy="3264120"/>
            <a:chOff x="6270480" y="2565360"/>
            <a:chExt cx="2644920" cy="3264120"/>
          </a:xfrm>
        </p:grpSpPr>
        <p:sp>
          <p:nvSpPr>
            <p:cNvPr id="696" name="Rectangle 14"/>
            <p:cNvSpPr/>
            <p:nvPr/>
          </p:nvSpPr>
          <p:spPr>
            <a:xfrm>
              <a:off x="6597360" y="2565360"/>
              <a:ext cx="2318040" cy="326412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697" name="TextBox 7"/>
            <p:cNvSpPr/>
            <p:nvPr/>
          </p:nvSpPr>
          <p:spPr>
            <a:xfrm>
              <a:off x="6672960" y="2652480"/>
              <a:ext cx="2166120" cy="30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595959"/>
                  </a:solidFill>
                  <a:latin typeface="Calibri"/>
                </a:rPr>
                <a:t>Siegerklasse 1F des Wettbewerbs WebQuest@Home 2011</a:t>
              </a:r>
              <a:endParaRPr b="0" lang="en-US" sz="20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698" name="Straight Connector 18"/>
            <p:cNvSpPr/>
            <p:nvPr/>
          </p:nvSpPr>
          <p:spPr>
            <a:xfrm>
              <a:off x="6270480" y="4961160"/>
              <a:ext cx="274680" cy="0"/>
            </a:xfrm>
            <a:prstGeom prst="line">
              <a:avLst/>
            </a:prstGeom>
            <a:ln cap="rnd" w="25560">
              <a:solidFill>
                <a:srgbClr val="a6a6a6"/>
              </a:solidFill>
              <a:custDash>
                <a:ds d="3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699" name="Picture 11" descr="siegerfoto_telfs_weissenbach_1"/>
          <p:cNvPicPr/>
          <p:nvPr/>
        </p:nvPicPr>
        <p:blipFill>
          <a:blip r:embed="rId3"/>
          <a:stretch/>
        </p:blipFill>
        <p:spPr>
          <a:xfrm>
            <a:off x="1531800" y="198900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TextBox 1"/>
          <p:cNvSpPr/>
          <p:nvPr/>
        </p:nvSpPr>
        <p:spPr>
          <a:xfrm rot="16200000">
            <a:off x="-2145960" y="2451240"/>
            <a:ext cx="54864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alibri"/>
              </a:rPr>
              <a:t>Umsetzung/Präsentation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01" name="Grafik 13" descr=""/>
          <p:cNvPicPr/>
          <p:nvPr/>
        </p:nvPicPr>
        <p:blipFill>
          <a:blip r:embed="rId2"/>
          <a:stretch/>
        </p:blipFill>
        <p:spPr>
          <a:xfrm rot="20013000">
            <a:off x="7615080" y="860040"/>
            <a:ext cx="952560" cy="743040"/>
          </a:xfrm>
          <a:prstGeom prst="rect">
            <a:avLst/>
          </a:prstGeom>
          <a:ln w="0">
            <a:noFill/>
          </a:ln>
        </p:spPr>
      </p:pic>
      <p:sp>
        <p:nvSpPr>
          <p:cNvPr id="702" name="Rechteck 1"/>
          <p:cNvSpPr/>
          <p:nvPr/>
        </p:nvSpPr>
        <p:spPr>
          <a:xfrm>
            <a:off x="2200680" y="1197000"/>
            <a:ext cx="12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alibri"/>
              </a:rPr>
              <a:t>NMS-Quest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3" name="Rechteck 4"/>
          <p:cNvSpPr/>
          <p:nvPr/>
        </p:nvSpPr>
        <p:spPr>
          <a:xfrm>
            <a:off x="1619280" y="2706840"/>
            <a:ext cx="69199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Präsentation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der Schule (Bilder und Texte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Diashow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über die Schule 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Videoclip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(Kurzfilm, max. 3 Minuten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Podcast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(Jingle, Interview, Lied, Hörspiel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Text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(Geschichte, Ereignis …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Fotostory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(Bildgeschichte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Schul-Quiz 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(Quiz über eigene Schule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Zeichnung 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Plakat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04" name="Rechteck 6" descr=""/>
          <p:cNvPicPr/>
          <p:nvPr/>
        </p:nvPicPr>
        <p:blipFill>
          <a:blip r:embed="rId3"/>
          <a:stretch/>
        </p:blipFill>
        <p:spPr>
          <a:xfrm>
            <a:off x="1274760" y="1365120"/>
            <a:ext cx="6637320" cy="1365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5" name="Oval 3"/>
          <p:cNvGrpSpPr/>
          <p:nvPr/>
        </p:nvGrpSpPr>
        <p:grpSpPr>
          <a:xfrm>
            <a:off x="738360" y="1944720"/>
            <a:ext cx="2108160" cy="2749680"/>
            <a:chOff x="738360" y="1944720"/>
            <a:chExt cx="2108160" cy="2749680"/>
          </a:xfrm>
        </p:grpSpPr>
        <p:pic>
          <p:nvPicPr>
            <p:cNvPr id="706" name="Oval 3" descr=""/>
            <p:cNvPicPr/>
            <p:nvPr/>
          </p:nvPicPr>
          <p:blipFill>
            <a:blip r:embed="rId2"/>
            <a:stretch/>
          </p:blipFill>
          <p:spPr>
            <a:xfrm>
              <a:off x="738360" y="1944720"/>
              <a:ext cx="2108160" cy="27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7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708" name="Oval 7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709" name="Oval 7" descr=""/>
            <p:cNvPicPr/>
            <p:nvPr/>
          </p:nvPicPr>
          <p:blipFill>
            <a:blip r:embed="rId3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711" name="TextBox 16" descr=""/>
          <p:cNvPicPr/>
          <p:nvPr/>
        </p:nvPicPr>
        <p:blipFill>
          <a:blip r:embed="rId4"/>
          <a:stretch/>
        </p:blipFill>
        <p:spPr>
          <a:xfrm>
            <a:off x="-42840" y="927000"/>
            <a:ext cx="3687840" cy="4535640"/>
          </a:xfrm>
          <a:prstGeom prst="rect">
            <a:avLst/>
          </a:prstGeom>
          <a:ln w="0">
            <a:noFill/>
          </a:ln>
        </p:spPr>
      </p:pic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971800" y="1699920"/>
            <a:ext cx="5867280" cy="24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262626"/>
                </a:solidFill>
                <a:latin typeface="Calibri"/>
              </a:rPr>
              <a:t>Klassen der </a:t>
            </a:r>
            <a:br>
              <a:rPr sz="4000"/>
            </a:br>
            <a:r>
              <a:rPr b="1" lang="de-DE" sz="4000" spc="-1" strike="noStrike">
                <a:solidFill>
                  <a:srgbClr val="262626"/>
                </a:solidFill>
                <a:latin typeface="Calibri"/>
              </a:rPr>
              <a:t>Neuen Mittelschule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Voraussetzung: Moodle-Instanz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4" name="TextBox 15"/>
          <p:cNvSpPr/>
          <p:nvPr/>
        </p:nvSpPr>
        <p:spPr>
          <a:xfrm>
            <a:off x="833400" y="2630520"/>
            <a:ext cx="193212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Calibri"/>
              </a:rPr>
              <a:t>Wer?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5" name="Oval 2"/>
          <p:cNvGrpSpPr/>
          <p:nvPr/>
        </p:nvGrpSpPr>
        <p:grpSpPr>
          <a:xfrm>
            <a:off x="706320" y="1944720"/>
            <a:ext cx="2170080" cy="2773440"/>
            <a:chOff x="706320" y="1944720"/>
            <a:chExt cx="2170080" cy="2773440"/>
          </a:xfrm>
        </p:grpSpPr>
        <p:pic>
          <p:nvPicPr>
            <p:cNvPr id="716" name="Oval 2" descr=""/>
            <p:cNvPicPr/>
            <p:nvPr/>
          </p:nvPicPr>
          <p:blipFill>
            <a:blip r:embed="rId2"/>
            <a:stretch/>
          </p:blipFill>
          <p:spPr>
            <a:xfrm>
              <a:off x="706320" y="1944720"/>
              <a:ext cx="2170080" cy="277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718" name="Oval 5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719" name="Oval 5" descr=""/>
            <p:cNvPicPr/>
            <p:nvPr/>
          </p:nvPicPr>
          <p:blipFill>
            <a:blip r:embed="rId3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721" name="TextBox 12" descr=""/>
          <p:cNvPicPr/>
          <p:nvPr/>
        </p:nvPicPr>
        <p:blipFill>
          <a:blip r:embed="rId4"/>
          <a:stretch/>
        </p:blipFill>
        <p:spPr>
          <a:xfrm>
            <a:off x="-49320" y="987480"/>
            <a:ext cx="3687840" cy="4535280"/>
          </a:xfrm>
          <a:prstGeom prst="rect">
            <a:avLst/>
          </a:prstGeom>
          <a:ln w="0">
            <a:noFill/>
          </a:ln>
        </p:spPr>
      </p:pic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971800" y="1991880"/>
            <a:ext cx="5867280" cy="197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262626"/>
                </a:solidFill>
                <a:latin typeface="Calibri"/>
              </a:rPr>
              <a:t>Online-Anmeldung</a:t>
            </a:r>
            <a:br>
              <a:rPr sz="4000"/>
            </a:br>
            <a:r>
              <a:rPr b="0" lang="de-DE" sz="4000" spc="-1" strike="noStrike">
                <a:solidFill>
                  <a:srgbClr val="7f7f7f"/>
                </a:solidFill>
                <a:latin typeface="Calibri"/>
              </a:rPr>
              <a:t>Homepage der NMS</a:t>
            </a:r>
            <a:br>
              <a:rPr sz="4000"/>
            </a:br>
            <a:r>
              <a:rPr b="1" lang="de-DE" sz="3600" spc="-1" strike="noStrike" u="sng">
                <a:solidFill>
                  <a:srgbClr val="00b0f0"/>
                </a:solidFill>
                <a:uFillTx/>
                <a:latin typeface="Calibri"/>
                <a:hlinkClick r:id="rId5"/>
              </a:rPr>
              <a:t>www.nms.tsn.at/wettbewerb</a:t>
            </a: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Informationen und Anmeldung auf der NMS-Homepage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4" name="TextBox 17"/>
          <p:cNvSpPr/>
          <p:nvPr/>
        </p:nvSpPr>
        <p:spPr>
          <a:xfrm>
            <a:off x="825480" y="2635200"/>
            <a:ext cx="19303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Calibri"/>
              </a:rPr>
              <a:t>Wie?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hteck 5"/>
          <p:cNvSpPr/>
          <p:nvPr/>
        </p:nvSpPr>
        <p:spPr>
          <a:xfrm>
            <a:off x="5435640" y="1562040"/>
            <a:ext cx="3097080" cy="3595680"/>
          </a:xfrm>
          <a:prstGeom prst="rect">
            <a:avLst/>
          </a:prstGeom>
          <a:solidFill>
            <a:srgbClr val="f4891e"/>
          </a:solidFill>
          <a:ln w="25560">
            <a:solidFill>
              <a:srgbClr val="b36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726" name="Oval 1"/>
          <p:cNvGrpSpPr/>
          <p:nvPr/>
        </p:nvGrpSpPr>
        <p:grpSpPr>
          <a:xfrm>
            <a:off x="738360" y="1944720"/>
            <a:ext cx="2108160" cy="2749680"/>
            <a:chOff x="738360" y="1944720"/>
            <a:chExt cx="2108160" cy="2749680"/>
          </a:xfrm>
        </p:grpSpPr>
        <p:pic>
          <p:nvPicPr>
            <p:cNvPr id="727" name="Oval 1" descr=""/>
            <p:cNvPicPr/>
            <p:nvPr/>
          </p:nvPicPr>
          <p:blipFill>
            <a:blip r:embed="rId2"/>
            <a:stretch/>
          </p:blipFill>
          <p:spPr>
            <a:xfrm>
              <a:off x="738360" y="1944720"/>
              <a:ext cx="2108160" cy="27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8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729" name="Oval 2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730" name="Oval 2" descr=""/>
            <p:cNvPicPr/>
            <p:nvPr/>
          </p:nvPicPr>
          <p:blipFill>
            <a:blip r:embed="rId3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1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732" name="TextBox 3"/>
          <p:cNvSpPr/>
          <p:nvPr/>
        </p:nvSpPr>
        <p:spPr>
          <a:xfrm>
            <a:off x="1217520" y="175572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0" spc="-1" strike="noStrike">
                <a:solidFill>
                  <a:srgbClr val="a6a6a6"/>
                </a:solidFill>
                <a:latin typeface="Georgia"/>
              </a:rPr>
              <a:t>?</a:t>
            </a:r>
            <a:endParaRPr b="0" lang="en-US" sz="15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971800" y="1991880"/>
            <a:ext cx="5867280" cy="287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262626"/>
                </a:solidFill>
                <a:latin typeface="Calibri"/>
              </a:rPr>
              <a:t>Preise…</a:t>
            </a: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r>
              <a:rPr b="0" lang="de-DE" sz="3600" spc="-1" strike="noStrike">
                <a:solidFill>
                  <a:srgbClr val="7f7f7f"/>
                </a:solidFill>
                <a:latin typeface="Calibri"/>
              </a:rPr>
              <a:t>Tablet-PC</a:t>
            </a:r>
            <a:br>
              <a:rPr sz="3600"/>
            </a:br>
            <a:r>
              <a:rPr b="0" lang="de-AT" sz="3600" spc="-1" strike="noStrike">
                <a:solidFill>
                  <a:srgbClr val="7f7f7f"/>
                </a:solidFill>
                <a:latin typeface="Calibri"/>
              </a:rPr>
              <a:t>Kameras</a:t>
            </a:r>
            <a:br>
              <a:rPr sz="3600"/>
            </a:br>
            <a:r>
              <a:rPr b="0" lang="de-DE" sz="3600" spc="-1" strike="noStrike">
                <a:solidFill>
                  <a:srgbClr val="7f7f7f"/>
                </a:solidFill>
                <a:latin typeface="Calibri"/>
              </a:rPr>
              <a:t>USB-Sticks</a:t>
            </a:r>
            <a:br>
              <a:rPr sz="3600"/>
            </a:br>
            <a:r>
              <a:rPr b="0" lang="de-DE" sz="3600" spc="-1" strike="noStrike">
                <a:solidFill>
                  <a:srgbClr val="7f7f7f"/>
                </a:solidFill>
                <a:latin typeface="Calibri"/>
              </a:rPr>
              <a:t>…</a:t>
            </a: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Das gibt es zu gewinnen!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5" name="Textfeld 4"/>
          <p:cNvSpPr/>
          <p:nvPr/>
        </p:nvSpPr>
        <p:spPr>
          <a:xfrm>
            <a:off x="5580000" y="1557360"/>
            <a:ext cx="3024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262626"/>
                </a:solidFill>
                <a:latin typeface="Calibri"/>
              </a:rPr>
              <a:t>Start: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1. März 2012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262626"/>
                </a:solidFill>
                <a:latin typeface="Calibri"/>
              </a:rPr>
              <a:t>Ende: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6. Mai 2012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262626"/>
                </a:solidFill>
                <a:latin typeface="Calibri"/>
              </a:rPr>
              <a:t>Preisverleihung: </a:t>
            </a: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22. Mai 2012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(NMS eLearning Symposium)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18:08:59Z</dcterms:created>
  <dc:creator/>
  <dc:description/>
  <dc:language>en-US</dc:language>
  <cp:lastModifiedBy/>
  <dcterms:modified xsi:type="dcterms:W3CDTF">2012-01-22T19:25:18Z</dcterms:modified>
  <cp:revision>1</cp:revision>
  <dc:subject/>
  <dc:title/>
</cp:coreProperties>
</file>