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40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41.png" ContentType="image/png"/>
  <Override PartName="/ppt/media/image43.jpeg" ContentType="image/jpeg"/>
  <Override PartName="/ppt/media/image45.jpeg" ContentType="image/jpeg"/>
  <Override PartName="/ppt/media/image46.png" ContentType="image/png"/>
  <Override PartName="/ppt/media/image31.png" ContentType="image/png"/>
  <Override PartName="/ppt/media/image47.jpeg" ContentType="image/jpeg"/>
  <Override PartName="/ppt/media/image36.png" ContentType="image/png"/>
  <Override PartName="/ppt/media/image48.png" ContentType="image/png"/>
  <Override PartName="/ppt/media/image37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9.png" ContentType="image/png"/>
  <Override PartName="/ppt/media/image30.jpeg" ContentType="image/jpeg"/>
  <Override PartName="/ppt/media/image13.jpeg" ContentType="image/jpeg"/>
  <Override PartName="/ppt/media/image2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50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60EB-DB81-465D-AA42-92E451B370B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1686-D090-4186-9B0B-4C14123DD176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4E56-EA3B-4B80-8627-6AE17BEA266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4668-D289-413F-B4D8-2028272780F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3ABE-756B-4067-9541-BD9971FA41CE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F0B8-C861-4871-84CA-52260134D7DD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734F-F189-4631-BFF2-57BA4E4217D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23C1-CED1-474A-B7F4-0E77B4D6A4C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27EC-EC59-4780-BD1E-C1252528619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44E6-A4EF-4D64-B6B5-F5403C14B17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565F-F67F-462B-A000-96814863D57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F16A-E256-40A2-9944-178DA5A3877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0D39-E26E-418A-AD6A-FBBBE687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796E-72FA-4AB3-928D-EA815FFA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D1CBA4-2517-42D7-B68B-639AF08C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CC9CFA-747E-4CC4-9FCB-1BC69E1B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20DC4C-FE6E-444E-A04F-F496D357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BD2DDA-9D4A-45A8-9C70-1ADDBE11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3131CD-0A78-403C-B1A4-64A3C448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1B095B-D4F5-48FD-96F9-CF80CD29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62D9CD-CB08-4E81-AB36-E6D34DDB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86A1C2-3F90-479F-933C-3F77E26D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33723D-0BB4-4C23-AF13-17C00027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8FD098-FF24-4586-9F0A-6EF563A1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94D3-73CA-4103-8449-3E55CB2B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97CB6C-A5DD-486A-81DB-4D9E9476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7FCBC9-2AFA-4368-9EEE-C8A50A67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48E15D-B4BE-480F-A0C5-408DAE44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E039C7-F301-4647-A8A3-FE406505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F03404-EE03-42EF-8A4D-1B7D6EA7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D47D44-FA2D-4E4F-B103-76A71ACA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BA5781-AF95-472F-9B3E-25C20D66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B34AB5-D51A-451F-A3CA-B7F48B71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595169-D9DC-458A-8489-B254DF98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835203-F703-492E-A813-3CC5AFDC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63E-CC18-49EC-B603-7A5C3DD1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FA972C-2E61-4905-8C74-10B8160A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B3CC3E-B0C8-4DBF-9795-381D814B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9504B9-8370-42AF-9D98-01CA6765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510D2A-19B8-472E-AEB2-B9C1B702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A7B5B5-E8BE-4094-A2E8-1F74DAC4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C4C5C7-8CF6-4DA1-A8D0-C994148C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C87386-CD13-465B-9744-9808B645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FCA653-0CD8-462A-A1F0-49F20AB6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B31F60-7BEA-4FC0-B513-B48B9345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0851B0-477D-480A-9CAF-09EEB2FD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96C9-CEE3-4C9D-A7C3-396775BC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A72E6A-C6CE-4D2A-9767-A94F4EF0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A51DE3-D1D9-44C6-BC0F-6B0CB373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008400-BD2F-46DB-9FC8-2BD5C2BB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BA154E-ADCC-43EF-A1AD-EA3EDF93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8CF5A6-8DFE-4352-AC77-55369D91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219D0F-132B-44FF-87A2-3CACD389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E815C1-F560-412D-9D78-115C67D9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9AA91C-D7D0-45AE-A4EE-78883C50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372AB0-9A07-461A-B5F1-38C66B74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AD618C-6F4A-421C-967D-85909D8F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F732-4A8D-472B-91F0-31520B4D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D43E2F-933A-4FFE-B774-3208C3AD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CFA41A-EB35-4BE7-AA0E-CDAB0FA8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1DF4CE-89DE-42A4-81FE-6AAF2E0D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B170BC-B0DA-4097-AB78-994D6338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DDE721-42FA-48C2-A639-4925253D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C71645-83EB-4751-8F44-3B6ED0E6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60C30B-F1F6-492E-884A-978A7B96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19C697-A35B-4B5C-ABA3-01364632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100925-930C-45D8-B7EF-604C98F2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0180D8-03BE-490E-8816-5838B8CD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0143-7F31-413C-9ED0-6973EF5D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54B2C6-A3B2-49AA-A012-DF2C2E64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B8D5CD-5E10-4B16-B0C3-7E4F0563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A8999A-70FC-4B6A-AEB9-12B61B9F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52BD52-B16C-4797-A2F5-EA3826C8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ABBE99-5CF5-4887-81BC-D90F9DB1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9184A4-B15A-44EB-B446-392CD16B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6A140B-2D6C-4601-A510-A1D45069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5228EF-DFAE-4796-84BF-702BB638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AA3C93-D963-4F4B-827F-3EF992B4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894CE2-8456-44E1-9224-D27AE243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DB7B-6BB8-4708-B486-F79DFBFF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4BBD3D-896D-4BAB-BE02-C212882E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29E664-5947-489F-9EE3-018160AB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6C7AFD-6563-4334-90B1-89124B57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5B2FD8-C782-43BC-A759-A5B5F20E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8451938-71A6-4AC4-86B0-082D2CF8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2115D4-D53C-4912-96C9-7043DDFE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4FBA24-CCD6-482C-90BA-1023D58D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48D4C9-F6F4-4D65-BECF-EBA34598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85B1B1-47E3-45D2-AD0D-AB824086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F35501-ADE1-48B5-A540-6C600373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AAF8-5019-436B-B42E-F2D84438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598D04B-5D19-4700-857A-74DF5239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5A6EE3-DA18-47D2-9DD2-15DA5E5D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08ABFA-B28A-4717-B082-D55C5ED8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6696F53-999C-467D-BA77-57DFCB18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8280D6-A1C6-40E6-8A66-16C451A6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54E1BF7-A994-4C2B-B74D-C03AD70A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5D9CC2C-69D3-4028-A143-9017D7E7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70C495-8883-4962-B020-DD90AACB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B6770D-07C4-44E6-9607-E1041522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543741C-780E-45D6-ACDB-50B5901E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08B0-B9C5-4557-90FD-A7676620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6FBEC6-6000-4AA7-A37B-25ADD60E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3CF4-ECB3-4DBF-8283-008BC3A0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99E-201A-4C6C-BF74-527B24EC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F656-E07A-4018-A262-09B33DF6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66DC-53CB-4682-B687-CF309EC1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D87E-D22A-4D22-9D48-BA7373D2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C064-4CF7-4F4F-B55D-9070A92E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63FC-F3CC-45F2-B499-491CF745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00AC1-D3DC-4B34-890F-5FCD06A4EB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41BB4-D0AE-4EAB-9F62-FEBD4E741E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A8E7F-0252-46FB-A162-8142116DBF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32640-AF7D-4D2A-A8E6-C116387C17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820C1-DFED-4B1A-8C9B-7920391BB5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251-E8DC-4C5C-B41A-A5A14B76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1C29C-D5EF-4AB7-A282-E8FF5108B1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61486-3425-4DA2-870E-61EEC3FA75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B2C803-B708-4B35-8042-037C6D17A0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778A8-8511-4C3B-8205-D4F7CDF5FF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5C1B1-EC1E-406C-9823-EC83744E76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456F2-91BC-4F9F-B378-A155403F0F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669A18-5CA5-43A0-A4B8-268CB70F30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5FC71C-1E62-4219-B061-3F75D8B5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541C99-F93D-4EDB-88FD-B0272282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922BCB-2775-41CF-8C12-F9702947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3B1F-2CDF-42BC-B97F-30904369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955B44-FD5C-4AAE-AEA9-12320358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133727-60F5-419C-94C2-B5D1F822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61AC28-ACC7-41AD-B377-222F1C87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879E60-BB10-4F1B-BC15-9EF6FFC3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4D39EE-E25C-4F99-8503-E12ACE45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2EF192-9C59-4FF4-A6E3-AF632A41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3EE683-6E79-481C-8C5E-F1C04597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F31E80-AFC3-4A2B-9D81-76A8FD33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E542C2-12BC-46EA-8780-1F353387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C47BCE-4060-44C4-9E3C-96088F15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AA0-F24C-467D-A041-6E97DB6B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1D4EC-7952-47D8-8F35-7FA3D42F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AD1D25-3425-4F96-A715-100515FD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1F931C-C05E-4633-B7B5-482EA5AC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ACA2BB-01F9-4BD9-A373-786F2212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585738-BBB1-4BD7-AC5C-478B3A7B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8A6C5A-8E1E-4F50-B619-06817D54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32F1D-51D1-4F8A-A984-F5EA0D82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A142D1-6DFF-4EC1-A494-ACAFA6E7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B3A585-BA5C-4AA3-9D49-11A8D6DA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2756D-31B7-4D22-8E43-436AAB4D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3AE-1BBF-4461-859C-9BB6D993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CD8249-2BA5-44FD-8FF3-610AB15D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FE3D26-5870-4576-AF7A-B352A636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8C632D-484E-47A2-9265-E205A447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ACA919-D36E-406E-B281-CE594065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F5CFAF-98A0-46B4-ADCF-4C3A932B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AF5D16-41B3-4DCB-BEF1-D2DE1108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6F2D0F-D8D9-43D4-ABD3-52ABD5B9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3934C3-5D1C-41A8-9C84-401E9C88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CD71A-ABC3-46ED-9190-92D86D14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E3A9B9-9D62-4BC1-BB77-2B326E04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8AC-E8A2-4E93-98B6-D2038D1A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991918-097B-49B3-84CD-31194970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046B50-F5D6-4B2B-9091-B41B24FD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F1D2EE-93B3-4962-9A1C-465A9AEA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094A43-A4B0-442D-986D-146D85A2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23C57E-268D-446A-9751-FF483B44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D9E6F5-BA39-4541-A9BE-D5BF317C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B82928-C76D-4C15-96EC-1025D100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1F4A9C-22AB-4D6C-A9C1-94817012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3DD7F1-7A24-4BA4-9C07-780BA3A1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212BF9-8795-4590-A867-F147B39D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235-D02E-4376-B12C-406F6107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C45C9D-9E31-425A-A9D1-21F46F95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363415-2798-487A-ADF0-5DAAFB0C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9D27EF-9471-4B2B-AB89-05E8F70B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9FD472-C4F5-4542-BAD3-C21735DD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24CDD4-F5BE-40E8-82D0-E370E8AF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1F272A-939F-4D44-AABD-B29B0193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FF8AD1-4357-4391-BA7E-571505F7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CE5049-8FBA-41A1-824B-D6D66E82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A65F74-EED5-4F34-9374-0C2F1D1E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CCF692-738F-4A15-9381-1477D6D3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09A-E0CF-4AEB-A2B4-DFBAD8E3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264638-046F-4B9A-9A85-2B857509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9F0AC0-4797-4938-9F81-A47F2086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C187DC-CA33-453F-BB63-C548B6BE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3314DF-AB33-44EB-B4DC-405B7990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FD99C5-23E7-4988-BF5D-7FFF6D74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11F2FA-83EC-4CF6-A488-0956E945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C7C5C6-4322-40E5-A47A-399E1EB3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1B9543-F076-4702-90A6-B370E8D2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AE8886-3B18-446B-AFF6-1D379814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438B93-259E-4DCA-A321-82AA032F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BE85-10CE-4A2D-BA83-A831A78690C2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8BC6-7A1F-475E-8D86-109C2531A727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61EF-196E-44DD-A9CE-76E3DF38376F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FEED-A8C8-4B3D-BE6E-543A0A67253D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D76C-CDE4-41BF-8B9B-437CBD41791A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9F03-1B1F-4B26-9D1A-755211B6F8D5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1F13-97BF-4602-9120-027591F82722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A2EF-1C8B-44AE-A318-976DB5B74387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FC20-91CF-4699-8678-E91F1331CDD9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8FE2-333E-4B80-A239-E94DC1E51EAF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FC7C-C828-4B7E-9AD9-EACA2DD9D354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A3BA-C5FF-41EB-98ED-271C8FF3FD8F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98DE-58CB-403A-B7D7-DB0E4DFF470B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D8BF-CEEA-44B9-808B-ABA29C582299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45B3-BEA7-48B9-8DC2-4A1688247C5A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2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6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4198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image" Target="../media/image40.png"/><Relationship Id="rId5" Type="http://schemas.openxmlformats.org/officeDocument/2006/relationships/hyperlink" Target="http://www.nms.tsn.at/wettbewerb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NMS-Quest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4"/>
          <p:cNvSpPr/>
          <p:nvPr/>
        </p:nvSpPr>
        <p:spPr>
          <a:xfrm>
            <a:off x="399960" y="449280"/>
            <a:ext cx="46483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40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1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2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3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4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5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6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47" name="Grafik 2" descr=""/>
          <p:cNvPicPr/>
          <p:nvPr/>
        </p:nvPicPr>
        <p:blipFill>
          <a:blip r:embed="rId5"/>
          <a:stretch/>
        </p:blipFill>
        <p:spPr>
          <a:xfrm>
            <a:off x="512640" y="3284640"/>
            <a:ext cx="2303640" cy="1106280"/>
          </a:xfrm>
          <a:prstGeom prst="rect">
            <a:avLst/>
          </a:prstGeom>
          <a:ln w="0">
            <a:noFill/>
          </a:ln>
        </p:spPr>
      </p:pic>
      <p:pic>
        <p:nvPicPr>
          <p:cNvPr id="748" name="Grafik 3" descr=""/>
          <p:cNvPicPr/>
          <p:nvPr/>
        </p:nvPicPr>
        <p:blipFill>
          <a:blip r:embed="rId6"/>
          <a:stretch/>
        </p:blipFill>
        <p:spPr>
          <a:xfrm>
            <a:off x="539640" y="4689360"/>
            <a:ext cx="4368960" cy="700200"/>
          </a:xfrm>
          <a:prstGeom prst="rect">
            <a:avLst/>
          </a:prstGeom>
          <a:ln w="0">
            <a:noFill/>
          </a:ln>
        </p:spPr>
      </p:pic>
      <p:pic>
        <p:nvPicPr>
          <p:cNvPr id="749" name="Grafik 5" descr=""/>
          <p:cNvPicPr/>
          <p:nvPr/>
        </p:nvPicPr>
        <p:blipFill>
          <a:blip r:embed="rId7"/>
          <a:stretch/>
        </p:blipFill>
        <p:spPr>
          <a:xfrm>
            <a:off x="512640" y="5726160"/>
            <a:ext cx="1849680" cy="601560"/>
          </a:xfrm>
          <a:prstGeom prst="rect">
            <a:avLst/>
          </a:prstGeom>
          <a:ln w="0">
            <a:noFill/>
          </a:ln>
        </p:spPr>
      </p:pic>
      <p:pic>
        <p:nvPicPr>
          <p:cNvPr id="750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sp>
        <p:nvSpPr>
          <p:cNvPr id="751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52" name="Picture 19" descr=""/>
          <p:cNvPicPr/>
          <p:nvPr/>
        </p:nvPicPr>
        <p:blipFill>
          <a:blip r:embed="rId9"/>
          <a:stretch/>
        </p:blipFill>
        <p:spPr>
          <a:xfrm>
            <a:off x="539640" y="2233440"/>
            <a:ext cx="2247840" cy="76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9964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Viel Erfolg!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474747"/>
                </a:solidFill>
                <a:latin typeface="Calibri"/>
              </a:rPr>
              <a:t>Informationen zum Wettbewerb „NMS-Quest“</a:t>
            </a:r>
            <a:endParaRPr b="0" lang="en-US" sz="31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 Schule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2" name="Grafik 5" descr=""/>
          <p:cNvPicPr/>
          <p:nvPr/>
        </p:nvPicPr>
        <p:blipFill>
          <a:blip r:embed="rId2"/>
          <a:stretch/>
        </p:blipFill>
        <p:spPr>
          <a:xfrm rot="2223000">
            <a:off x="1098720" y="4437000"/>
            <a:ext cx="190476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5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6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/Thema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7" name="Grafik 5" descr=""/>
          <p:cNvPicPr/>
          <p:nvPr/>
        </p:nvPicPr>
        <p:blipFill>
          <a:blip r:embed="rId2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3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4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690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91" name="Rechteck 2" descr=""/>
          <p:cNvPicPr/>
          <p:nvPr/>
        </p:nvPicPr>
        <p:blipFill>
          <a:blip r:embed="rId5"/>
          <a:stretch/>
        </p:blipFill>
        <p:spPr>
          <a:xfrm>
            <a:off x="1420920" y="1365120"/>
            <a:ext cx="4383000" cy="1365480"/>
          </a:xfrm>
          <a:prstGeom prst="rect">
            <a:avLst/>
          </a:prstGeom>
          <a:ln w="0">
            <a:noFill/>
          </a:ln>
        </p:spPr>
      </p:pic>
      <p:pic>
        <p:nvPicPr>
          <p:cNvPr id="692" name="Grafik 4" descr=""/>
          <p:cNvPicPr/>
          <p:nvPr/>
        </p:nvPicPr>
        <p:blipFill>
          <a:blip r:embed="rId6"/>
          <a:stretch/>
        </p:blipFill>
        <p:spPr>
          <a:xfrm>
            <a:off x="6489720" y="736560"/>
            <a:ext cx="175248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Telfs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5" name="Group 3"/>
          <p:cNvGrpSpPr/>
          <p:nvPr/>
        </p:nvGrpSpPr>
        <p:grpSpPr>
          <a:xfrm>
            <a:off x="6270480" y="2565360"/>
            <a:ext cx="2644920" cy="3264120"/>
            <a:chOff x="6270480" y="2565360"/>
            <a:chExt cx="2644920" cy="3264120"/>
          </a:xfrm>
        </p:grpSpPr>
        <p:sp>
          <p:nvSpPr>
            <p:cNvPr id="696" name="Rectangle 14"/>
            <p:cNvSpPr/>
            <p:nvPr/>
          </p:nvSpPr>
          <p:spPr>
            <a:xfrm>
              <a:off x="6597360" y="2565360"/>
              <a:ext cx="2318040" cy="3264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7" name="TextBox 7"/>
            <p:cNvSpPr/>
            <p:nvPr/>
          </p:nvSpPr>
          <p:spPr>
            <a:xfrm>
              <a:off x="6672960" y="2652480"/>
              <a:ext cx="2166120" cy="30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595959"/>
                  </a:solidFill>
                  <a:latin typeface="Calibri"/>
                </a:rPr>
                <a:t>Siegerklasse 1F des Wettbewerbs WebQuest@Home 2011</a:t>
              </a:r>
              <a:endParaRPr b="0" lang="en-US" sz="20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8" name="Straight Connector 18"/>
            <p:cNvSpPr/>
            <p:nvPr/>
          </p:nvSpPr>
          <p:spPr>
            <a:xfrm>
              <a:off x="6270480" y="49611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9" name="Picture 11" descr="siegerfoto_telfs_weissenbach_1"/>
          <p:cNvPicPr/>
          <p:nvPr/>
        </p:nvPicPr>
        <p:blipFill>
          <a:blip r:embed="rId3"/>
          <a:stretch/>
        </p:blipFill>
        <p:spPr>
          <a:xfrm>
            <a:off x="1531800" y="19890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Umsetzung/Präsentation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1" name="Grafik 13" descr=""/>
          <p:cNvPicPr/>
          <p:nvPr/>
        </p:nvPicPr>
        <p:blipFill>
          <a:blip r:embed="rId2"/>
          <a:stretch/>
        </p:blipFill>
        <p:spPr>
          <a:xfrm rot="20013000">
            <a:off x="7615080" y="8600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702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Rechteck 4"/>
          <p:cNvSpPr/>
          <p:nvPr/>
        </p:nvSpPr>
        <p:spPr>
          <a:xfrm>
            <a:off x="1619280" y="2706840"/>
            <a:ext cx="691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räsentation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der Schule (Bilder und Tex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Diashow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über die Schule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Videoclip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Kurzfilm, max. 3 Minuten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odcas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Jingle, Interview, Lied, Hörspie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Tex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Geschichte, Ereignis …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Fotostory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Bildgeschich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Schul-Quiz 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(Quiz über eigene Schul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Zeichnung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laka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4" name="Rechteck 6" descr=""/>
          <p:cNvPicPr/>
          <p:nvPr/>
        </p:nvPicPr>
        <p:blipFill>
          <a:blip r:embed="rId3"/>
          <a:stretch/>
        </p:blipFill>
        <p:spPr>
          <a:xfrm>
            <a:off x="1274760" y="1365120"/>
            <a:ext cx="6637320" cy="136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06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8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9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1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71800" y="169992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Klassen der </a:t>
            </a:r>
            <a:br>
              <a:rPr sz="4000"/>
            </a:b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Neuen Mittelschule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Moodle-Instanz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4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16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8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9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21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36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/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hteck 5"/>
          <p:cNvSpPr/>
          <p:nvPr/>
        </p:nvSpPr>
        <p:spPr>
          <a:xfrm>
            <a:off x="5435640" y="1562040"/>
            <a:ext cx="3097080" cy="35956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26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27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9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30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32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Tablet-PC</a:t>
            </a:r>
            <a:br>
              <a:rPr sz="3600"/>
            </a:br>
            <a:r>
              <a:rPr b="0" lang="de-AT" sz="3600" spc="-1" strike="noStrike">
                <a:solidFill>
                  <a:srgbClr val="7f7f7f"/>
                </a:solidFill>
                <a:latin typeface="Calibri"/>
              </a:rPr>
              <a:t>Kamera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Textfeld 4"/>
          <p:cNvSpPr/>
          <p:nvPr/>
        </p:nvSpPr>
        <p:spPr>
          <a:xfrm>
            <a:off x="5580000" y="1557360"/>
            <a:ext cx="302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22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NMS eLearning Symposium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2-01-22T19:25:18Z</dcterms:modified>
  <cp:revision>1</cp:revision>
  <dc:subject/>
  <dc:title/>
</cp:coreProperties>
</file>