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40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41.png" ContentType="image/png"/>
  <Override PartName="/ppt/media/image43.jpeg" ContentType="image/jpeg"/>
  <Override PartName="/ppt/media/image45.jpeg" ContentType="image/jpeg"/>
  <Override PartName="/ppt/media/image46.png" ContentType="image/png"/>
  <Override PartName="/ppt/media/image31.png" ContentType="image/png"/>
  <Override PartName="/ppt/media/image47.jpeg" ContentType="image/jpeg"/>
  <Override PartName="/ppt/media/image36.png" ContentType="image/png"/>
  <Override PartName="/ppt/media/image48.png" ContentType="image/png"/>
  <Override PartName="/ppt/media/image37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9.png" ContentType="image/png"/>
  <Override PartName="/ppt/media/image30.jpeg" ContentType="image/jpeg"/>
  <Override PartName="/ppt/media/image13.jpeg" ContentType="image/jpeg"/>
  <Override PartName="/ppt/media/image2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50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1AE5-6233-4310-9411-73AB8A7FD7E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2C67-E98C-4934-9699-E82D79A2CD56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4A68-3BC9-46A3-B26C-26705B30A7E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E8C1-6731-475B-98FE-4F89278D238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AC62-66AE-468B-B550-BCF7197E24E6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F1C6-1434-4835-B430-CD64AC87AA71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D0BD-B568-4376-B255-C242EB28DE9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9F08-D653-4533-B757-BE98732B1E7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6F32-26E4-4B79-A233-3CD2C705B35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6CE8-EE45-48AA-A4C9-33CD4FF7A88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6731-1392-4BD6-8238-1E3F637A3A3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4E61-D1BE-4037-B3D1-33CA0421768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F40A-0B52-4BE3-9B49-9D5A231D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0C76-4F47-447C-9A45-CD9BC5D1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A212EA-55D2-4D55-A779-D12B2977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C13DDA-C7F6-4379-95F5-D3A8D6D0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619BF3-7AF0-4B90-8A91-833F9C26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D17B31-5C8F-4F3F-B68E-434941E9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86407A-A8D7-4E8E-9DCF-E5B9F400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F5BCF1-E077-4C83-85AB-9A3E9A74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AFD087-4AFD-470B-BE68-4F884C99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3D55CD-340D-4570-8D22-B27FE3A6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F12DA9-1B57-4ABB-AE79-FE79DD48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E397FC-3521-499A-8CFD-CD6FAEB5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2CB6-F27A-4644-AA13-4DBF3E16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28A7BC-07DD-4D51-A60C-B1ED7CFF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6A3E97-B329-43D8-820F-9604B9F0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E239F8-0C8A-4BE2-9644-31C5E414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317054-7C22-47A1-BBE0-A809C28A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A842C4-29A4-45F4-84DF-046508E1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218EE1-7A50-4364-9A23-6E99E7A0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595581-C9DC-4B06-94DC-C3536CAE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BAB7B1-0B79-48D6-87FB-56B89576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CA4B97-50E1-4006-8AEC-9A57D0A6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853AB2-A494-4674-8B11-25025FE9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9178-9AFD-4AA4-96F7-AB5C7F40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E04F1E-E45A-491A-BF6E-1FC126D9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5C8006-C249-43C3-9205-039CF060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0C9E1E-2493-441A-965A-9FCDFBBC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3143A6-013E-4F1E-BB70-9264BD3D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D05DF2-E2BB-47F8-B549-22436297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81AB9A-2F77-4CE1-B9E2-1E06EC60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D3F934-3216-440F-85AE-7C27C335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A070BF-0764-4AA1-BCC7-16DBA1B5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883B44-AEDA-4759-BB6E-CB32FEE0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199216-30CE-42AA-86E5-04F384B1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BF88-59C8-499F-9525-492E0BC9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5384B0-3000-4F8A-B885-51700BF8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313540-B9E3-4302-B759-A89A9BDF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D11546-E962-4E05-BA77-4837C50F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E9AE0C-101C-4FCE-AD11-8F8E2A34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C0F082-C6EF-4067-8975-300C16FD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847C46-CBB9-48A5-8BC8-21C7865B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4B4FBD-04A0-45C2-AA7D-CBCFFCC9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6FF80A-19B1-4465-9F96-3E192719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6B65F4-0B90-4FD2-B9D2-52B98890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BDDA0C-3472-408C-8DFD-AEACD3B9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E00A-6DA4-4066-B8A4-06A50D35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357E17-B578-4043-9057-CD7D3F65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77B2F5-F71A-415F-8CEF-7AEC6DA1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110A74-1518-475C-9CA0-D9293DD3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70FB84-A925-4FFC-A0C8-8537069B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29B12A-10BC-4533-8BDF-2C08EA78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F2D289-4A3E-4651-89AB-35FD9BC0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B65B95-54BE-41A7-B334-F47AC601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0F6172-3AE6-4181-9BDA-48E0B537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8F3378-E8C6-495F-88E1-DE4F93EC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62F3E1-B7AA-4DEA-B4A6-A64BFC54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C408-5A26-4606-A8CD-64EAD7AE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7E2485-85B6-40BB-A1F4-6A5E4ABD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3BCC35-042F-49D1-8AC6-F6A5B71F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700B39-1997-4580-9CB2-132F15D7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1140D0-AF5E-489D-97E9-9162C870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124543-0FF6-4E35-A64F-0653CF0D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EC5A79-ABD4-4590-A0E4-6C2F2B0C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E72A13-F0DA-4741-BBEC-25C17BC3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513F70-D199-4CD8-B0F5-8BBE2EA9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5F8083-15C4-4471-83CD-1D6939AA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713EF36-1BD4-4E77-BBEF-72374CBF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6315-B92A-4421-8810-CD39F272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F61A7F0-17F5-4972-87A1-798BA4C5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4C26D5-D8CC-4D26-8462-DBED81E1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DB63FFB-FA79-4C48-A85F-AD1F43A2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C1121F-7FB2-4CE0-A8AF-BAE93B19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DE5567-DE58-4917-B250-8AC8C6E3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C49D4D-A0F6-4947-81AD-7E982F46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B88C19-61D9-4EC9-9508-1302882A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8E1F1C-E837-4DAD-BC92-B22915AA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6E01BC-21AD-45F8-A470-7B889A70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BD8FD1-7EA3-44F9-8A7B-501980D4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F5D0-1F8C-4A8D-93DA-E00E6150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17A421-299D-4F50-AB14-DD07C281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B3A947-C3EC-4A57-A6DD-2EA66B0E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09925C8-3EEC-4BA2-B9E7-41E60154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6C74AC-77D4-43CC-91E7-20D23709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A0A73F-B748-4F9C-B468-B8BC3FB0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BE586B-87E7-4C0F-BB56-1AA0B97A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762238-BA9B-4414-ADCE-EE8BC04C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BF9A26-59D5-4A85-8CF0-F39F8AB9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564DA9-073B-4DE8-B55A-BCC1FF8F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3A7B02-C5AB-4370-9184-74007226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CD44-A2B4-487B-98F9-01896235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436A63-249B-4902-83A6-6D64A0C0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FFDF-E291-4912-977E-B97B9FFE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4FE-BC0A-4650-B438-510ACF46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BEF6-00BE-40EE-9C4D-992853B6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93E6-A8D9-4598-964F-83D306A1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884F-9D33-4BDF-A851-67AE43C8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6A04-175A-4960-8930-21FE3F2B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C736-6D6A-412A-8C6C-920F1FB8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A58B3-2864-4EF0-9E99-E511D25360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D4758-BDFD-4159-B421-937F2860FD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47CC1F-F967-4424-BA9E-810673700C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9F5AEE-730D-4C16-8370-0877881873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388D1-6EF9-4F49-A121-D7D2802C2D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616-5722-4984-9B18-219AED40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9D9C4-A100-4AE6-8222-68C42C1AC7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CFD9F-8E77-42EE-9D99-9F551DE742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8C547-8249-4704-B5AF-B0BF8B9F42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C759D6-B876-4A1A-A9FC-F2546211DB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E301D4-9A4B-4AFD-892D-B8181BB667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27C70-C2B7-4141-B051-7651218803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04996-63C1-4568-9068-031658B20E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C4C1E9-E50E-4B9F-AA0E-A4CBC723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4BBB48-F8B6-4D10-ABD0-4288F12E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49487B-D7E8-48CD-BEC6-75249E15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EDE-388D-479B-80E0-0D16E259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8020FB-19AB-45EF-8F97-52694BCC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97B7B6-5E71-407E-B1C9-56DE7149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2A9030-5EB0-40B2-9085-1788CE29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4D20BA-B6D5-4F75-922C-2EAD4DF1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0D594A-F8A0-4533-9C96-CC2336A0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6BEF4F-C784-420B-A498-959E8241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0897B-F779-4E41-AF9D-E99FBAF4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2CC07D-2A49-408A-A9D4-D66A2A73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DF2907-AC23-44DD-9101-7AAB4133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876399-1E25-4B49-89A7-EF0B7800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85B7-BE22-4AAC-BB10-C6DA10E6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22627-9756-402F-B7FF-D07CD90C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0B9245-148A-443A-894A-FAA3C5E3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96212-51DB-47A8-8EB1-A5BE53BF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1EB00B-AC6D-4787-ACEF-A0944E99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61E8E0-E139-4C74-85BA-45733AEF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99FA4-2A0F-4C0A-9148-1EE45281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E23674-DE39-4BF8-9992-F49CFDD9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EE154-C8DD-4697-8C41-268551C1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698775-D691-4620-826E-B2E41FBF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4EAA50-B8A4-4794-AFCC-778465B0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860-DACD-4F47-8151-8DA3CE41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9624B-E01A-4C98-BB1C-DE23FB5F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9BB5E3-FB7E-48D6-BDAD-1CC02C1C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3EAF84-1C66-48CC-93D8-7EEE6F34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19385-BD77-41DA-8F08-573A6BE1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5D0329-4B5B-42CB-A148-C8D7F039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1CBB7-7959-4CF7-8520-83D06EE3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E64184-8AA5-4835-8833-A5A93B83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FFF9BF-FA0B-44E8-A8EC-DBB6962E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72562E-0C92-4B30-BD68-B4D5F9EE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C76858-EAFC-406E-A73A-246A1740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9D7A-7BD8-4F05-B332-2F5C8811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32FC76-63FA-4B16-8D31-97436C82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061950-518A-40E9-9297-86B2EF8F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D861A9-E19A-4398-8360-92CBA693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431300-6F68-4720-9021-F41BE6FD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A5910D-FB09-46C5-BBCA-61232645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9B130B-4D83-4AE9-A74B-5CE11FEF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BF4E86-4F65-4CED-96C9-EB9C896B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1A35A3-1A27-480F-85A2-83516C6B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94299B-2C43-442E-9F06-BA6ABEA7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AFAA41-9CFE-4A95-B2BB-FEE4A536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84B9-D604-42FC-A362-2E3DAD49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CD71DD-42B0-49BB-B700-5369151A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878962-CB85-4D92-A9FE-02A9009A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E53A1D-6558-4918-AE55-33E5CEC5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2412D0-9BEA-41AD-97CA-A508DA77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2A4C2E-57BD-44D5-816B-C3961B1D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3F2628-4F9D-4463-878D-F54979B6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3C54CA-48F2-452A-8297-A071F3B2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0BAC7D-B7C8-4932-9383-D8E08794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1A009A-D8C3-4742-986B-04D6F5B2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0691F6-CB5F-479F-8673-7CA67CD6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81B-D382-4ACE-8084-7FD3A301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3DAAA3-F807-41FB-8093-35E87529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246BCB-26A7-456B-9A6C-B8FFB45B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0F8316-5732-4078-875B-52695BAD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62D6DB-1486-4BD9-A2DD-4FA7A019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F2BD0D-5223-4772-B8D8-7FF5FCC2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579329-B562-4BF0-8B99-184AFDAC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3640C9-9B8B-42B0-8ACE-1D8B6FA2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EB339C-F7B1-4D9B-A672-6169FE82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105445-B4D0-4ED5-B641-E51905FF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142B95-7FB7-4034-AE7A-5AE3A154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2739-DA45-4A4E-8F61-9BACD5C42280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56B8-F71C-418C-BCE8-BDFBD4C1530F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7900-B358-4CCA-BEFA-61BE12C4DC84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9421-12CA-4D4D-B97F-742E963C615D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3ABF-B7E9-45E2-A8BE-36F993E70C30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F00C-4E4B-4D31-9206-7ECB04246F1C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AB0F-55F7-46A9-AF9A-7AEEBD111B1D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8AC0-A50A-4626-B8BF-EB7AE5E0C233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2923-E7E7-4DC4-A1F2-CA9259522167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41D5-E3D5-401D-AA42-1B72C0088F97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5F3A-436E-46F8-B0D4-7FDCCE10A84D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C42B-F413-471E-826B-E6AAC9E8E133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9751-9CBC-4830-86D1-93E62AEAD3D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E80B-EA3D-4ED0-A582-48BF747C3740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EEC4-D045-47ED-9E69-68376E56EB82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2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6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4198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image" Target="../media/image40.png"/><Relationship Id="rId5" Type="http://schemas.openxmlformats.org/officeDocument/2006/relationships/hyperlink" Target="http://www.nms.tsn.at/wettbewerb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NMS-Quest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4"/>
          <p:cNvSpPr/>
          <p:nvPr/>
        </p:nvSpPr>
        <p:spPr>
          <a:xfrm>
            <a:off x="399960" y="449280"/>
            <a:ext cx="46483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40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1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2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3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4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5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6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47" name="Grafik 2" descr=""/>
          <p:cNvPicPr/>
          <p:nvPr/>
        </p:nvPicPr>
        <p:blipFill>
          <a:blip r:embed="rId5"/>
          <a:stretch/>
        </p:blipFill>
        <p:spPr>
          <a:xfrm>
            <a:off x="512640" y="3284640"/>
            <a:ext cx="2303640" cy="1106280"/>
          </a:xfrm>
          <a:prstGeom prst="rect">
            <a:avLst/>
          </a:prstGeom>
          <a:ln w="0">
            <a:noFill/>
          </a:ln>
        </p:spPr>
      </p:pic>
      <p:pic>
        <p:nvPicPr>
          <p:cNvPr id="748" name="Grafik 3" descr=""/>
          <p:cNvPicPr/>
          <p:nvPr/>
        </p:nvPicPr>
        <p:blipFill>
          <a:blip r:embed="rId6"/>
          <a:stretch/>
        </p:blipFill>
        <p:spPr>
          <a:xfrm>
            <a:off x="539640" y="4689360"/>
            <a:ext cx="4368960" cy="700200"/>
          </a:xfrm>
          <a:prstGeom prst="rect">
            <a:avLst/>
          </a:prstGeom>
          <a:ln w="0">
            <a:noFill/>
          </a:ln>
        </p:spPr>
      </p:pic>
      <p:pic>
        <p:nvPicPr>
          <p:cNvPr id="749" name="Grafik 5" descr=""/>
          <p:cNvPicPr/>
          <p:nvPr/>
        </p:nvPicPr>
        <p:blipFill>
          <a:blip r:embed="rId7"/>
          <a:stretch/>
        </p:blipFill>
        <p:spPr>
          <a:xfrm>
            <a:off x="512640" y="5726160"/>
            <a:ext cx="1849680" cy="601560"/>
          </a:xfrm>
          <a:prstGeom prst="rect">
            <a:avLst/>
          </a:prstGeom>
          <a:ln w="0">
            <a:noFill/>
          </a:ln>
        </p:spPr>
      </p:pic>
      <p:pic>
        <p:nvPicPr>
          <p:cNvPr id="750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sp>
        <p:nvSpPr>
          <p:cNvPr id="751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52" name="Picture 19" descr=""/>
          <p:cNvPicPr/>
          <p:nvPr/>
        </p:nvPicPr>
        <p:blipFill>
          <a:blip r:embed="rId9"/>
          <a:stretch/>
        </p:blipFill>
        <p:spPr>
          <a:xfrm>
            <a:off x="539640" y="2233440"/>
            <a:ext cx="2247840" cy="76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9964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Viel Erfolg!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474747"/>
                </a:solidFill>
                <a:latin typeface="Calibri"/>
              </a:rPr>
              <a:t>Informationen zum Wettbewerb „NMS-Quest“</a:t>
            </a:r>
            <a:endParaRPr b="0" lang="en-US" sz="31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 Schule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2" name="Grafik 5" descr=""/>
          <p:cNvPicPr/>
          <p:nvPr/>
        </p:nvPicPr>
        <p:blipFill>
          <a:blip r:embed="rId2"/>
          <a:stretch/>
        </p:blipFill>
        <p:spPr>
          <a:xfrm rot="2223000">
            <a:off x="1098720" y="4437000"/>
            <a:ext cx="190476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5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6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/Thema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7" name="Grafik 5" descr=""/>
          <p:cNvPicPr/>
          <p:nvPr/>
        </p:nvPicPr>
        <p:blipFill>
          <a:blip r:embed="rId2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3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4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690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91" name="Rechteck 2" descr=""/>
          <p:cNvPicPr/>
          <p:nvPr/>
        </p:nvPicPr>
        <p:blipFill>
          <a:blip r:embed="rId5"/>
          <a:stretch/>
        </p:blipFill>
        <p:spPr>
          <a:xfrm>
            <a:off x="1420920" y="1365120"/>
            <a:ext cx="4383000" cy="1365480"/>
          </a:xfrm>
          <a:prstGeom prst="rect">
            <a:avLst/>
          </a:prstGeom>
          <a:ln w="0">
            <a:noFill/>
          </a:ln>
        </p:spPr>
      </p:pic>
      <p:pic>
        <p:nvPicPr>
          <p:cNvPr id="692" name="Grafik 4" descr=""/>
          <p:cNvPicPr/>
          <p:nvPr/>
        </p:nvPicPr>
        <p:blipFill>
          <a:blip r:embed="rId6"/>
          <a:stretch/>
        </p:blipFill>
        <p:spPr>
          <a:xfrm>
            <a:off x="6489720" y="736560"/>
            <a:ext cx="175248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Telfs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5" name="Group 3"/>
          <p:cNvGrpSpPr/>
          <p:nvPr/>
        </p:nvGrpSpPr>
        <p:grpSpPr>
          <a:xfrm>
            <a:off x="6270480" y="2565360"/>
            <a:ext cx="2644920" cy="3264120"/>
            <a:chOff x="6270480" y="2565360"/>
            <a:chExt cx="2644920" cy="3264120"/>
          </a:xfrm>
        </p:grpSpPr>
        <p:sp>
          <p:nvSpPr>
            <p:cNvPr id="696" name="Rectangle 14"/>
            <p:cNvSpPr/>
            <p:nvPr/>
          </p:nvSpPr>
          <p:spPr>
            <a:xfrm>
              <a:off x="6597360" y="2565360"/>
              <a:ext cx="2318040" cy="3264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7" name="TextBox 7"/>
            <p:cNvSpPr/>
            <p:nvPr/>
          </p:nvSpPr>
          <p:spPr>
            <a:xfrm>
              <a:off x="6672960" y="2652480"/>
              <a:ext cx="2166120" cy="30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595959"/>
                  </a:solidFill>
                  <a:latin typeface="Calibri"/>
                </a:rPr>
                <a:t>Siegerklasse 1F des Wettbewerbs WebQuest@Home 2011</a:t>
              </a:r>
              <a:endParaRPr b="0" lang="en-US" sz="20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8" name="Straight Connector 18"/>
            <p:cNvSpPr/>
            <p:nvPr/>
          </p:nvSpPr>
          <p:spPr>
            <a:xfrm>
              <a:off x="6270480" y="49611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9" name="Picture 11" descr="siegerfoto_telfs_weissenbach_1"/>
          <p:cNvPicPr/>
          <p:nvPr/>
        </p:nvPicPr>
        <p:blipFill>
          <a:blip r:embed="rId3"/>
          <a:stretch/>
        </p:blipFill>
        <p:spPr>
          <a:xfrm>
            <a:off x="1531800" y="19890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Umsetzung/Präsentati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1" name="Grafik 13" descr=""/>
          <p:cNvPicPr/>
          <p:nvPr/>
        </p:nvPicPr>
        <p:blipFill>
          <a:blip r:embed="rId2"/>
          <a:stretch/>
        </p:blipFill>
        <p:spPr>
          <a:xfrm rot="20013000">
            <a:off x="7615080" y="8600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702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Rechteck 4"/>
          <p:cNvSpPr/>
          <p:nvPr/>
        </p:nvSpPr>
        <p:spPr>
          <a:xfrm>
            <a:off x="1619280" y="2706840"/>
            <a:ext cx="691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räsentation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der Schule (Bilder und Tex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Diashow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über die Schule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Videoclip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Kurzfilm, max. 3 Minuten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odcas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Jingle, Interview, Lied, Hörspie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Tex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Geschichte, Ereignis …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Fotostory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Bildgeschich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Schul-Quiz 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(Quiz über eigene Schul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Zeichnung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laka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4" name="Rechteck 6" descr=""/>
          <p:cNvPicPr/>
          <p:nvPr/>
        </p:nvPicPr>
        <p:blipFill>
          <a:blip r:embed="rId3"/>
          <a:stretch/>
        </p:blipFill>
        <p:spPr>
          <a:xfrm>
            <a:off x="1274760" y="1365120"/>
            <a:ext cx="663732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06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8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9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1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71800" y="169992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Klassen der </a:t>
            </a:r>
            <a:br>
              <a:rPr sz="4000"/>
            </a:b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Neuen Mittelschule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Moodle-Instanz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4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16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8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9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21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36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/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hteck 5"/>
          <p:cNvSpPr/>
          <p:nvPr/>
        </p:nvSpPr>
        <p:spPr>
          <a:xfrm>
            <a:off x="5435640" y="1562040"/>
            <a:ext cx="3097080" cy="35956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26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27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9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30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32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Tablet-PC</a:t>
            </a:r>
            <a:br>
              <a:rPr sz="3600"/>
            </a:br>
            <a:r>
              <a:rPr b="0" lang="de-AT" sz="3600" spc="-1" strike="noStrike">
                <a:solidFill>
                  <a:srgbClr val="7f7f7f"/>
                </a:solidFill>
                <a:latin typeface="Calibri"/>
              </a:rPr>
              <a:t>Kamera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Textfeld 4"/>
          <p:cNvSpPr/>
          <p:nvPr/>
        </p:nvSpPr>
        <p:spPr>
          <a:xfrm>
            <a:off x="5580000" y="1557360"/>
            <a:ext cx="30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22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NMS eLearning Symposium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2-01-22T19:25:18Z</dcterms:modified>
  <cp:revision>1</cp:revision>
  <dc:subject/>
  <dc:title/>
</cp:coreProperties>
</file>