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6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40.png" ContentType="image/png"/>
  <Override PartName="/ppt/media/image32.png" ContentType="image/png"/>
  <Override PartName="/ppt/media/image33.png" ContentType="image/png"/>
  <Override PartName="/ppt/media/image14.jpeg" ContentType="image/jpeg"/>
  <Override PartName="/ppt/media/image41.png" ContentType="image/png"/>
  <Override PartName="/ppt/media/image43.jpeg" ContentType="image/jpeg"/>
  <Override PartName="/ppt/media/image45.jpeg" ContentType="image/jpeg"/>
  <Override PartName="/ppt/media/image46.png" ContentType="image/png"/>
  <Override PartName="/ppt/media/image31.png" ContentType="image/png"/>
  <Override PartName="/ppt/media/image47.jpeg" ContentType="image/jpeg"/>
  <Override PartName="/ppt/media/image36.png" ContentType="image/png"/>
  <Override PartName="/ppt/media/image48.png" ContentType="image/png"/>
  <Override PartName="/ppt/media/image37.png" ContentType="image/png"/>
  <Override PartName="/ppt/media/image44.jpeg" ContentType="image/jpeg"/>
  <Override PartName="/ppt/media/image39.png" ContentType="image/png"/>
  <Override PartName="/ppt/media/image9.png" ContentType="image/png"/>
  <Override PartName="/ppt/media/image12.jpeg" ContentType="image/jpeg"/>
  <Override PartName="/ppt/media/image34.png" ContentType="image/png"/>
  <Override PartName="/ppt/media/image49.png" ContentType="image/png"/>
  <Override PartName="/ppt/media/image30.jpeg" ContentType="image/jpeg"/>
  <Override PartName="/ppt/media/image13.jpeg" ContentType="image/jpeg"/>
  <Override PartName="/ppt/media/image23.png" ContentType="image/png"/>
  <Override PartName="/ppt/media/image8.png" ContentType="image/png"/>
  <Override PartName="/ppt/media/image38.png" ContentType="image/png"/>
  <Override PartName="/ppt/media/image6.jpeg" ContentType="image/jpeg"/>
  <Override PartName="/ppt/media/image10.jpeg" ContentType="image/jpeg"/>
  <Override PartName="/ppt/media/image28.png" ContentType="image/png"/>
  <Override PartName="/ppt/media/image7.jpeg" ContentType="image/jpeg"/>
  <Override PartName="/ppt/media/image50.png" ContentType="image/png"/>
  <Override PartName="/ppt/media/image5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dt" idx="4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ftr" idx="4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 type="sldNum" idx="4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163F-485C-46A8-B86D-91AE0B4107A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iese Präsentation veranschaulicht die neuen Fähigkeiten von PowerPoint. Betrachten Sie sie am besten als Diashow. Diese Folien sollen Ihnen als Anregung zur Gestaltung eigener Präsentationen in PowerPoint 2010 dien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eitere Beispielvorlagen können Sie anzeigen, indem Sie auf die Registerkarte Datei und dann auf der Registerkarte Neu auf Beispielvorlagen klic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2933-FA2A-4D0C-B31A-168CC26EF46E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8EC8-82AA-4A6A-930C-D600B48E314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6860-B7DC-4A9E-9315-7F018C63A9B2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4BE9-B648-4429-A9B0-B9B0C527E35D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BD0C-64F3-49BF-9C5C-80B063DA6685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1486-DAC8-453F-9882-C149612C8C2C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DC15-3486-4EEE-8C23-CD8A78EC04E2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A2DF-043F-4A80-8623-379E0BC83733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4367-CE87-4761-BA0D-CF0DA5C6236D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AB2E-F68C-41F8-BBA6-2E51BC4B58E9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2983-2F8C-4A6B-A2EC-89433DFC7035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E35D-7568-42F5-A49F-674E9C5F4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B8F1-7329-485A-B95E-FA5EA389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136273-F0B2-40AD-81DC-BF4B9BB2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C78167-BAF2-4471-A0C4-69D0291C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60FB08-9A33-4010-BCD6-68D754E6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C60128-CFE1-41DA-BC01-05120846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06251F-6267-450D-B07B-51AD3B92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22B07C-BE8E-49FA-8449-BBE975FF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1D8077-F08C-4E2E-BE66-640F3EC5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5E0554-F6E1-4A8F-830F-98588FD36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F20402-A5C7-4FD8-A2CF-4C93C8768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407F95-BC82-4CA9-85FE-286D1462A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ADF4-B12E-45B8-BF96-520F192F3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E76CE4-8CBC-4CFF-BD02-B0D97495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81C9F8-E1EB-49C3-BB62-DCE8CEF6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91293F-31AC-48AE-A180-8E9F12C9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CDE773-28BF-40A8-9D38-88FB8FEE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99D038-EDC2-4028-B668-C85680C4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736322-2654-46C0-BE90-C52F2FCA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74AE6C-3CB3-4B44-932F-D316C67D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28A9A2-51D6-43B7-BDD0-A9E2CA6F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B8840E-7321-49E5-80C6-91D2D5C5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C41E68-DE94-4A82-BAC8-53432DD15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3319-1A35-4D03-84D9-DC95E02E3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87AC55-20EC-42A3-BC2F-948E56526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521F3FB-3AC9-4B52-8048-924770EC9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771DA74-A4C0-4F15-89E2-A1AC070A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00E8A3E-60B6-4263-A068-53142409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3D67F74-F699-431C-B1CA-E016B942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425689E-32CD-46F6-84B5-48B54EB8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E3430BB-9CB0-424C-892B-6FDCA71D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097B6CE-FC21-425C-85B9-7C980C5E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E01D990-093B-418D-A489-BDA9CC5D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1AA463-4C11-4251-86B6-9E1255D3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D947D-352D-41DC-9341-2394AD22F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A6D8122-2438-4B23-A292-43CFC782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0E0BA7D-7653-4475-928A-C0B98845E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A47223C-F058-42A5-856D-3F2210B26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EBE5B8C-DD43-4CDF-BCBB-8ADE7F3A0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17EF4CA-3AC6-4EE4-8C7F-B3CA30D0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95533B8-F11C-4268-9CD2-D70451AF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0187596-1805-4A5C-8EC4-427208F1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6EA4487-8EB2-46A6-876F-3409D699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4C6320F-62F2-4930-B870-E81B51CB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5F92D37-663E-4BC6-997E-BAE2B091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50BC-0FC1-4DE5-8269-EF2D0B18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77363AD-A7A8-4A47-B143-B36AA76F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597453F-211E-441A-BAFE-FC5E1160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5BDEE58-20BF-4417-92BE-C8E23A31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116C2E9-CB4E-4631-84E4-267979854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F4ADC89-C641-4C09-B591-5A9B87D2D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3B62D13-60E8-4F29-8B07-40D6004A7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ABDC478-5E94-4946-9FCE-3F5E353A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670718-396C-40B6-86AB-D76675FF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B98962-20D8-4C32-B644-18B423A2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9D09F8-C2A8-4050-8346-C55B4C5F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6124-ABF5-4A76-B8DC-B475F5C1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CDFA8BB-B47E-41E3-A72B-10046E3B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6033942-4BFB-4176-AC4C-95B069F9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C805D8B-762A-46C2-8173-F418DDE9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744AF42-7B66-4BE5-8AAA-78E9DA7D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84B6F9D-AE51-4C95-BE6E-B7B10739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BD92BCE-9DAE-4737-8FF6-1991069D5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EAE92AA-78B4-4126-9FBC-5E7C663E3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C6C6386-319F-4263-A0EA-DA08D1337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88DBDCE-D462-49B2-B78A-BE41929A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9BE3F4C-2D5F-49C0-8BA9-B202DFDF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06F0-25E1-4853-90B0-6E245DE8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9A0EE68-F72E-416A-9C8A-BCAD3630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BB1F283-E2E3-4553-8696-3ED00677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F8AAC86-AA75-438A-90C6-10F72F55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824D501-1857-4E0A-9809-5E545CB7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781FBB0-7670-4E2F-8722-62882EAB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ED6B7E6-4EDE-44D3-AA7D-D09FEBC7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A8BE3E9-D9F3-45C4-9657-9C7B924E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10581E8-4FD4-4093-A52C-1C4D86556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212FC20-5291-476E-8759-1B2EEB124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0CF4EAF-E8E2-4A7B-AD0E-DFAB9F88E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51D00-5581-4DC4-A691-102060D1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E553090-4AF2-4FBA-A46A-6F3DE451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D89837F-5FC2-4CA9-826B-FC8FF17B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A639FA8-B72B-4411-88E6-8C0AB260B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70CA0C6-BEB0-4F35-B466-85A72B38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7B4DC75-F108-4013-BE0F-FD940A5C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A2A80FF-818D-4581-A65A-E1747781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E384D74-D869-4553-A266-0B2E13EE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0756EE7-A6E9-4494-8D15-682046B0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D3A2B8B-C2A9-4A9E-BEF0-A1CFD4C0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D6E28DC-F90D-487F-AE61-8B30690C2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B09C5-39F1-423A-87F7-11EB1F4A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AFFD683-3C99-44E9-B77F-6C1D3F25B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56B4-AB3B-4850-A47C-A65AA5B3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6A44-BA5E-452F-83CC-92A75644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BEA4-1C4E-43F4-BC0A-B0082342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2D2A-5B07-4208-AF71-05BF8E77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6C22-3F15-4C19-80F1-8027920A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6128-088D-47E5-9565-7792A5A77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53EF-D44E-466F-9991-1E1515333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201DE0-AD76-4C36-A1EF-F473E92070B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3CC4A8-BA81-44CE-B742-2DFBE1EEF7C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E8E161-6AB1-4595-86F2-FA282B304E7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D2D0B7-8325-4A33-BE9F-C88BD508377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6497A7-6E93-46F5-8A67-88B16843DE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DA0C-0B50-4ED7-8FBB-1696F715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39E705-AAF2-46EC-9A12-26882BE268D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DB88D9-873E-418B-91EB-ECDAFED27F0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58F8B6-2E3B-4828-81BA-B5CEE22A2D3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A79352-687D-4B8D-8F55-FE196384EF0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A3FA27-2AC2-4380-B790-C10636F523B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56EF4A-404D-4271-A103-EA962CF06FE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9854F3-6B0C-422D-A514-4E98A40804A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41F69B-5D94-401C-AC55-96F1C3B44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9C3A5B-D5BE-431C-B080-2DB09EB5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B9A06C-D10C-42DB-B365-271DCBCD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EEF4-B103-456B-A772-CC2F0F91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EB2704-9033-4586-AFF7-7899C0CC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88A206-277A-4FF3-BC71-AABC4FEF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D48BFF-A626-4EBD-875F-0D913536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803AA3-DA37-49B0-A9D8-8B65AB53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5D5474-5CA4-42DC-B544-6E6AEFA4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A9C257-1BC5-4266-82ED-9843A1D5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A4977C-197F-475F-A079-FBB509F1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06FFCA-2655-46D3-89E5-FEB47518D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144251-76B7-402A-9B78-3BAD4A54F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1BE5E5-9F29-4E64-B8A7-D60846611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1744-DEDC-4413-A86C-6A6AE32C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47E298-6D99-4219-BE11-EE0FB697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BF469D-2818-4346-80BE-1D659185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B74D2E-764E-4787-8313-91F27E14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845A01-2DBE-4700-A90C-053BEB35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16B91C-6A0E-46A6-8E92-984A8837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89BE31-37BD-49A0-B938-76E4C65D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BDA0A1-A14C-4EF3-9BFB-AF308956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88112C-45F9-4B4F-A7F9-F52A54F4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97278C-E7C4-4214-808B-A8513AF6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2A53D5-8250-4B1D-BAE7-24435C7EA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D1F8-9EEF-47CC-ADF3-ACEE3EAF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1B167C-9719-4BD9-BE01-B3724B647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A668F9-1C87-496D-BCDE-7E16621B6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8589C0-E3B9-4B8D-B9AC-CDCE6F71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C97CCD-578F-4A8F-99C2-E83F6816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42422D-8C8E-494A-B1D4-73B48CAF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9795F7-6092-4C5E-96DE-EBA22F27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390C0B-20A5-4042-8C9D-51A604DA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2C0A22-271F-4619-86BC-26BBA6E6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922C0D-125B-4A6E-AF83-7D3DC35A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BFDB12-6F31-4516-9A12-B84E5BD2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2801-F476-45AB-B424-BCECA84B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DCF066-8B7E-4F68-BC6E-301765E2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545D6A-6EB9-4ED6-B9EF-70C4A8B72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0008EB-95D5-426E-90BA-EDBFB6C3E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D319F2-3555-4600-8570-7593D0F44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D0D3ED-EE39-4B1C-8B5A-92BEB95D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5750AE-7EAA-4616-A93C-CE3CCAD4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33FA9F-034D-47E9-B552-E7069043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95B327-EC0C-495C-97BD-689722DC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990B52-CF6A-443E-881A-46E67998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90EFA9-044E-45E3-8F76-BE1D5D10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0A38-4E63-46D7-A31A-D171151B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D012EE-C49E-4E9D-8F95-0B73303E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F050A7-8686-4D4A-B0DD-9A78D6E0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CB7E97-E5B5-4E53-BB8C-4E075069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C86BCE-663C-4D9A-8202-53BA87774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9FAC76-75FD-4DF5-8AE2-AB9D5FBA6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913D29-CAA8-4463-956D-F8CAA6540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64D515-6D57-479F-A07B-5305240C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267A32-7222-4615-832C-1E09511C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121E98-929C-4C35-B432-407D58D4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19CBF0-FF99-4C55-9131-518DE86C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0174-90F8-4D4C-A87B-AF22CC75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633EDB-ECD0-487B-8247-FBF4ACD4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C1444D-81FD-4580-8F16-658EE791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8204CA-F9FF-4839-99FB-141A73F0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4DB784-4099-4B8A-9F6D-92343401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A110F7-F885-4694-AD14-1B42060F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FD23C6-CB67-4339-A648-953750B8F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15EA6A-0B08-433D-A58B-69FD577C0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21C9ED-3A85-47E2-890F-55D1CF94B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069C56-30ED-48B6-8A76-B77D43D6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2FDB48-0080-4BA9-BE68-5A9B629F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B617-55AE-4A76-9E9B-9E7BED89B162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F0C2-A77E-4DE8-8C9E-B713DAA94B6D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5"/>
          <p:cNvSpPr/>
          <p:nvPr/>
        </p:nvSpPr>
        <p:spPr>
          <a:xfrm>
            <a:off x="595440" y="4800600"/>
            <a:ext cx="487332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2EDC-97DA-4240-946F-E73FB782249E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1792440" y="4800600"/>
            <a:ext cx="550044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4BF8-EC87-4BC7-A88A-DCE132745711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0D8C-CF15-4829-9C67-80B71AE4AC1D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9B7D-54BC-4BE3-83A3-EEE6277870E1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4" descr=""/>
          <p:cNvPicPr/>
          <p:nvPr/>
        </p:nvPicPr>
        <p:blipFill>
          <a:blip r:embed="rId2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6985-6F1F-4891-83F8-16E53392DBC8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20520" y="20520"/>
            <a:ext cx="3498840" cy="2826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3503520" y="20520"/>
            <a:ext cx="5624640" cy="2826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4"/>
          <a:stretch/>
        </p:blipFill>
        <p:spPr>
          <a:xfrm>
            <a:off x="20520" y="2817720"/>
            <a:ext cx="7669440" cy="2297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5"/>
          <a:stretch/>
        </p:blipFill>
        <p:spPr>
          <a:xfrm>
            <a:off x="7662960" y="2819520"/>
            <a:ext cx="1460520" cy="2293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6"/>
          <a:stretch/>
        </p:blipFill>
        <p:spPr>
          <a:xfrm>
            <a:off x="20520" y="5089680"/>
            <a:ext cx="9097920" cy="17380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3"/>
          <p:cNvSpPr/>
          <p:nvPr/>
        </p:nvSpPr>
        <p:spPr>
          <a:xfrm>
            <a:off x="8755200" y="2470320"/>
            <a:ext cx="304560" cy="152280"/>
          </a:xfrm>
          <a:prstGeom prst="rect">
            <a:avLst/>
          </a:prstGeom>
          <a:solidFill>
            <a:srgbClr val="f2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B74B-E60E-4C33-A650-400BEFF3CDBD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Oval 6"/>
          <p:cNvGrpSpPr/>
          <p:nvPr/>
        </p:nvGrpSpPr>
        <p:grpSpPr>
          <a:xfrm>
            <a:off x="706320" y="1944720"/>
            <a:ext cx="2170080" cy="2773440"/>
            <a:chOff x="706320" y="1944720"/>
            <a:chExt cx="2170080" cy="2773440"/>
          </a:xfrm>
        </p:grpSpPr>
        <p:pic>
          <p:nvPicPr>
            <p:cNvPr id="90" name="Oval 6" descr=""/>
            <p:cNvPicPr/>
            <p:nvPr/>
          </p:nvPicPr>
          <p:blipFill>
            <a:blip r:embed="rId3"/>
            <a:stretch/>
          </p:blipFill>
          <p:spPr>
            <a:xfrm>
              <a:off x="706320" y="1944720"/>
              <a:ext cx="2170080" cy="27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92" name="Rectangle 7"/>
          <p:cNvSpPr/>
          <p:nvPr/>
        </p:nvSpPr>
        <p:spPr>
          <a:xfrm>
            <a:off x="8686800" y="526572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93" name="Oval 8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94" name="Oval 8" descr=""/>
            <p:cNvPicPr/>
            <p:nvPr/>
          </p:nvPicPr>
          <p:blipFill>
            <a:blip r:embed="rId4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F4690-0226-4800-AAF4-2EDFEA724F37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6" descr=""/>
          <p:cNvPicPr/>
          <p:nvPr/>
        </p:nvPicPr>
        <p:blipFill>
          <a:blip r:embed="rId3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EB3C-312E-4AA9-96AA-5709E90BC5AE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6" descr=""/>
          <p:cNvPicPr/>
          <p:nvPr/>
        </p:nvPicPr>
        <p:blipFill>
          <a:blip r:embed="rId3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4DA1-6D57-4B06-9DEC-668AA5E2B09A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88DCF-AD78-4465-B5CE-407DF8ED8069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5" descr=""/>
          <p:cNvPicPr/>
          <p:nvPr/>
        </p:nvPicPr>
        <p:blipFill>
          <a:blip r:embed="rId3"/>
          <a:stretch/>
        </p:blipFill>
        <p:spPr>
          <a:xfrm>
            <a:off x="0" y="762120"/>
            <a:ext cx="2444760" cy="2286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58CE-BDB5-4E10-B6FF-E2896FB0A83E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AF70-B69C-4259-9BC0-D1E8CFEF6974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Rectangle 6"/>
          <p:cNvGrpSpPr/>
          <p:nvPr/>
        </p:nvGrpSpPr>
        <p:grpSpPr>
          <a:xfrm>
            <a:off x="0" y="2895480"/>
            <a:ext cx="7547040" cy="2133720"/>
            <a:chOff x="0" y="2895480"/>
            <a:chExt cx="7547040" cy="2133720"/>
          </a:xfrm>
        </p:grpSpPr>
        <p:pic>
          <p:nvPicPr>
            <p:cNvPr id="34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2895480"/>
              <a:ext cx="754704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0" y="2895480"/>
              <a:ext cx="754380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B5B3-6A65-445B-A057-85815CC85F96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png"/><Relationship Id="rId6" Type="http://schemas.openxmlformats.org/officeDocument/2006/relationships/image" Target="../media/image47.jpe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slideLayout" Target="../slideLayouts/slideLayout169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4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69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2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69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s://portal.tirol.gv.at/moodle/course/view.php?id=4198" TargetMode="External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2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7.png"/><Relationship Id="rId3" Type="http://schemas.openxmlformats.org/officeDocument/2006/relationships/image" Target="../media/image9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9.png"/><Relationship Id="rId3" Type="http://schemas.openxmlformats.org/officeDocument/2006/relationships/image" Target="../media/image9.png"/><Relationship Id="rId4" Type="http://schemas.openxmlformats.org/officeDocument/2006/relationships/image" Target="../media/image40.png"/><Relationship Id="rId5" Type="http://schemas.openxmlformats.org/officeDocument/2006/relationships/hyperlink" Target="http://www.nms.tsn.at/wettbewerb" TargetMode="Externa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3733920" y="1315800"/>
            <a:ext cx="4952880" cy="141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c5c5c"/>
                </a:solidFill>
                <a:latin typeface="Calibri"/>
              </a:rPr>
              <a:t>eLearning-Wettbewerb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title"/>
          </p:nvPr>
        </p:nvSpPr>
        <p:spPr>
          <a:xfrm>
            <a:off x="228240" y="3048120"/>
            <a:ext cx="75121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de-DE" sz="5600" spc="-1" strike="noStrike">
                <a:solidFill>
                  <a:srgbClr val="ffffff"/>
                </a:solidFill>
                <a:latin typeface="Arial"/>
                <a:ea typeface="Arial"/>
              </a:rPr>
              <a:t>NMS-Quest</a:t>
            </a:r>
            <a:endParaRPr b="0" lang="en-US" sz="56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46" name="Grafik 1" descr=""/>
          <p:cNvPicPr/>
          <p:nvPr/>
        </p:nvPicPr>
        <p:blipFill>
          <a:blip r:embed="rId1"/>
          <a:stretch/>
        </p:blipFill>
        <p:spPr>
          <a:xfrm>
            <a:off x="3132000" y="5191200"/>
            <a:ext cx="19051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Box 4"/>
          <p:cNvSpPr/>
          <p:nvPr/>
        </p:nvSpPr>
        <p:spPr>
          <a:xfrm>
            <a:off x="399960" y="449280"/>
            <a:ext cx="4648320" cy="16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7bcf27"/>
                </a:solidFill>
                <a:latin typeface="Calibri"/>
              </a:rPr>
              <a:t>Zusammenarbei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37" name="Picture 11" descr=""/>
          <p:cNvPicPr/>
          <p:nvPr/>
        </p:nvPicPr>
        <p:blipFill>
          <a:blip r:embed="rId2"/>
          <a:stretch/>
        </p:blipFill>
        <p:spPr>
          <a:xfrm rot="198000">
            <a:off x="8012160" y="2846520"/>
            <a:ext cx="1031760" cy="228276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15" descr=""/>
          <p:cNvPicPr/>
          <p:nvPr/>
        </p:nvPicPr>
        <p:blipFill>
          <a:blip r:embed="rId3"/>
          <a:stretch/>
        </p:blipFill>
        <p:spPr>
          <a:xfrm>
            <a:off x="7416720" y="268200"/>
            <a:ext cx="1584360" cy="243864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17" descr=""/>
          <p:cNvPicPr/>
          <p:nvPr/>
        </p:nvPicPr>
        <p:blipFill>
          <a:blip r:embed="rId4"/>
          <a:stretch/>
        </p:blipFill>
        <p:spPr>
          <a:xfrm>
            <a:off x="6110280" y="357120"/>
            <a:ext cx="828720" cy="2133720"/>
          </a:xfrm>
          <a:prstGeom prst="rect">
            <a:avLst/>
          </a:prstGeom>
          <a:ln w="0">
            <a:noFill/>
          </a:ln>
        </p:spPr>
      </p:pic>
      <p:sp>
        <p:nvSpPr>
          <p:cNvPr id="740" name="Left-Right Arrow 18"/>
          <p:cNvSpPr/>
          <p:nvPr/>
        </p:nvSpPr>
        <p:spPr>
          <a:xfrm rot="5400000">
            <a:off x="6208560" y="2544480"/>
            <a:ext cx="685800" cy="425520"/>
          </a:xfrm>
          <a:prstGeom prst="leftRightArrow">
            <a:avLst>
              <a:gd name="adj1" fmla="val 50000"/>
              <a:gd name="adj2" fmla="val 49991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1" name="Left-Right Arrow 19"/>
          <p:cNvSpPr/>
          <p:nvPr/>
        </p:nvSpPr>
        <p:spPr>
          <a:xfrm rot="10800000">
            <a:off x="7486200" y="3868560"/>
            <a:ext cx="685800" cy="425520"/>
          </a:xfrm>
          <a:prstGeom prst="leftRightArrow">
            <a:avLst>
              <a:gd name="adj1" fmla="val 50000"/>
              <a:gd name="adj2" fmla="val 49991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2" name="Left-Right Arrow 20"/>
          <p:cNvSpPr/>
          <p:nvPr/>
        </p:nvSpPr>
        <p:spPr>
          <a:xfrm rot="7846800">
            <a:off x="7096680" y="2788200"/>
            <a:ext cx="820440" cy="425160"/>
          </a:xfrm>
          <a:prstGeom prst="leftRightArrow">
            <a:avLst>
              <a:gd name="adj1" fmla="val 50000"/>
              <a:gd name="adj2" fmla="val 50012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3" name="Oval 21"/>
          <p:cNvSpPr/>
          <p:nvPr/>
        </p:nvSpPr>
        <p:spPr>
          <a:xfrm>
            <a:off x="6462720" y="2490840"/>
            <a:ext cx="182520" cy="18252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4" name="Oval 22"/>
          <p:cNvSpPr/>
          <p:nvPr/>
        </p:nvSpPr>
        <p:spPr>
          <a:xfrm>
            <a:off x="6488280" y="3994200"/>
            <a:ext cx="182520" cy="18396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5" name="Oval 23"/>
          <p:cNvSpPr/>
          <p:nvPr/>
        </p:nvSpPr>
        <p:spPr>
          <a:xfrm>
            <a:off x="6488280" y="3994200"/>
            <a:ext cx="182520" cy="18252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6" name="Oval 24"/>
          <p:cNvSpPr/>
          <p:nvPr/>
        </p:nvSpPr>
        <p:spPr>
          <a:xfrm>
            <a:off x="7916760" y="3994200"/>
            <a:ext cx="184320" cy="183960"/>
          </a:xfrm>
          <a:prstGeom prst="ellipse">
            <a:avLst/>
          </a:prstGeom>
          <a:solidFill>
            <a:srgbClr val="7bc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47" name="Grafik 2" descr=""/>
          <p:cNvPicPr/>
          <p:nvPr/>
        </p:nvPicPr>
        <p:blipFill>
          <a:blip r:embed="rId5"/>
          <a:stretch/>
        </p:blipFill>
        <p:spPr>
          <a:xfrm>
            <a:off x="512640" y="3284640"/>
            <a:ext cx="2303640" cy="1106280"/>
          </a:xfrm>
          <a:prstGeom prst="rect">
            <a:avLst/>
          </a:prstGeom>
          <a:ln w="0">
            <a:noFill/>
          </a:ln>
        </p:spPr>
      </p:pic>
      <p:pic>
        <p:nvPicPr>
          <p:cNvPr id="748" name="Grafik 3" descr=""/>
          <p:cNvPicPr/>
          <p:nvPr/>
        </p:nvPicPr>
        <p:blipFill>
          <a:blip r:embed="rId6"/>
          <a:stretch/>
        </p:blipFill>
        <p:spPr>
          <a:xfrm>
            <a:off x="539640" y="4689360"/>
            <a:ext cx="4368960" cy="700200"/>
          </a:xfrm>
          <a:prstGeom prst="rect">
            <a:avLst/>
          </a:prstGeom>
          <a:ln w="0">
            <a:noFill/>
          </a:ln>
        </p:spPr>
      </p:pic>
      <p:pic>
        <p:nvPicPr>
          <p:cNvPr id="749" name="Grafik 5" descr=""/>
          <p:cNvPicPr/>
          <p:nvPr/>
        </p:nvPicPr>
        <p:blipFill>
          <a:blip r:embed="rId7"/>
          <a:stretch/>
        </p:blipFill>
        <p:spPr>
          <a:xfrm>
            <a:off x="512640" y="5726160"/>
            <a:ext cx="1849680" cy="601560"/>
          </a:xfrm>
          <a:prstGeom prst="rect">
            <a:avLst/>
          </a:prstGeom>
          <a:ln w="0">
            <a:noFill/>
          </a:ln>
        </p:spPr>
      </p:pic>
      <p:pic>
        <p:nvPicPr>
          <p:cNvPr id="750" name="Grafik 27" descr=""/>
          <p:cNvPicPr/>
          <p:nvPr/>
        </p:nvPicPr>
        <p:blipFill>
          <a:blip r:embed="rId8"/>
          <a:stretch/>
        </p:blipFill>
        <p:spPr>
          <a:xfrm>
            <a:off x="6829560" y="5732640"/>
            <a:ext cx="1117440" cy="871200"/>
          </a:xfrm>
          <a:prstGeom prst="rect">
            <a:avLst/>
          </a:prstGeom>
          <a:ln w="0">
            <a:noFill/>
          </a:ln>
        </p:spPr>
      </p:pic>
      <p:sp>
        <p:nvSpPr>
          <p:cNvPr id="751" name="Oval 24"/>
          <p:cNvSpPr/>
          <p:nvPr/>
        </p:nvSpPr>
        <p:spPr>
          <a:xfrm>
            <a:off x="7586640" y="2709720"/>
            <a:ext cx="182520" cy="1828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52" name="Picture 19" descr=""/>
          <p:cNvPicPr/>
          <p:nvPr/>
        </p:nvPicPr>
        <p:blipFill>
          <a:blip r:embed="rId9"/>
          <a:stretch/>
        </p:blipFill>
        <p:spPr>
          <a:xfrm>
            <a:off x="539640" y="2233440"/>
            <a:ext cx="2247840" cy="768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5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5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023 L 0.00278 0.22037 E">
                                      <p:cBhvr>
                                        <p:cTn id="36" dur="15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evt="end">
                                        <p:tn val="35"/>
                                      </p:cond>
                                    </p:stCondLst>
                                  </p:cTn>
                                  <p:tgtEl>
                                    <p:spTgt spid="7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3889 -1.11111E-006 E">
                                      <p:cBhvr>
                                        <p:cTn id="47" dur="1500" fill="hold"/>
                                        <p:tgtEl>
                                          <p:spTgt spid="7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1788 -0.18403 E">
                                      <p:cBhvr>
                                        <p:cTn id="49" dur="15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25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5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2786E-006 L -0.13664 0.00046 E">
                                      <p:cBhvr>
                                        <p:cTn id="62" dur="15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evt="end">
                                        <p:tn val="61"/>
                                      </p:cond>
                                    </p:stCondLst>
                                  </p:cTn>
                                  <p:tgtEl>
                                    <p:spTgt spid="7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5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2786E-006 L -0.13664 0.00046 E">
                                      <p:cBhvr>
                                        <p:cTn id="73" dur="1500" fill="hold"/>
                                        <p:tgtEl>
                                          <p:spTgt spid="7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evt="end">
                                        <p:tn val="72"/>
                                      </p:cond>
                                    </p:stCondLst>
                                  </p:cTn>
                                  <p:tgtEl>
                                    <p:spTgt spid="7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Picture 4" descr=""/>
          <p:cNvPicPr/>
          <p:nvPr/>
        </p:nvPicPr>
        <p:blipFill>
          <a:blip r:embed="rId2"/>
          <a:stretch/>
        </p:blipFill>
        <p:spPr>
          <a:xfrm>
            <a:off x="0" y="762120"/>
            <a:ext cx="2444760" cy="2286000"/>
          </a:xfrm>
          <a:prstGeom prst="rect">
            <a:avLst/>
          </a:prstGeom>
          <a:ln w="0">
            <a:noFill/>
          </a:ln>
        </p:spPr>
      </p:pic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899640" y="2670120"/>
            <a:ext cx="7543800" cy="120024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800" spc="-1" strike="noStrike">
                <a:solidFill>
                  <a:srgbClr val="262626"/>
                </a:solidFill>
                <a:latin typeface="Calibri"/>
              </a:rPr>
              <a:t>Viel Erfolg!</a:t>
            </a:r>
            <a:endParaRPr b="0" lang="en-US" sz="7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Box 1"/>
          <p:cNvSpPr/>
          <p:nvPr/>
        </p:nvSpPr>
        <p:spPr>
          <a:xfrm>
            <a:off x="609480" y="380880"/>
            <a:ext cx="81154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100" spc="-1" strike="noStrike">
                <a:solidFill>
                  <a:srgbClr val="474747"/>
                </a:solidFill>
                <a:latin typeface="Calibri"/>
              </a:rPr>
              <a:t>Informationen zum Wettbewerb „NMS-Quest“</a:t>
            </a:r>
            <a:endParaRPr b="0" lang="en-US" sz="31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8" name="Straight Connector 9"/>
          <p:cNvSpPr/>
          <p:nvPr/>
        </p:nvSpPr>
        <p:spPr>
          <a:xfrm>
            <a:off x="1905120" y="2936880"/>
            <a:ext cx="5257800" cy="1440"/>
          </a:xfrm>
          <a:prstGeom prst="line">
            <a:avLst/>
          </a:prstGeom>
          <a:ln w="47520">
            <a:solidFill>
              <a:srgbClr val="e4e4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9" name="TextBox 10"/>
          <p:cNvSpPr/>
          <p:nvPr/>
        </p:nvSpPr>
        <p:spPr>
          <a:xfrm>
            <a:off x="750960" y="5127480"/>
            <a:ext cx="7974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c5c5c"/>
                </a:solidFill>
                <a:latin typeface="Calibri"/>
              </a:rPr>
              <a:t>Spurensuche im Internet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0" name="Rectangle 11"/>
          <p:cNvSpPr/>
          <p:nvPr/>
        </p:nvSpPr>
        <p:spPr>
          <a:xfrm>
            <a:off x="8686800" y="528480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51" name="Group 25"/>
          <p:cNvGrpSpPr/>
          <p:nvPr/>
        </p:nvGrpSpPr>
        <p:grpSpPr>
          <a:xfrm>
            <a:off x="762120" y="1557360"/>
            <a:ext cx="2057400" cy="2708280"/>
            <a:chOff x="762120" y="1557360"/>
            <a:chExt cx="2057400" cy="2708280"/>
          </a:xfrm>
        </p:grpSpPr>
        <p:grpSp>
          <p:nvGrpSpPr>
            <p:cNvPr id="652" name="Oval 5"/>
            <p:cNvGrpSpPr/>
            <p:nvPr/>
          </p:nvGrpSpPr>
          <p:grpSpPr>
            <a:xfrm>
              <a:off x="1204200" y="2150640"/>
              <a:ext cx="1210680" cy="1656360"/>
              <a:chOff x="1204200" y="2150640"/>
              <a:chExt cx="1210680" cy="1656360"/>
            </a:xfrm>
          </p:grpSpPr>
          <p:pic>
            <p:nvPicPr>
              <p:cNvPr id="653" name="Oval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204200" y="2150640"/>
                <a:ext cx="1210680" cy="165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4" name=""/>
              <p:cNvSpPr/>
              <p:nvPr/>
            </p:nvSpPr>
            <p:spPr>
              <a:xfrm>
                <a:off x="1402920" y="233136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55" name="TextBox 13" descr=""/>
            <p:cNvPicPr/>
            <p:nvPr/>
          </p:nvPicPr>
          <p:blipFill>
            <a:blip r:embed="rId2"/>
            <a:stretch/>
          </p:blipFill>
          <p:spPr>
            <a:xfrm>
              <a:off x="762120" y="155736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6" name="Oval 18"/>
            <p:cNvGrpSpPr/>
            <p:nvPr/>
          </p:nvGrpSpPr>
          <p:grpSpPr>
            <a:xfrm>
              <a:off x="1367280" y="2165040"/>
              <a:ext cx="884160" cy="775440"/>
              <a:chOff x="1367280" y="2165040"/>
              <a:chExt cx="884160" cy="775440"/>
            </a:xfrm>
          </p:grpSpPr>
          <p:pic>
            <p:nvPicPr>
              <p:cNvPr id="657" name="Oval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1367280" y="216504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8" name=""/>
              <p:cNvSpPr/>
              <p:nvPr/>
            </p:nvSpPr>
            <p:spPr>
              <a:xfrm>
                <a:off x="1496160" y="227844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59" name="TextBox 12"/>
            <p:cNvSpPr/>
            <p:nvPr/>
          </p:nvSpPr>
          <p:spPr>
            <a:xfrm>
              <a:off x="1269360" y="2581920"/>
              <a:ext cx="1076760" cy="40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as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660" name="Group 22"/>
          <p:cNvGrpSpPr/>
          <p:nvPr/>
        </p:nvGrpSpPr>
        <p:grpSpPr>
          <a:xfrm>
            <a:off x="3602160" y="1592280"/>
            <a:ext cx="2057400" cy="2708280"/>
            <a:chOff x="3602160" y="1592280"/>
            <a:chExt cx="2057400" cy="2708280"/>
          </a:xfrm>
        </p:grpSpPr>
        <p:grpSp>
          <p:nvGrpSpPr>
            <p:cNvPr id="661" name="Oval 3"/>
            <p:cNvGrpSpPr/>
            <p:nvPr/>
          </p:nvGrpSpPr>
          <p:grpSpPr>
            <a:xfrm>
              <a:off x="4044240" y="2163600"/>
              <a:ext cx="1173240" cy="1641600"/>
              <a:chOff x="4044240" y="2163600"/>
              <a:chExt cx="1173240" cy="1641600"/>
            </a:xfrm>
          </p:grpSpPr>
          <p:pic>
            <p:nvPicPr>
              <p:cNvPr id="662" name="Oval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044240" y="2163600"/>
                <a:ext cx="1173240" cy="164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3" name=""/>
              <p:cNvSpPr/>
              <p:nvPr/>
            </p:nvSpPr>
            <p:spPr>
              <a:xfrm>
                <a:off x="4225320" y="234432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64" name="TextBox 14" descr=""/>
            <p:cNvPicPr/>
            <p:nvPr/>
          </p:nvPicPr>
          <p:blipFill>
            <a:blip r:embed="rId5"/>
            <a:stretch/>
          </p:blipFill>
          <p:spPr>
            <a:xfrm>
              <a:off x="3602160" y="159228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5" name="Oval 19"/>
            <p:cNvGrpSpPr/>
            <p:nvPr/>
          </p:nvGrpSpPr>
          <p:grpSpPr>
            <a:xfrm>
              <a:off x="4190400" y="2178360"/>
              <a:ext cx="884160" cy="775440"/>
              <a:chOff x="4190400" y="2178360"/>
              <a:chExt cx="884160" cy="775440"/>
            </a:xfrm>
          </p:grpSpPr>
          <p:pic>
            <p:nvPicPr>
              <p:cNvPr id="666" name="Oval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4190400" y="217836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>
                <a:off x="4318920" y="229212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68" name="TextBox 15"/>
            <p:cNvSpPr/>
            <p:nvPr/>
          </p:nvSpPr>
          <p:spPr>
            <a:xfrm>
              <a:off x="4089960" y="2616120"/>
              <a:ext cx="10767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er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669" name="Group 23"/>
          <p:cNvGrpSpPr/>
          <p:nvPr/>
        </p:nvGrpSpPr>
        <p:grpSpPr>
          <a:xfrm>
            <a:off x="6324480" y="1587600"/>
            <a:ext cx="2057400" cy="2708280"/>
            <a:chOff x="6324480" y="1587600"/>
            <a:chExt cx="2057400" cy="2708280"/>
          </a:xfrm>
        </p:grpSpPr>
        <p:grpSp>
          <p:nvGrpSpPr>
            <p:cNvPr id="670" name="Oval 4"/>
            <p:cNvGrpSpPr/>
            <p:nvPr/>
          </p:nvGrpSpPr>
          <p:grpSpPr>
            <a:xfrm>
              <a:off x="6746040" y="2166120"/>
              <a:ext cx="1207440" cy="1656360"/>
              <a:chOff x="6746040" y="2166120"/>
              <a:chExt cx="1207440" cy="1656360"/>
            </a:xfrm>
          </p:grpSpPr>
          <p:pic>
            <p:nvPicPr>
              <p:cNvPr id="671" name="Oval 4" descr=""/>
              <p:cNvPicPr/>
              <p:nvPr/>
            </p:nvPicPr>
            <p:blipFill>
              <a:blip r:embed="rId7"/>
              <a:stretch/>
            </p:blipFill>
            <p:spPr>
              <a:xfrm>
                <a:off x="6746040" y="2166120"/>
                <a:ext cx="1207440" cy="165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2" name=""/>
              <p:cNvSpPr/>
              <p:nvPr/>
            </p:nvSpPr>
            <p:spPr>
              <a:xfrm>
                <a:off x="6942960" y="234756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73" name="TextBox 16" descr=""/>
            <p:cNvPicPr/>
            <p:nvPr/>
          </p:nvPicPr>
          <p:blipFill>
            <a:blip r:embed="rId8"/>
            <a:stretch/>
          </p:blipFill>
          <p:spPr>
            <a:xfrm>
              <a:off x="6324480" y="158760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4" name="Oval 20"/>
            <p:cNvGrpSpPr/>
            <p:nvPr/>
          </p:nvGrpSpPr>
          <p:grpSpPr>
            <a:xfrm>
              <a:off x="6922800" y="2188080"/>
              <a:ext cx="884160" cy="775440"/>
              <a:chOff x="6922800" y="2188080"/>
              <a:chExt cx="884160" cy="775440"/>
            </a:xfrm>
          </p:grpSpPr>
          <p:pic>
            <p:nvPicPr>
              <p:cNvPr id="675" name="Oval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6922800" y="218808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6" name=""/>
              <p:cNvSpPr/>
              <p:nvPr/>
            </p:nvSpPr>
            <p:spPr>
              <a:xfrm>
                <a:off x="7051680" y="230256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77" name="TextBox 17"/>
            <p:cNvSpPr/>
            <p:nvPr/>
          </p:nvSpPr>
          <p:spPr>
            <a:xfrm>
              <a:off x="6823800" y="2598840"/>
              <a:ext cx="10767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ie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971800" y="1992240"/>
            <a:ext cx="5867280" cy="302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62626"/>
                </a:solidFill>
                <a:latin typeface="Calibri"/>
              </a:rPr>
              <a:t>SchülerInnen begeben sich mit dem Computer und dem Internet auf Spurensuche.</a:t>
            </a:r>
            <a:br>
              <a:rPr sz="2800"/>
            </a:br>
            <a:r>
              <a:rPr b="1" lang="de-DE" sz="2800" spc="-1" strike="noStrike">
                <a:solidFill>
                  <a:srgbClr val="262626"/>
                </a:solidFill>
                <a:latin typeface="Calibri"/>
              </a:rPr>
              <a:t>Sie erforschen gemeinsam ihre Schule und präsentieren die Ergebnisse auf der Lernplattform Moodle.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Vorgaben auf der Lernplattform Moodle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80" name="TextBox 5" descr=""/>
          <p:cNvPicPr/>
          <p:nvPr/>
        </p:nvPicPr>
        <p:blipFill>
          <a:blip r:embed="rId1"/>
          <a:stretch/>
        </p:blipFill>
        <p:spPr>
          <a:xfrm>
            <a:off x="-85680" y="950760"/>
            <a:ext cx="3687840" cy="4535640"/>
          </a:xfrm>
          <a:prstGeom prst="rect">
            <a:avLst/>
          </a:prstGeom>
          <a:ln w="0">
            <a:noFill/>
          </a:ln>
        </p:spPr>
      </p:pic>
      <p:sp>
        <p:nvSpPr>
          <p:cNvPr id="681" name="TextBox 12"/>
          <p:cNvSpPr/>
          <p:nvPr/>
        </p:nvSpPr>
        <p:spPr>
          <a:xfrm>
            <a:off x="824040" y="2666880"/>
            <a:ext cx="19303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as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82" name="Grafik 5" descr=""/>
          <p:cNvPicPr/>
          <p:nvPr/>
        </p:nvPicPr>
        <p:blipFill>
          <a:blip r:embed="rId2"/>
          <a:stretch/>
        </p:blipFill>
        <p:spPr>
          <a:xfrm rot="2223000">
            <a:off x="1098720" y="4437000"/>
            <a:ext cx="1904760" cy="1486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WebQuest-Methode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84" name="Group 3"/>
          <p:cNvGrpSpPr/>
          <p:nvPr/>
        </p:nvGrpSpPr>
        <p:grpSpPr>
          <a:xfrm>
            <a:off x="1511280" y="3405240"/>
            <a:ext cx="4978440" cy="2832120"/>
            <a:chOff x="1511280" y="3405240"/>
            <a:chExt cx="4978440" cy="2832120"/>
          </a:xfrm>
        </p:grpSpPr>
        <p:sp>
          <p:nvSpPr>
            <p:cNvPr id="685" name="Rectangle 14"/>
            <p:cNvSpPr/>
            <p:nvPr/>
          </p:nvSpPr>
          <p:spPr>
            <a:xfrm>
              <a:off x="1511280" y="3405240"/>
              <a:ext cx="4978440" cy="283212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86" name="TextBox 7"/>
            <p:cNvSpPr/>
            <p:nvPr/>
          </p:nvSpPr>
          <p:spPr>
            <a:xfrm>
              <a:off x="1628640" y="3477960"/>
              <a:ext cx="4696200" cy="26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Einleitung/Thema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blauf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ufgaben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Quellen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Bewertung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usblick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687" name="Grafik 5" descr=""/>
          <p:cNvPicPr/>
          <p:nvPr/>
        </p:nvPicPr>
        <p:blipFill>
          <a:blip r:embed="rId2"/>
          <a:stretch/>
        </p:blipFill>
        <p:spPr>
          <a:xfrm>
            <a:off x="6732720" y="4751280"/>
            <a:ext cx="1904760" cy="1486080"/>
          </a:xfrm>
          <a:prstGeom prst="rect">
            <a:avLst/>
          </a:prstGeom>
          <a:ln w="0">
            <a:noFill/>
          </a:ln>
        </p:spPr>
      </p:pic>
      <p:pic>
        <p:nvPicPr>
          <p:cNvPr id="688" name="Grafik 12" descr=""/>
          <p:cNvPicPr/>
          <p:nvPr/>
        </p:nvPicPr>
        <p:blipFill>
          <a:blip r:embed="rId3"/>
          <a:stretch/>
        </p:blipFill>
        <p:spPr>
          <a:xfrm>
            <a:off x="7526160" y="3492360"/>
            <a:ext cx="1231920" cy="960480"/>
          </a:xfrm>
          <a:prstGeom prst="rect">
            <a:avLst/>
          </a:prstGeom>
          <a:ln w="0">
            <a:noFill/>
          </a:ln>
        </p:spPr>
      </p:pic>
      <p:pic>
        <p:nvPicPr>
          <p:cNvPr id="689" name="Grafik 13" descr=""/>
          <p:cNvPicPr/>
          <p:nvPr/>
        </p:nvPicPr>
        <p:blipFill>
          <a:blip r:embed="rId4"/>
          <a:stretch/>
        </p:blipFill>
        <p:spPr>
          <a:xfrm>
            <a:off x="7161120" y="2470320"/>
            <a:ext cx="952560" cy="742680"/>
          </a:xfrm>
          <a:prstGeom prst="rect">
            <a:avLst/>
          </a:prstGeom>
          <a:ln w="0">
            <a:noFill/>
          </a:ln>
        </p:spPr>
      </p:pic>
      <p:sp>
        <p:nvSpPr>
          <p:cNvPr id="690" name="Rechteck 1"/>
          <p:cNvSpPr/>
          <p:nvPr/>
        </p:nvSpPr>
        <p:spPr>
          <a:xfrm>
            <a:off x="2200680" y="119700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alibri"/>
              </a:rPr>
              <a:t>NMS-Quest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91" name="Rechteck 2" descr=""/>
          <p:cNvPicPr/>
          <p:nvPr/>
        </p:nvPicPr>
        <p:blipFill>
          <a:blip r:embed="rId5"/>
          <a:stretch/>
        </p:blipFill>
        <p:spPr>
          <a:xfrm>
            <a:off x="1420920" y="1365120"/>
            <a:ext cx="4383000" cy="1365480"/>
          </a:xfrm>
          <a:prstGeom prst="rect">
            <a:avLst/>
          </a:prstGeom>
          <a:ln w="0">
            <a:noFill/>
          </a:ln>
        </p:spPr>
      </p:pic>
      <p:pic>
        <p:nvPicPr>
          <p:cNvPr id="692" name="Grafik 4" descr=""/>
          <p:cNvPicPr/>
          <p:nvPr/>
        </p:nvPicPr>
        <p:blipFill>
          <a:blip r:embed="rId6"/>
          <a:stretch/>
        </p:blipFill>
        <p:spPr>
          <a:xfrm>
            <a:off x="6489720" y="736560"/>
            <a:ext cx="1752480" cy="1658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Beispiel-Kurs auf Moodle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4" name="TextBox 2"/>
          <p:cNvSpPr/>
          <p:nvPr/>
        </p:nvSpPr>
        <p:spPr>
          <a:xfrm>
            <a:off x="1523880" y="685800"/>
            <a:ext cx="7391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7f7f7f"/>
                </a:solidFill>
                <a:latin typeface="Calibri"/>
              </a:rPr>
              <a:t>Beispi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 u="sng">
                <a:solidFill>
                  <a:srgbClr val="00b0f0"/>
                </a:solidFill>
                <a:uFillTx/>
                <a:latin typeface="Calibri"/>
                <a:hlinkClick r:id="rId2"/>
              </a:rPr>
              <a:t>WebQuest@Telfs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95" name="Group 3"/>
          <p:cNvGrpSpPr/>
          <p:nvPr/>
        </p:nvGrpSpPr>
        <p:grpSpPr>
          <a:xfrm>
            <a:off x="6270480" y="2565360"/>
            <a:ext cx="2644920" cy="3264120"/>
            <a:chOff x="6270480" y="2565360"/>
            <a:chExt cx="2644920" cy="3264120"/>
          </a:xfrm>
        </p:grpSpPr>
        <p:sp>
          <p:nvSpPr>
            <p:cNvPr id="696" name="Rectangle 14"/>
            <p:cNvSpPr/>
            <p:nvPr/>
          </p:nvSpPr>
          <p:spPr>
            <a:xfrm>
              <a:off x="6597360" y="2565360"/>
              <a:ext cx="2318040" cy="326412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97" name="TextBox 7"/>
            <p:cNvSpPr/>
            <p:nvPr/>
          </p:nvSpPr>
          <p:spPr>
            <a:xfrm>
              <a:off x="6672960" y="2652480"/>
              <a:ext cx="2166120" cy="30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595959"/>
                  </a:solidFill>
                  <a:latin typeface="Calibri"/>
                </a:rPr>
                <a:t>Siegerklasse 1F des Wettbewerbs WebQuest@Home 2011</a:t>
              </a:r>
              <a:endParaRPr b="0" lang="en-US" sz="20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98" name="Straight Connector 18"/>
            <p:cNvSpPr/>
            <p:nvPr/>
          </p:nvSpPr>
          <p:spPr>
            <a:xfrm>
              <a:off x="6270480" y="4961160"/>
              <a:ext cx="274680" cy="0"/>
            </a:xfrm>
            <a:prstGeom prst="line">
              <a:avLst/>
            </a:prstGeom>
            <a:ln cap="rnd" w="25560">
              <a:solidFill>
                <a:srgbClr val="a6a6a6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699" name="Picture 11" descr="siegerfoto_telfs_weissenbach_1"/>
          <p:cNvPicPr/>
          <p:nvPr/>
        </p:nvPicPr>
        <p:blipFill>
          <a:blip r:embed="rId3"/>
          <a:stretch/>
        </p:blipFill>
        <p:spPr>
          <a:xfrm>
            <a:off x="1531800" y="19890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Umsetzung/Präsentation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01" name="Grafik 13" descr=""/>
          <p:cNvPicPr/>
          <p:nvPr/>
        </p:nvPicPr>
        <p:blipFill>
          <a:blip r:embed="rId2"/>
          <a:stretch/>
        </p:blipFill>
        <p:spPr>
          <a:xfrm rot="20013000">
            <a:off x="7615080" y="860040"/>
            <a:ext cx="952560" cy="743040"/>
          </a:xfrm>
          <a:prstGeom prst="rect">
            <a:avLst/>
          </a:prstGeom>
          <a:ln w="0">
            <a:noFill/>
          </a:ln>
        </p:spPr>
      </p:pic>
      <p:sp>
        <p:nvSpPr>
          <p:cNvPr id="702" name="Rechteck 1"/>
          <p:cNvSpPr/>
          <p:nvPr/>
        </p:nvSpPr>
        <p:spPr>
          <a:xfrm>
            <a:off x="2200680" y="119700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alibri"/>
              </a:rPr>
              <a:t>NMS-Quest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3" name="Rechteck 4"/>
          <p:cNvSpPr/>
          <p:nvPr/>
        </p:nvSpPr>
        <p:spPr>
          <a:xfrm>
            <a:off x="1619280" y="2706840"/>
            <a:ext cx="69199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Präsentation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der Schule (Bilder und Texte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Diashow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über die Schule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Videoclip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Kurzfilm, max. 3 Minuten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Podcast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Jingle, Interview, Lied, Hörspiel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Text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Geschichte, Ereignis …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Fotostory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Bildgeschichte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Schul-Quiz 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(Quiz über eigene Schule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Zeichnung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Plakat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04" name="Rechteck 6" descr=""/>
          <p:cNvPicPr/>
          <p:nvPr/>
        </p:nvPicPr>
        <p:blipFill>
          <a:blip r:embed="rId3"/>
          <a:stretch/>
        </p:blipFill>
        <p:spPr>
          <a:xfrm>
            <a:off x="1274760" y="1365120"/>
            <a:ext cx="6637320" cy="1365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Oval 3"/>
          <p:cNvGrpSpPr/>
          <p:nvPr/>
        </p:nvGrpSpPr>
        <p:grpSpPr>
          <a:xfrm>
            <a:off x="738360" y="1944720"/>
            <a:ext cx="2108160" cy="2749680"/>
            <a:chOff x="738360" y="1944720"/>
            <a:chExt cx="2108160" cy="2749680"/>
          </a:xfrm>
        </p:grpSpPr>
        <p:pic>
          <p:nvPicPr>
            <p:cNvPr id="706" name="Oval 3" descr=""/>
            <p:cNvPicPr/>
            <p:nvPr/>
          </p:nvPicPr>
          <p:blipFill>
            <a:blip r:embed="rId2"/>
            <a:stretch/>
          </p:blipFill>
          <p:spPr>
            <a:xfrm>
              <a:off x="738360" y="1944720"/>
              <a:ext cx="210816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08" name="Oval 7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09" name="Oval 7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711" name="TextBox 16" descr=""/>
          <p:cNvPicPr/>
          <p:nvPr/>
        </p:nvPicPr>
        <p:blipFill>
          <a:blip r:embed="rId4"/>
          <a:stretch/>
        </p:blipFill>
        <p:spPr>
          <a:xfrm>
            <a:off x="-42840" y="927000"/>
            <a:ext cx="3687840" cy="4535640"/>
          </a:xfrm>
          <a:prstGeom prst="rect">
            <a:avLst/>
          </a:prstGeom>
          <a:ln w="0">
            <a:noFill/>
          </a:ln>
        </p:spPr>
      </p:pic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971800" y="1699920"/>
            <a:ext cx="5867280" cy="24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Klassen der </a:t>
            </a:r>
            <a:br>
              <a:rPr sz="4000"/>
            </a:b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Neuen Mittelschule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Voraussetzung: Moodle-Instanz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4" name="TextBox 15"/>
          <p:cNvSpPr/>
          <p:nvPr/>
        </p:nvSpPr>
        <p:spPr>
          <a:xfrm>
            <a:off x="833400" y="2630520"/>
            <a:ext cx="19321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er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5" name="Oval 2"/>
          <p:cNvGrpSpPr/>
          <p:nvPr/>
        </p:nvGrpSpPr>
        <p:grpSpPr>
          <a:xfrm>
            <a:off x="706320" y="1944720"/>
            <a:ext cx="2170080" cy="2773440"/>
            <a:chOff x="706320" y="1944720"/>
            <a:chExt cx="2170080" cy="2773440"/>
          </a:xfrm>
        </p:grpSpPr>
        <p:pic>
          <p:nvPicPr>
            <p:cNvPr id="716" name="Oval 2" descr=""/>
            <p:cNvPicPr/>
            <p:nvPr/>
          </p:nvPicPr>
          <p:blipFill>
            <a:blip r:embed="rId2"/>
            <a:stretch/>
          </p:blipFill>
          <p:spPr>
            <a:xfrm>
              <a:off x="706320" y="1944720"/>
              <a:ext cx="2170080" cy="27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18" name="Oval 5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19" name="Oval 5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721" name="TextBox 12" descr=""/>
          <p:cNvPicPr/>
          <p:nvPr/>
        </p:nvPicPr>
        <p:blipFill>
          <a:blip r:embed="rId4"/>
          <a:stretch/>
        </p:blipFill>
        <p:spPr>
          <a:xfrm>
            <a:off x="-49320" y="987480"/>
            <a:ext cx="3687840" cy="4535280"/>
          </a:xfrm>
          <a:prstGeom prst="rect">
            <a:avLst/>
          </a:prstGeom>
          <a:ln w="0">
            <a:noFill/>
          </a:ln>
        </p:spPr>
      </p:pic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971800" y="1991880"/>
            <a:ext cx="5867280" cy="19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Online-Anmeldung</a:t>
            </a:r>
            <a:br>
              <a:rPr sz="4000"/>
            </a:br>
            <a:r>
              <a:rPr b="0" lang="de-DE" sz="4000" spc="-1" strike="noStrike">
                <a:solidFill>
                  <a:srgbClr val="7f7f7f"/>
                </a:solidFill>
                <a:latin typeface="Calibri"/>
              </a:rPr>
              <a:t>Homepage der NMS</a:t>
            </a:r>
            <a:br>
              <a:rPr sz="4000"/>
            </a:br>
            <a:r>
              <a:rPr b="1" lang="de-DE" sz="3600" spc="-1" strike="noStrike" u="sng">
                <a:solidFill>
                  <a:srgbClr val="00b0f0"/>
                </a:solidFill>
                <a:uFillTx/>
                <a:latin typeface="Calibri"/>
                <a:hlinkClick r:id="rId5"/>
              </a:rPr>
              <a:t>www.nms.tsn.at/wettbewerb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Informationen und Anmeldung auf der NMS-Homepage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4" name="TextBox 17"/>
          <p:cNvSpPr/>
          <p:nvPr/>
        </p:nvSpPr>
        <p:spPr>
          <a:xfrm>
            <a:off x="825480" y="2635200"/>
            <a:ext cx="19303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ie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hteck 5"/>
          <p:cNvSpPr/>
          <p:nvPr/>
        </p:nvSpPr>
        <p:spPr>
          <a:xfrm>
            <a:off x="5435640" y="1562040"/>
            <a:ext cx="3097080" cy="3595680"/>
          </a:xfrm>
          <a:prstGeom prst="rect">
            <a:avLst/>
          </a:prstGeom>
          <a:solidFill>
            <a:srgbClr val="f4891e"/>
          </a:solidFill>
          <a:ln w="25560">
            <a:solidFill>
              <a:srgbClr val="b36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726" name="Oval 1"/>
          <p:cNvGrpSpPr/>
          <p:nvPr/>
        </p:nvGrpSpPr>
        <p:grpSpPr>
          <a:xfrm>
            <a:off x="738360" y="1944720"/>
            <a:ext cx="2108160" cy="2749680"/>
            <a:chOff x="738360" y="1944720"/>
            <a:chExt cx="2108160" cy="2749680"/>
          </a:xfrm>
        </p:grpSpPr>
        <p:pic>
          <p:nvPicPr>
            <p:cNvPr id="727" name="Oval 1" descr=""/>
            <p:cNvPicPr/>
            <p:nvPr/>
          </p:nvPicPr>
          <p:blipFill>
            <a:blip r:embed="rId2"/>
            <a:stretch/>
          </p:blipFill>
          <p:spPr>
            <a:xfrm>
              <a:off x="738360" y="1944720"/>
              <a:ext cx="210816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29" name="Oval 2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30" name="Oval 2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732" name="TextBox 3"/>
          <p:cNvSpPr/>
          <p:nvPr/>
        </p:nvSpPr>
        <p:spPr>
          <a:xfrm>
            <a:off x="1217520" y="175572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0" spc="-1" strike="noStrike">
                <a:solidFill>
                  <a:srgbClr val="a6a6a6"/>
                </a:solidFill>
                <a:latin typeface="Georgia"/>
              </a:rPr>
              <a:t>?</a:t>
            </a:r>
            <a:endParaRPr b="0" lang="en-US" sz="15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971800" y="1991880"/>
            <a:ext cx="5867280" cy="287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262626"/>
                </a:solidFill>
                <a:latin typeface="Calibri"/>
              </a:rPr>
              <a:t>Preise…</a:t>
            </a: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Tablet-PC</a:t>
            </a:r>
            <a:br>
              <a:rPr sz="3600"/>
            </a:br>
            <a:r>
              <a:rPr b="0" lang="de-AT" sz="3600" spc="-1" strike="noStrike">
                <a:solidFill>
                  <a:srgbClr val="7f7f7f"/>
                </a:solidFill>
                <a:latin typeface="Calibri"/>
              </a:rPr>
              <a:t>Kameras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USB-Sticks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…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Das gibt es zu gewinnen!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5" name="Textfeld 4"/>
          <p:cNvSpPr/>
          <p:nvPr/>
        </p:nvSpPr>
        <p:spPr>
          <a:xfrm>
            <a:off x="5580000" y="1557360"/>
            <a:ext cx="3024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Start: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1. März 2012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Ende: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6. Mai 2012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Preisverleihung: </a:t>
            </a: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22. Mai 2012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(NMS eLearning Symposium)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8:08:59Z</dcterms:created>
  <dc:creator/>
  <dc:description/>
  <dc:language>en-US</dc:language>
  <cp:lastModifiedBy/>
  <dcterms:modified xsi:type="dcterms:W3CDTF">2012-01-22T19:25:18Z</dcterms:modified>
  <cp:revision>1</cp:revision>
  <dc:subject/>
  <dc:title/>
</cp:coreProperties>
</file>