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47.png" ContentType="image/png"/>
  <Override PartName="/ppt/media/image2.jpeg" ContentType="image/jpeg"/>
  <Override PartName="/ppt/media/image3.jpeg" ContentType="image/jpeg"/>
  <Override PartName="/ppt/media/image30.jpeg" ContentType="image/jpeg"/>
  <Override PartName="/ppt/media/image31.png" ContentType="image/png"/>
  <Override PartName="/ppt/media/image45.jpeg" ContentType="image/jpeg"/>
  <Override PartName="/ppt/media/image32.png" ContentType="image/png"/>
  <Override PartName="/ppt/media/image33.png" ContentType="image/png"/>
  <Override PartName="/ppt/media/image41.jpeg" ContentType="image/jpeg"/>
  <Override PartName="/ppt/media/image14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46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48.png" ContentType="image/png"/>
  <Override PartName="/ppt/media/image12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4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4C78-B97B-4720-9932-69774B756A5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7EC8-1B4E-42AE-B9B0-3B3D7927C7F4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094C-414C-4D7C-8F1C-CE8F8BDE766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37FF-62B3-4041-B8BC-EEE19B27743C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D12A-5F6B-4917-BBAF-DF1071A9D227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0098-C983-4B63-AB81-458445E5B63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AB29-1D57-4289-8BA1-F3AC9144314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4B5A-1A6E-4297-9F6A-7E02A553A4E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7344-D825-4BCF-B10E-E839721F647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B6A3-16ED-4F64-AF40-A95B10896D7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1BDE-E359-4D85-999F-97A8549966B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E4E6-283F-4C1D-9167-1D7D7E96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45BA-130F-451F-8473-7B806769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2AA6B5-603E-4D78-B94E-77745D2A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EDA881-5668-42C8-A3D7-881D4F8C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413488-C629-45F0-B465-6CEE8652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21B1E8-E13A-469E-A8BC-8E733822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8E9E8E-1F8E-4892-B1DA-82F31FCD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70958B-85A8-46E0-BD97-49B55E76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AD28E2-3278-45A9-9F6A-96D9C317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A2E895-0B13-47B1-8B5A-23516430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8A22E9-A5B3-4C1E-9F94-29B95740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06B08A-89AD-4F40-A74A-15EEF623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F9E-4EB2-4388-891E-D98B8846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800628-36E8-41E2-8544-390CF605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EFE4D8-BE5B-4584-A7E3-02C0BD3E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E7280C-9C7B-40C7-AB0F-86ABBFD7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D8740A-E358-49B1-8AF7-DDCB2873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E423F0-FF75-4842-8DA5-10C3B9E3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B769E2-9574-4CDD-9B55-E9A68A3A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F05772-6AA9-49D2-B865-87F62BC6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BDA3AF-6943-431F-A7FF-7B584585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E826B9-137A-4E39-924A-220CBC73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E080C0-9DD4-458D-878F-CA68CE59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213-0899-4665-A3B9-B71CAAF5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486054-FBA2-429F-AD85-84E960F3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6D942F-1585-49F8-8B35-1CAC6287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58164D-408F-4FC4-BC3B-0A6A08F0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D01C30-1670-429D-A708-4F5563AF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D793D5-03C3-4836-9DCA-1B6E8864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87287F-EB2F-48AE-8061-DB92E7B4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C654D9-B7B7-4086-BB5A-4EE6F5C9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A851A9-4551-4053-BAC8-B45B934A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7533AC-2B16-4F36-8115-EE490774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4528C5-9F12-454E-99BD-E2002C65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9FD7-772D-4890-848D-8DE9AD22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E6EF73-EFB8-4E09-9C7F-5D4F6D23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037AB9-EC0D-4313-B1EB-A2B65998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EEBFF2-272B-455E-BA30-CFE84BC9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B767C9-0503-4B40-AD56-6D3B6271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550237-3125-4F56-8213-E225D72F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77A4E0-FC40-4265-89B0-036ECA93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95E406-0207-4DEE-A1B9-72BEFB46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7F6255-756C-4B38-9D42-C89227AD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BE1626-15E7-4434-B42E-15ACE81F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698049-A1EA-48F9-A9EB-68E7DB11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071A-5105-4999-A8EB-23F67563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1AB49F-4220-417C-AD40-6A3A6172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489CBB-369D-4772-85A6-32337D19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46FB81-30F9-452A-A2EE-073C546E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7E48CC-852B-414B-B8BE-6FBA8B14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723E6A-DF6C-4201-9C80-3611B000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562C93-716A-4EFD-B921-3FFAE9D0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F5CEF6-D2F2-49F9-AA9B-8C277D45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6650CD-804A-4086-9033-D60A4917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C12710-8B41-49A4-A692-707DFECC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07A58A-B9C9-4EDC-BEB2-5EBC68B2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4EB4-C983-4179-A615-3108FC90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6B8DED-BA4C-4260-A794-590B6E53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9A9D48-BEB1-47E1-ABFF-06273CBB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D66663-5DA7-4D93-BFB7-0AE5BC0A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EA137D-996B-4F1E-8A39-110901BB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741A23-1B1F-4545-81B9-F4B17DEF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6A0F04-D9C6-4D44-8129-8FBFB295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BB9653-E973-45D1-8F21-67114428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A1153F-24D1-49D9-B531-F007484E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2F0AD9-4CB3-4676-A2F5-5FDDE5EE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AE049A-D813-4985-8940-8360CAD4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D9CF-7B7B-4CD0-B917-FC4BBC5C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29A3B73-BC8F-4506-B92E-EC05A6AF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B0A494-1215-46AD-8D6C-D92EAE82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3D4998-E727-4833-92B6-027F3BC1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646F06-7633-4E84-BA87-884232AB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F57D72-5404-4B68-9375-6456D2DC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FA6108-9F21-4D78-B9FD-0FE0E6FA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495E11-60E9-47A8-AA1F-839F7BDC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C196D7-26B7-4302-8373-62669548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A6FF90-673E-4517-BBCA-160F9DC1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950C5D-4286-424B-A665-E8F50E42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45C9-C1DB-420A-988B-699AC5EE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CE9451-001E-41D4-B4A4-82A0522C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47077E8-775E-4ADD-BBEC-5215C159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E35316-D50C-4548-B28A-7A71F45C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CA57AC-C13E-4EE4-958E-A5A769E4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15C098-ED37-4BBE-A41F-9669E735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9F2D83-B79C-4AD1-819C-25AA915B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B3C14B-0D81-472F-BEAE-77859B20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D0276F-62A6-4D9D-9B7F-B070FE68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401ABF2-B274-49EB-9026-02E39526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5532FA-78E5-48BF-BCCE-4A31B484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4220-E6FB-4468-83AB-0DEC294F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3706CC-C191-4BEF-A544-B39133B0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5491-A90E-4D84-B24A-E50EA0F0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45F8-DBFB-4BFB-B32B-930CDEDD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546B-E922-4298-84D4-D529C06E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23F2-9919-4511-BF4D-D881F7BE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395B-7AB0-4BE2-A552-2AC9BA14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36E5-D935-411A-8C0A-22048C16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A381-0D3A-4E30-873A-DB9D7D8D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87725-696E-4105-8038-EEF445889E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3DA1C-5FA9-468F-929A-3C80818055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DA0854-546C-4861-99F8-E85864BEA1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15056-E523-4970-89C1-ABD1B3207D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A8E18-FC6E-4172-8CF2-3C053D20FB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DC7-C818-4787-B30E-58E5E0BB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CE5FA0-AEC1-46AC-90FA-D4BD387C0E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ECA21-D8E6-4858-A0E7-FC217BA7D1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CBF3E-5018-4F0E-BDA9-A424EBD286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3F44E-1447-4FEC-83BC-7DA0A4E900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160D6-90A2-4AB3-8CCA-E391055BED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FF6F8-4B4D-4C3F-9FC4-ECC6D8E519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E7E49-670F-4D27-AA1F-1E4B8651C07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CFECE4-496C-47B9-8587-AE957A02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824D4E-685C-4AE2-ABB7-105C7C94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311245-B66C-4E7D-862A-29B71992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B45-DE8D-4D3E-A74C-19FF37EA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18D5FC-3042-4FEF-9F28-F83FB37B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817DEA-54EF-47DA-A334-5146B38D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0AB268-9F91-4057-B0FA-85DDE1AA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A4A6A1-89AF-417F-9EA1-8E88DDEC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A3B0D1-D2B2-4955-A39B-306E5FB2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502E98-61AC-4BCD-ACEB-6560E20B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04FD74-516E-4A2C-9223-93C81FC3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B93B50-DCA5-4018-B60B-14D5C7B4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717B16-1A55-421E-9D3D-8D953908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EE379A-192D-409A-AF01-0146EED6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3237-7170-4A63-8898-2BC1486F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3434A1-C0F5-4015-ABFC-0654E750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9A0306-950D-46DD-9192-732A42BF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C5CCDD-FEC0-4003-A37D-1E4C66B6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55E439-511F-456C-AD04-4DF3562D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10BEA1-BB66-4541-9B21-6DF56E34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87D4A9-8CF7-463E-A745-64C205CB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6C8D2-60D6-4009-9220-CCECB615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973E8-4D0F-4224-8028-887075DF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E80AB3-72AE-46B5-8D5B-FD80C48A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247357-1CD4-45E2-BDF9-6E6C36D9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0329-5681-41A5-BFD6-ECE8E1DE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3153D2-E553-43D6-83DF-2149156E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179E1F-0D19-4485-A56D-FEF98E63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4D3E97-B01E-428F-B77E-4C7638A7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D52B7C-E45A-4F60-8AD7-7305825F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1FDC5B-410E-4D6A-9CC6-C70E146D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D8EC3E-5B67-45E7-BC42-F541C26F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180761-6583-49EC-B854-C9D88DFC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ABD9C-E194-478B-BFDC-034D9D84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05E806-154E-48C2-B8DC-E490AB17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85B9F3-E56E-4107-A69C-18183568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A6B5-912A-4C22-8E02-FD97A951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6B8153-5E15-455B-BC39-E9C056F9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27A6BB-D2C3-4BF9-84D8-00F83FDF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AA9282-9E61-4202-98A3-BC685362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F0F087-358C-4D53-94A9-EFBEA319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98F7C2-5A97-49EC-BF9D-016C5AAB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750797-6087-477A-8E41-8E4007B6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635271-8C49-4260-A646-312B223A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D7B153-02CA-441F-BBAF-3905923C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A4DCFC-0E55-47F7-B6C9-2E566D42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518FFD-F48C-4630-96F5-8B944C03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ECF-5BAE-4679-AF83-68DF0F06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E77A5D-C533-45D1-AF15-4FB7709C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228F6-5D2A-48C9-83E1-F80616A3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0DA8B1-5FBE-4B65-9C45-0E67F0CD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D464A9-C61E-44F3-B24D-B2B8004F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475967-8D8F-44A3-BD68-16BC92AA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C01280-6829-4A0D-9918-6B48B4DE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30C0AC-2600-4956-82DA-30E64999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46EEA2-172A-42BF-904A-0311C30D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C6F357-4C73-48A3-A473-5324635A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2740DB-7CC3-4CCA-A925-8B5A00F8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10D-A644-4A24-89C1-31EAB3A5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37BA3F-DDA8-4AF8-B18B-E42CC5FD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CAFCA8-9DF7-40BE-A056-F48FD755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47EF50-7A24-492F-8A12-2F387356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8E97B5-E56D-41F0-BD7A-871ACD62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1360D4-6014-4C86-8E64-F4181488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FE2A52-9787-4A48-992B-A5BA0EFF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78DFB3-DB78-41D9-8539-A990CA4B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F7B853-CE4F-46B5-AC1C-F5078EDF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063831-893A-4444-A0A0-9B1C78C5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B00C81-76A1-474C-9256-3CD304F3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1A9F-1863-435D-B4C5-B5FCE62969CA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A676-CB2E-4C73-86E8-52EC27AB4184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019B-23EF-491F-BDEA-91DCBDCDE471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2DBE-F0E7-4A27-A5E5-DF70464C850E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3548-EEF9-4D5A-8586-4D2BB4CF3401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6C7A-3C22-4751-93A7-90B24051C10D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9520-77D3-4916-9D7D-7C99B3F18CA1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FB3C-CFD7-4DDF-A60C-6D7F8F94845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74EA-FEBD-46BF-9655-1DBD5A8A3E6F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5495-CD5E-41D6-B96E-2035FEB76E36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300C-F50E-4E3F-B1AA-EEACDF03C9A4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B992-E919-4000-A7A6-1208054A93F4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D41C-42CF-413B-A05C-6C9654141922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C65C-811F-44E9-A6EC-B33A9D2E43D4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5A6C-A860-47A9-8B35-CDD08543AB5B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2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3991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5.png"/><Relationship Id="rId3" Type="http://schemas.openxmlformats.org/officeDocument/2006/relationships/image" Target="../media/image9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hyperlink" Target="http://www.nms.tsn.at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WebQuest@Home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1896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DANKE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74747"/>
                </a:solidFill>
                <a:latin typeface="Calibri"/>
              </a:rPr>
              <a:t>Informationen zum Wettbewerb „WebQuest@Home“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Abenteuerliche 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n Schulort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4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5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Hinweise für Lehrperson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6" name="Grafik 4" descr=""/>
          <p:cNvPicPr/>
          <p:nvPr/>
        </p:nvPicPr>
        <p:blipFill>
          <a:blip r:embed="rId2"/>
          <a:stretch/>
        </p:blipFill>
        <p:spPr>
          <a:xfrm>
            <a:off x="1511280" y="622440"/>
            <a:ext cx="5021280" cy="2590560"/>
          </a:xfrm>
          <a:prstGeom prst="rect">
            <a:avLst/>
          </a:prstGeom>
          <a:ln w="0">
            <a:noFill/>
          </a:ln>
        </p:spPr>
      </p:pic>
      <p:pic>
        <p:nvPicPr>
          <p:cNvPr id="687" name="Grafik 5" descr=""/>
          <p:cNvPicPr/>
          <p:nvPr/>
        </p:nvPicPr>
        <p:blipFill>
          <a:blip r:embed="rId3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4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5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1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Eben a. A.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2" name="Group 3"/>
          <p:cNvGrpSpPr/>
          <p:nvPr/>
        </p:nvGrpSpPr>
        <p:grpSpPr>
          <a:xfrm>
            <a:off x="6270480" y="2565360"/>
            <a:ext cx="2644920" cy="3406680"/>
            <a:chOff x="6270480" y="2565360"/>
            <a:chExt cx="2644920" cy="3406680"/>
          </a:xfrm>
        </p:grpSpPr>
        <p:sp>
          <p:nvSpPr>
            <p:cNvPr id="693" name="Rectangle 14"/>
            <p:cNvSpPr/>
            <p:nvPr/>
          </p:nvSpPr>
          <p:spPr>
            <a:xfrm>
              <a:off x="6597360" y="2565360"/>
              <a:ext cx="2318040" cy="340668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4" name="TextBox 7"/>
            <p:cNvSpPr/>
            <p:nvPr/>
          </p:nvSpPr>
          <p:spPr>
            <a:xfrm>
              <a:off x="6672960" y="2656440"/>
              <a:ext cx="2166120" cy="31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595959"/>
                  </a:solidFill>
                  <a:latin typeface="Calibri"/>
                </a:rPr>
                <a:t>Fertig ausgearbeiteter WebQuest - zu finden auf der Plattform TSN-Moodle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5" name="Straight Connector 18"/>
            <p:cNvSpPr/>
            <p:nvPr/>
          </p:nvSpPr>
          <p:spPr>
            <a:xfrm>
              <a:off x="6270480" y="50655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6" name="Grafik 9" descr=""/>
          <p:cNvPicPr/>
          <p:nvPr/>
        </p:nvPicPr>
        <p:blipFill>
          <a:blip r:embed="rId3"/>
          <a:stretch/>
        </p:blipFill>
        <p:spPr>
          <a:xfrm>
            <a:off x="1552680" y="2565360"/>
            <a:ext cx="4543200" cy="340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698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0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1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03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Sekundarstufe I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Neue Mittelschulen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Tiroler Hauptschulen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Schulinstanz auf TSN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6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08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0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1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3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hteck 5"/>
          <p:cNvSpPr/>
          <p:nvPr/>
        </p:nvSpPr>
        <p:spPr>
          <a:xfrm>
            <a:off x="5435640" y="1700280"/>
            <a:ext cx="3097080" cy="33130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18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19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1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22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24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iPad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Headset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Gutscheine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7" name="Textfeld 4"/>
          <p:cNvSpPr/>
          <p:nvPr/>
        </p:nvSpPr>
        <p:spPr>
          <a:xfrm>
            <a:off x="5580000" y="1755720"/>
            <a:ext cx="302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3. Mai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Dialogtag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Box 4"/>
          <p:cNvSpPr/>
          <p:nvPr/>
        </p:nvSpPr>
        <p:spPr>
          <a:xfrm>
            <a:off x="399960" y="1542960"/>
            <a:ext cx="4648320" cy="23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29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32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6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7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8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9" name="Grafik 2" descr=""/>
          <p:cNvPicPr/>
          <p:nvPr/>
        </p:nvPicPr>
        <p:blipFill>
          <a:blip r:embed="rId5"/>
          <a:stretch/>
        </p:blipFill>
        <p:spPr>
          <a:xfrm>
            <a:off x="539640" y="4267080"/>
            <a:ext cx="2303640" cy="1106640"/>
          </a:xfrm>
          <a:prstGeom prst="rect">
            <a:avLst/>
          </a:prstGeom>
          <a:ln w="0">
            <a:noFill/>
          </a:ln>
        </p:spPr>
      </p:pic>
      <p:pic>
        <p:nvPicPr>
          <p:cNvPr id="740" name="Grafik 3" descr=""/>
          <p:cNvPicPr/>
          <p:nvPr/>
        </p:nvPicPr>
        <p:blipFill>
          <a:blip r:embed="rId6"/>
          <a:stretch/>
        </p:blipFill>
        <p:spPr>
          <a:xfrm>
            <a:off x="539640" y="5608800"/>
            <a:ext cx="4368960" cy="699840"/>
          </a:xfrm>
          <a:prstGeom prst="rect">
            <a:avLst/>
          </a:prstGeom>
          <a:ln w="0">
            <a:noFill/>
          </a:ln>
        </p:spPr>
      </p:pic>
      <p:pic>
        <p:nvPicPr>
          <p:cNvPr id="741" name="Grafik 5" descr=""/>
          <p:cNvPicPr/>
          <p:nvPr/>
        </p:nvPicPr>
        <p:blipFill>
          <a:blip r:embed="rId7"/>
          <a:stretch/>
        </p:blipFill>
        <p:spPr>
          <a:xfrm>
            <a:off x="3059280" y="4772160"/>
            <a:ext cx="1849320" cy="601560"/>
          </a:xfrm>
          <a:prstGeom prst="rect">
            <a:avLst/>
          </a:prstGeom>
          <a:ln w="0">
            <a:noFill/>
          </a:ln>
        </p:spPr>
      </p:pic>
      <p:pic>
        <p:nvPicPr>
          <p:cNvPr id="742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pic>
        <p:nvPicPr>
          <p:cNvPr id="743" name="Grafik 28" descr=""/>
          <p:cNvPicPr/>
          <p:nvPr/>
        </p:nvPicPr>
        <p:blipFill>
          <a:blip r:embed="rId9"/>
          <a:stretch/>
        </p:blipFill>
        <p:spPr>
          <a:xfrm>
            <a:off x="5724360" y="3284640"/>
            <a:ext cx="1768680" cy="912600"/>
          </a:xfrm>
          <a:prstGeom prst="rect">
            <a:avLst/>
          </a:prstGeom>
          <a:ln w="0">
            <a:noFill/>
          </a:ln>
        </p:spPr>
      </p:pic>
      <p:sp>
        <p:nvSpPr>
          <p:cNvPr id="744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1-02-26T14:07:56Z</dcterms:modified>
  <cp:revision>1</cp:revision>
  <dc:subject/>
  <dc:title/>
</cp:coreProperties>
</file>